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iversidad o centro de enseñanza donde se imparte el ciclo corto de formación profesional de grado superi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D801FC-319C-4B30-AE3A-2F7BA9C6B3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1EB-E9E4-43B0-980C-9B6E43DA9C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D962-4D9A-4570-A037-46BD1667F3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DE04-A3EC-4A11-8C7D-2AE8ABFB82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6493-343D-45B7-98D6-7BA83BACAA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A015-C416-4E95-BB78-6FB1820238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99C-62F2-4797-8527-EBE6D968B4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Procedimiento de la Comis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gestionarán con arreglo al «procedimiento de la Comisión» las siguientes acciones, respecto de las cuales 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puestas de proyectos se presentan a la Comisión para que esta adopte las decisiones de selecci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) proyectos unilaterales y nacionales, según el artículo 5, apartado 1, letra d), salvo los financiados 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reglo al artículo 33, apartado 4, letra a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) proyectos y redes multilaterales, según el artículo 5, apartado 1, letra e); observación y análisis de políticas y sistemas en el ámbito del aprendizaje permanente, elaboración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aterial de referencia, incluidos encuestas, estadísticas, análisis e indicadores, y medidas para apoyar 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parencia y el reconocimiento de las cualificaciones y de los estudios previos, según el artículo 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artado 1, letra f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) subvenciones de funcionamiento, según el artículo 5, apartado 1, letra g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) otras iniciativas destinadas a promover los objetivos del programa de aprendizaje permanente, según 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tículo 5, apartado 1, letra h) («las medidas de acompañamiento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99BE-0B18-4056-AAF6-5AEEBF4FF0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2B66-2BEA-4EA5-B4E7-A3C0FCFB90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BF38-C33C-4C10-9EE5-582008D1BF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EDE-E3D6-4783-B599-1AB6C1956C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APEE"/>
          <p:cNvPicPr/>
          <p:nvPr/>
        </p:nvPicPr>
        <p:blipFill>
          <a:blip r:embed="rId2"/>
          <a:stretch/>
        </p:blipFill>
        <p:spPr>
          <a:xfrm>
            <a:off x="5651640" y="6308640"/>
            <a:ext cx="1218960" cy="2620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 rot="10800000">
            <a:off x="1217520" y="1797840"/>
            <a:ext cx="7315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116000" y="6165720"/>
            <a:ext cx="1800360" cy="489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rganismo Autónomo Programas Educativos Europe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IÓN ERASM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524720" y="6237360"/>
            <a:ext cx="1305000" cy="371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3635280" y="5842080"/>
            <a:ext cx="1008000" cy="892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2 Subtítulo"/>
          <p:cNvSpPr/>
          <p:nvPr/>
        </p:nvSpPr>
        <p:spPr>
          <a:xfrm>
            <a:off x="971640" y="1413000"/>
            <a:ext cx="784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CONFERENCIA NACI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TEMÁTICA 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FERIA DE VALORIZACIÓ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DEL PROGR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DE APRENDIZAJE PERMAN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2 Subtítulo"/>
          <p:cNvSpPr/>
          <p:nvPr/>
        </p:nvSpPr>
        <p:spPr>
          <a:xfrm>
            <a:off x="4211640" y="5157720"/>
            <a:ext cx="42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drid, 12 diciembre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46928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OVI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ECESIDADES ESPECIALES (DISCAPACIDAD GRAV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16000" y="2060640"/>
          <a:ext cx="7703640" cy="3456000"/>
        </p:xfrm>
        <a:graphic>
          <a:graphicData uri="http://schemas.openxmlformats.org/drawingml/2006/table">
            <a:tbl>
              <a:tblPr/>
              <a:tblGrid>
                <a:gridCol w="6191640"/>
                <a:gridCol w="1512000"/>
              </a:tblGrid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uración de la es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Un se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os sem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8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Grado de discapacidad que figura en el certificado médico of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el 40 al 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el 50 al 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7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Más del 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1.5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Necesidades específ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motora (silla de rue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1.0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motora mi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6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vis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6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audi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Organización de IP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áximo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.50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Gastos de viaj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áximo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75%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de los gastos re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Costes de alojamiento, manutención, seguro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, etc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 día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 semana (7 días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84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ía adicional (2ª semana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48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emana adicional (3ª-6ª semana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34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00"/>
                </a:solidFill>
                <a:uFillTx/>
                <a:latin typeface="Verdana"/>
              </a:rPr>
              <a:t>Los días no lectivos</a:t>
            </a: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 no se computarán dentro del requisito mínimo de 10 días de trabajo relacionados con el IP. Sin embargo, </a:t>
            </a:r>
            <a:r>
              <a:rPr b="0" lang="en-US" sz="1200" spc="-1" strike="noStrike" u="sng">
                <a:solidFill>
                  <a:srgbClr val="006600"/>
                </a:solidFill>
                <a:uFillTx/>
                <a:latin typeface="Verdana"/>
              </a:rPr>
              <a:t>se computarán para el cálculo de gastos de manutención</a:t>
            </a: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Estudian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0 días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49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042920" y="26028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PROGRAMAS INTENSIVOS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uantía máxima para la organización de los curs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6.020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€/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54936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ORGANIZACIÓN DE CURSOS EIL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El nuevo reglamento financiero de la UE  modifica el importe de las subvenciones que requieran analizar la capacidad financiera para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importes iguales o superiores a 60.000 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116000" y="54936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Verdana"/>
              </a:rPr>
              <a:t>CAPACIDAD FINANC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Título"/>
          <p:cNvSpPr/>
          <p:nvPr/>
        </p:nvSpPr>
        <p:spPr>
          <a:xfrm>
            <a:off x="1116000" y="112536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2 Subtítulo"/>
          <p:cNvSpPr/>
          <p:nvPr/>
        </p:nvSpPr>
        <p:spPr>
          <a:xfrm>
            <a:off x="1042920" y="2852640"/>
            <a:ext cx="748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ORGANISMO AUTONO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PROGRAMAS EDUC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EUROPEOS (OAPE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erdana"/>
              </a:rPr>
              <a:t>DIVISIÓN ERASM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Gustavo Fernández Balbuena 13 – 28002 MADR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Tlf: 91 550 67 34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www.oapee.es / erasmus@oapee.e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Subtítulo"/>
          <p:cNvSpPr/>
          <p:nvPr/>
        </p:nvSpPr>
        <p:spPr>
          <a:xfrm>
            <a:off x="1042920" y="2492280"/>
            <a:ext cx="7850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NOVEDAD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ONVOCATORIA 20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04292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PUBLICACIÓN CONVOCATO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EUROPEA DE PROPUESTAS  PAP 20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341360"/>
            <a:ext cx="7274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Convocatoria Europea de propuestas PAP 2013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Verdana"/>
              </a:rPr>
              <a:t>http://ec.europa.eu/education/llp/doc848_en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  <a:ea typeface="Times New Roman"/>
              </a:rPr>
              <a:t>Documentos en español</a:t>
            </a:r>
            <a:r>
              <a:rPr b="0" lang="es-ES" sz="1800" spc="-1" strike="noStrike">
                <a:solidFill>
                  <a:srgbClr val="0046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Anuncio oficial de la convocatoria (Diario Oficial de la Unión Europea, 9/8/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Prioridades estratég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4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Convocatoria Nacional de propuestas 201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00"/>
                </a:solidFill>
                <a:latin typeface="Verdana"/>
                <a:ea typeface="Times New Roman"/>
              </a:rPr>
              <a:t>http://www.oapee.es/dctm/weboapee/convocatoria/2013/convocatoria-nacional-20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Anexos a la convocato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71640" y="47628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PRESUPUES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ONVOCATORIA 201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284560"/>
            <a:ext cx="785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recimiento global del presupuesto de la Unión Europea para el programa Erasmu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,36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1.032.000,00 €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[2012-13]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1.730.000,00 €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[2013-1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573360"/>
            <a:ext cx="100800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920" y="1341000"/>
            <a:ext cx="777240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1 de febrero de 2013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Organización de Cursos Intensivos de Lengua Erasmus (EIL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8 de marzo de 2013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Movilidad (SM, 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Certificado de prácticas para consor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ogramas Intensivos (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26 de abril de 20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1ª fase ayuda adicional: movilidad con necesidade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20 de diciembre de 20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2ª fase ayuda adicional: movilidad con necesidade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30 días naturales antes de la vis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sitas Preparatorias (P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LAZOS DE PRESENT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DE SOLICITU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27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Los 27 estados miembros de la 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aíses de la AELC y del EEE: Islandia, Liechtenstein, Noru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aíses candidatos: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roacia, Turqu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AÍSES PARTICIP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Las solicitudes de IP seleccionadas en 2012 y 2013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no podrán solicitar una renovación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después de 20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292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PROGRAMAS INTENSIVOS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589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561440" cy="35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Las visitas preparatorias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destinadas a establecer nuevos acuerdos interinstitucionales (no renovaciones) relacionados con actividades de movilidad de estudiantes y/o personal o a preparar prácticas de estudiantes Erasmus, programas intensivos Erasmus, redes Erasmus, proyectos multilaterales Erasmus o medidas de acompañamiento Erasmus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han de realizarse antes de que finalice el plazo de solicitud de las correspondientes medidas al amparo de la convocatoria de propuestas de 20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VISITAS PREPARAT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589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4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MOV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755640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MOVILIDAD DE ESTUDIANTES (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studios (SMS): 200 € 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ácticas (SMP): 400 € m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ILC: hasta 450 € curs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MOVILIDAD DE PERSONAL (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aje, alojamiento y manutención: 120€ x día hasta 600 € (5 dí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44:36Z</dcterms:created>
  <dc:creator>TERESA CHAPARRO</dc:creator>
  <dc:description/>
  <dc:language>en-US</dc:language>
  <cp:lastModifiedBy>mteresa.chaparro</cp:lastModifiedBy>
  <dcterms:modified xsi:type="dcterms:W3CDTF">2012-12-07T13:42:51Z</dcterms:modified>
  <cp:revision>859</cp:revision>
  <dc:subject/>
  <dc:title>PROGRAMA ERASMUS</dc:title>
</cp:coreProperties>
</file>