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7.jpeg" ContentType="image/jpeg"/>
  <Override PartName="/ppt/media/image6.jpeg" ContentType="image/jpeg"/>
  <Override PartName="/ppt/media/image19.wmf" ContentType="image/x-wmf"/>
  <Override PartName="/ppt/media/image18.jpeg" ContentType="image/jpeg"/>
  <Override PartName="/ppt/media/image17.png" ContentType="image/png"/>
  <Override PartName="/ppt/media/image14.jpeg" ContentType="image/jpeg"/>
  <Override PartName="/ppt/media/image16.wmf" ContentType="image/x-wmf"/>
  <Override PartName="/ppt/media/image4.jpeg" ContentType="image/jpeg"/>
  <Override PartName="/ppt/media/image1.png" ContentType="image/png"/>
  <Override PartName="/ppt/media/image2.jpeg" ContentType="image/jpeg"/>
  <Override PartName="/ppt/media/image15.jpeg" ContentType="image/jpeg"/>
  <Override PartName="/ppt/media/image3.wmf" ContentType="image/x-wmf"/>
  <Override PartName="/ppt/media/image13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DFC8-2A03-4EE6-A8AA-9D05DF2FB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5613-3546-4CA4-8713-E7BBEF147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52FBB-F6D8-4EA2-9DB8-7C743D51B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5794-69E1-464B-94DD-E917C8E78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4825F-9DCB-424B-894B-CAFBD4C6D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1EEFF-85DC-4074-9E97-BA53968BF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8F7C5-B2C5-4279-A135-91F19959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173DB-5A11-432D-AD87-E69CAABD4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013D4-0770-4547-9C09-4942FF64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D0C8-977D-4CC7-BFAD-3CA6EB0E6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37045-FB6A-49B6-A0F9-5D5840638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8CB8F-2528-431F-B13E-5E3AA7BAF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A76E8-266E-4760-BA8F-A647DFC8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EE7E20-A234-469D-B649-999A2E20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1C8B4-472A-4EA8-9B51-D6F1390C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F8D0-9BD7-4005-809E-F6F63282A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210200"/>
            <a:ext cx="25023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8375A-86D7-417D-8ACE-0DAD0F4BE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71C9-D9DF-491D-BE69-E11888890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589E-A8A8-4CE7-B655-467B4DD3E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E5FC-43C7-4FFE-9397-06804D2F5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5482-6D73-468C-928A-76D05A29B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1B6DD-9718-4559-BF06-60A60B7E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21020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9D1E-E757-4311-9B88-B4253970F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210200"/>
            <a:ext cx="77724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28F6-106A-40BE-81E2-87543F51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3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16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16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16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DE27-C8C2-43E6-BE0B-5172F6B486B4}" type="datetime"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7CA0-5F8E-4362-96DC-B1372069CDA7}" type="slidenum">
              <a:rPr b="0" lang="es-ES_tradnl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26" descr="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937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4440" indent="-2253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98760" indent="-22716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16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16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16992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B8E45-0D37-4661-B5B1-4FEB51951905}" type="datetime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0B14-7FC5-4A17-B374-33A770B097B0}" type="slidenum"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94AEE-012A-4C35-9D98-1ABB20300C4E}" type="slidenum">
              <a:rPr b="0" lang="es-ES" sz="1200" spc="-1" strike="noStrike">
                <a:solidFill>
                  <a:srgbClr val="898989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3" descr="salu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" name="Object 4"/>
          <p:cNvGraphicFramePr/>
          <p:nvPr/>
        </p:nvGraphicFramePr>
        <p:xfrm>
          <a:off x="0" y="380880"/>
          <a:ext cx="2693880" cy="838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8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380880"/>
                    <a:ext cx="26938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Text Box 12"/>
          <p:cNvSpPr/>
          <p:nvPr/>
        </p:nvSpPr>
        <p:spPr>
          <a:xfrm>
            <a:off x="324000" y="1413000"/>
            <a:ext cx="8208720" cy="1068840"/>
          </a:xfrm>
          <a:prstGeom prst="rect">
            <a:avLst/>
          </a:prstGeom>
          <a:solidFill>
            <a:srgbClr val="3378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merican Typewriter"/>
              </a:rPr>
              <a:t>El sistema dual en la formaci</a:t>
            </a:r>
            <a:r>
              <a:rPr b="1" lang="es-ES_tradnl" sz="3200" spc="-1" strike="noStrike">
                <a:solidFill>
                  <a:srgbClr val="ffffff"/>
                </a:solidFill>
                <a:latin typeface="American Typewriter"/>
                <a:ea typeface="ＭＳ Ｐゴシック"/>
              </a:rPr>
              <a:t>ón profesional en Alem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4" descr="0_DIHK Stuttgart_Frädrich_Página_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6"/>
          <p:cNvSpPr/>
          <p:nvPr/>
        </p:nvSpPr>
        <p:spPr>
          <a:xfrm>
            <a:off x="250920" y="40464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REAS / COMPETENCIAS DE LOS DISTINT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2556000" y="2205000"/>
            <a:ext cx="13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KM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2268360" y="1125360"/>
            <a:ext cx="388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CONFERENCIA DE MINISTROS DE EDUCACIÓN DE LOS ES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2987640" y="3645000"/>
            <a:ext cx="252108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s un órgano de coordin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vita una evolución divergente entre los sistemas educativ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Garantiza la permeabilidad entre los diferentes sistem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0_DIHK Stuttgart_Frädrich_Página_14"/>
          <p:cNvPicPr/>
          <p:nvPr/>
        </p:nvPicPr>
        <p:blipFill>
          <a:blip r:embed="rId1"/>
          <a:stretch/>
        </p:blipFill>
        <p:spPr>
          <a:xfrm>
            <a:off x="-468360" y="22320"/>
            <a:ext cx="9612360" cy="683568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5"/>
          <p:cNvSpPr/>
          <p:nvPr/>
        </p:nvSpPr>
        <p:spPr>
          <a:xfrm>
            <a:off x="0" y="189000"/>
            <a:ext cx="882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24000" y="333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REAS / COMPETENCIAS DE LOS DISTINT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979640" y="2276640"/>
            <a:ext cx="21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DUSTRIA 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1979640" y="2924280"/>
            <a:ext cx="3887640" cy="32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Empresas y Sindica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roponen la creación de nuevas  profesiones o la modernización de las exist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ortan técnicos especilizados para la relización de los decretos regul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doptan acuerdos y convenios sobre la bonificación de los apren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4" descr="0_DIHK Stuttgart_Frädrich_Página_15"/>
          <p:cNvPicPr/>
          <p:nvPr/>
        </p:nvPicPr>
        <p:blipFill>
          <a:blip r:embed="rId1"/>
          <a:stretch/>
        </p:blipFill>
        <p:spPr>
          <a:xfrm>
            <a:off x="-752400" y="-179280"/>
            <a:ext cx="9896400" cy="703728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5"/>
          <p:cNvSpPr/>
          <p:nvPr/>
        </p:nvSpPr>
        <p:spPr>
          <a:xfrm>
            <a:off x="0" y="0"/>
            <a:ext cx="85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6"/>
          <p:cNvSpPr/>
          <p:nvPr/>
        </p:nvSpPr>
        <p:spPr>
          <a:xfrm>
            <a:off x="-252360" y="26028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REAS / COMPETENCIAS DE LOS DISTINT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7"/>
          <p:cNvSpPr/>
          <p:nvPr/>
        </p:nvSpPr>
        <p:spPr>
          <a:xfrm>
            <a:off x="1692360" y="2060640"/>
            <a:ext cx="230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DUSTRIA 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8"/>
          <p:cNvSpPr/>
          <p:nvPr/>
        </p:nvSpPr>
        <p:spPr>
          <a:xfrm>
            <a:off x="1692360" y="2708280"/>
            <a:ext cx="3384360" cy="427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áma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esoran a los agentes implicados en el siste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olan la formación en las empres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terminan la idoneidad de las empresas y los formad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levan un registro de los contratos de formaci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alizan los exámenes y expiden las titulacio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0_DIHK Stuttgart_Frädrich_Página_0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>
            <a:off x="3059280" y="206064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65 nuevas profesiones desde 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6"/>
          <p:cNvSpPr/>
          <p:nvPr/>
        </p:nvSpPr>
        <p:spPr>
          <a:xfrm>
            <a:off x="3492360" y="2852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350 profes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7"/>
          <p:cNvSpPr/>
          <p:nvPr/>
        </p:nvSpPr>
        <p:spPr>
          <a:xfrm>
            <a:off x="755640" y="386064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dust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1619280" y="472428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mer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9"/>
          <p:cNvSpPr/>
          <p:nvPr/>
        </p:nvSpPr>
        <p:spPr>
          <a:xfrm>
            <a:off x="2987640" y="566100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Ofic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1"/>
          <p:cNvSpPr/>
          <p:nvPr/>
        </p:nvSpPr>
        <p:spPr>
          <a:xfrm>
            <a:off x="4716360" y="566100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stión y administ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2"/>
          <p:cNvSpPr/>
          <p:nvPr/>
        </p:nvSpPr>
        <p:spPr>
          <a:xfrm>
            <a:off x="6084720" y="472428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alu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3"/>
          <p:cNvSpPr/>
          <p:nvPr/>
        </p:nvSpPr>
        <p:spPr>
          <a:xfrm>
            <a:off x="7020000" y="3789360"/>
            <a:ext cx="187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gricultura y jardiner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PROFESIONES EN EL SISTEMA DU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ENTRO DE TRABAJO/EMPRESA          CENTRO ESCO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618920" y="1981080"/>
            <a:ext cx="52578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6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5472000" cy="417204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8"/>
          <p:cNvSpPr/>
          <p:nvPr/>
        </p:nvSpPr>
        <p:spPr>
          <a:xfrm>
            <a:off x="241128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9"/>
          <p:cNvSpPr/>
          <p:nvPr/>
        </p:nvSpPr>
        <p:spPr>
          <a:xfrm>
            <a:off x="395280" y="4456080"/>
            <a:ext cx="165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73440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ENTRO DE TRABAJO/ EMPR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0_DIHK Stuttgart_Frädrich_Página_03"/>
          <p:cNvPicPr/>
          <p:nvPr/>
        </p:nvPicPr>
        <p:blipFill>
          <a:blip r:embed="rId1"/>
          <a:stretch/>
        </p:blipFill>
        <p:spPr>
          <a:xfrm>
            <a:off x="0" y="981000"/>
            <a:ext cx="8820000" cy="527688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3132000" y="3429000"/>
            <a:ext cx="2737080" cy="29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 ó 4 días a la sem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obre la base de u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ecreto regulador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de las profesiones (vinculant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En el marco de un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contrato de formación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 derecho priv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8"/>
          <p:cNvSpPr/>
          <p:nvPr/>
        </p:nvSpPr>
        <p:spPr>
          <a:xfrm>
            <a:off x="6012000" y="5589720"/>
            <a:ext cx="237636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ciben una 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onificación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(pactada con los sindicato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0_DIHK Stuttgart_Frädrich_Página_03"/>
          <p:cNvPicPr/>
          <p:nvPr/>
        </p:nvPicPr>
        <p:blipFill>
          <a:blip r:embed="rId1"/>
          <a:stretch/>
        </p:blipFill>
        <p:spPr>
          <a:xfrm>
            <a:off x="0" y="260280"/>
            <a:ext cx="8820000" cy="6597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7"/>
          <p:cNvSpPr/>
          <p:nvPr/>
        </p:nvSpPr>
        <p:spPr>
          <a:xfrm>
            <a:off x="0" y="148428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996600"/>
                </a:solidFill>
                <a:latin typeface="Arial"/>
              </a:rPr>
              <a:t>469.000 Empresas Formado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3774600" y="189000"/>
            <a:ext cx="5371560" cy="183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ccff"/>
                </a:solidFill>
                <a:latin typeface="Arial"/>
              </a:rPr>
              <a:t>Acreditadas</a:t>
            </a:r>
            <a:r>
              <a:rPr b="0" lang="de-DE" sz="18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ccff"/>
                </a:solidFill>
                <a:latin typeface="Arial"/>
              </a:rPr>
              <a:t>por las Cáma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ccff"/>
                </a:solidFill>
                <a:latin typeface="Arial"/>
              </a:rPr>
              <a:t>Instalaciones y materiales adecu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ccff"/>
                </a:solidFill>
                <a:latin typeface="Arial"/>
              </a:rPr>
              <a:t>Proporción : 6/8 trabajadores --- 3 aprend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ccff"/>
                </a:solidFill>
                <a:latin typeface="Arial"/>
              </a:rPr>
              <a:t>Formadores acredi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1"/>
          <p:cNvSpPr/>
          <p:nvPr/>
        </p:nvSpPr>
        <p:spPr>
          <a:xfrm>
            <a:off x="6804000" y="2492280"/>
            <a:ext cx="20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"/>
              </a:rPr>
              <a:t>Privad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cc3300"/>
                </a:solidFill>
                <a:latin typeface="Arial"/>
              </a:rPr>
              <a:t>Públ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2"/>
          <p:cNvSpPr/>
          <p:nvPr/>
        </p:nvSpPr>
        <p:spPr>
          <a:xfrm>
            <a:off x="3276720" y="3684600"/>
            <a:ext cx="2232000" cy="33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i no reúne todas las condi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ociaciones de Formación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E. Principal / E. Acompañ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Por encar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entros supraempresar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7989840" cy="58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ENTRO ESC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4" descr="0_DIHK Stuttgart_Frädrich_Página_04"/>
          <p:cNvPicPr/>
          <p:nvPr/>
        </p:nvPicPr>
        <p:blipFill>
          <a:blip r:embed="rId1"/>
          <a:stretch/>
        </p:blipFill>
        <p:spPr>
          <a:xfrm>
            <a:off x="468360" y="836640"/>
            <a:ext cx="8675640" cy="58356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5"/>
          <p:cNvSpPr/>
          <p:nvPr/>
        </p:nvSpPr>
        <p:spPr>
          <a:xfrm>
            <a:off x="4067280" y="4005360"/>
            <a:ext cx="2160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Aporta </a:t>
            </a: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mpetencias profesionales y de educació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6"/>
          <p:cNvSpPr/>
          <p:nvPr/>
        </p:nvSpPr>
        <p:spPr>
          <a:xfrm>
            <a:off x="971640" y="1197000"/>
            <a:ext cx="74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68360" y="981000"/>
            <a:ext cx="50403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Currículos marco               KMK  (Ministe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cc3300"/>
                </a:solidFill>
                <a:latin typeface="Arial"/>
              </a:rPr>
              <a:t>Planes de estudio            Estados Fed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9"/>
          <p:cNvSpPr/>
          <p:nvPr/>
        </p:nvSpPr>
        <p:spPr>
          <a:xfrm>
            <a:off x="2556000" y="1197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0"/>
          <p:cNvSpPr/>
          <p:nvPr/>
        </p:nvSpPr>
        <p:spPr>
          <a:xfrm>
            <a:off x="2484360" y="170028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11"/>
          <p:cNvSpPr/>
          <p:nvPr/>
        </p:nvSpPr>
        <p:spPr>
          <a:xfrm>
            <a:off x="6156360" y="836640"/>
            <a:ext cx="259236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3378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7899"/>
                </a:solidFill>
                <a:latin typeface="Arial"/>
              </a:rPr>
              <a:t>1 ó 2 días por seman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3378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337899"/>
                </a:solidFill>
                <a:latin typeface="Arial"/>
              </a:rPr>
              <a:t>no menos de 12 horas sema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2"/>
          <p:cNvSpPr/>
          <p:nvPr/>
        </p:nvSpPr>
        <p:spPr>
          <a:xfrm>
            <a:off x="7308720" y="2349360"/>
            <a:ext cx="1835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3378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337899"/>
                </a:solidFill>
                <a:latin typeface="Arial"/>
              </a:rPr>
              <a:t>8 h./ 4 h. asignaturas relacionadas con la profesión/gene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2699280" y="0"/>
            <a:ext cx="40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ENTRO ESC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5"/>
          <p:cNvSpPr/>
          <p:nvPr/>
        </p:nvSpPr>
        <p:spPr>
          <a:xfrm>
            <a:off x="950760" y="1144440"/>
            <a:ext cx="354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6"/>
          <p:cNvSpPr/>
          <p:nvPr/>
        </p:nvSpPr>
        <p:spPr>
          <a:xfrm>
            <a:off x="395280" y="981000"/>
            <a:ext cx="388944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64c08"/>
                </a:solidFill>
                <a:latin typeface="Arial"/>
              </a:rPr>
              <a:t>Se dividen</a:t>
            </a:r>
            <a:r>
              <a:rPr b="1" lang="de-DE" sz="3200" spc="-1" strike="noStrike">
                <a:solidFill>
                  <a:srgbClr val="f64c08"/>
                </a:solidFill>
                <a:latin typeface="Arial"/>
              </a:rPr>
              <a:t> , según profesiones, </a:t>
            </a:r>
            <a:r>
              <a:rPr b="0" lang="de-DE" sz="3200" spc="-1" strike="noStrike">
                <a:solidFill>
                  <a:srgbClr val="f64c08"/>
                </a:solidFill>
                <a:latin typeface="Arial"/>
              </a:rPr>
              <a:t>en</a:t>
            </a:r>
            <a:r>
              <a:rPr b="1" lang="de-DE" sz="3200" spc="-1" strike="noStrike">
                <a:solidFill>
                  <a:srgbClr val="f64c08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64c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64c08"/>
                </a:solidFill>
                <a:latin typeface="Arial"/>
              </a:rPr>
              <a:t>Técn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64c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64c08"/>
                </a:solidFill>
                <a:latin typeface="Arial"/>
              </a:rPr>
              <a:t>Comer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64c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64c08"/>
                </a:solidFill>
                <a:latin typeface="Arial"/>
              </a:rPr>
              <a:t>Administra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64c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64c08"/>
                </a:solidFill>
                <a:latin typeface="Arial"/>
              </a:rPr>
              <a:t>Profesiones sociales /salu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64c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64c08"/>
                </a:solidFill>
                <a:latin typeface="Arial"/>
              </a:rPr>
              <a:t>Agrar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5003640" y="1268280"/>
            <a:ext cx="3673800" cy="42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Se dividen, </a:t>
            </a:r>
            <a:r>
              <a:rPr b="1" lang="de-DE" sz="3200" spc="-1" strike="noStrike">
                <a:solidFill>
                  <a:srgbClr val="000099"/>
                </a:solidFill>
                <a:latin typeface="Arial"/>
              </a:rPr>
              <a:t>según nivel de estudios</a:t>
            </a: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, 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Básicos (1er. año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99"/>
                </a:solidFill>
                <a:latin typeface="Arial"/>
              </a:rPr>
              <a:t>Especializados (2º y 3er añ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4"/>
          <p:cNvSpPr/>
          <p:nvPr/>
        </p:nvSpPr>
        <p:spPr>
          <a:xfrm>
            <a:off x="2699280" y="0"/>
            <a:ext cx="316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ASIGNATU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950760" y="1144440"/>
            <a:ext cx="3549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755640" y="1052640"/>
            <a:ext cx="770580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Generales: deporte, lengua, ciencias sociales..... (4 horas seman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Teoricas realacionadas con la profesión: cálculo, dibujo técnico....(8 horas semanal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f64c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0000"/>
                </a:solidFill>
                <a:latin typeface="Arial"/>
              </a:rPr>
              <a:t>GRAN IMPORTANCIA EN UNA LENGUA EXTRANJERA (INGLÉ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68000" y="1196640"/>
            <a:ext cx="8064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34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0" y="549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La FP, una „tradición“ en Alem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395280" y="1413000"/>
          <a:ext cx="4103640" cy="3255840"/>
        </p:xfrm>
        <a:graphic>
          <a:graphicData uri="http://schemas.openxmlformats.org/drawingml/2006/table">
            <a:tbl>
              <a:tblPr/>
              <a:tblGrid>
                <a:gridCol w="952560"/>
                <a:gridCol w="3151080"/>
              </a:tblGrid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S.XI</a:t>
                      </a:r>
                      <a:r>
                        <a:rPr b="1" lang="es-ES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Formación Profesional en los centros de trabaj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9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XV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denamiento de aprox. 200 profesion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16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XVII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meras escuelas profesional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XI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stema d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.X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y de 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2" name="4 Imagen" descr="intro_handwerk_steinmetz.jpg"/>
          <p:cNvPicPr/>
          <p:nvPr/>
        </p:nvPicPr>
        <p:blipFill>
          <a:blip r:embed="rId1"/>
          <a:stretch/>
        </p:blipFill>
        <p:spPr>
          <a:xfrm>
            <a:off x="6588000" y="1557360"/>
            <a:ext cx="1743120" cy="2028960"/>
          </a:xfrm>
          <a:prstGeom prst="rect">
            <a:avLst/>
          </a:prstGeom>
          <a:ln w="0">
            <a:noFill/>
          </a:ln>
        </p:spPr>
      </p:pic>
      <p:pic>
        <p:nvPicPr>
          <p:cNvPr id="93" name="5 Imagen" descr="BB SXIX.jpg"/>
          <p:cNvPicPr/>
          <p:nvPr/>
        </p:nvPicPr>
        <p:blipFill>
          <a:blip r:embed="rId2"/>
          <a:stretch/>
        </p:blipFill>
        <p:spPr>
          <a:xfrm>
            <a:off x="3708360" y="3716280"/>
            <a:ext cx="4005360" cy="30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8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ROFESOR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2 CuadroTexto"/>
          <p:cNvSpPr/>
          <p:nvPr/>
        </p:nvSpPr>
        <p:spPr>
          <a:xfrm>
            <a:off x="755640" y="2133720"/>
            <a:ext cx="792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De asignaturas generales o teóricas relacionadas con la profesió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 misma formación y titulación que el resto de profesores de secund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(licenciatura, periodo de prácticas…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0000"/>
                </a:solidFill>
                <a:latin typeface="Arial"/>
              </a:rPr>
              <a:t>De prácticas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Sin titulación universitaria. Suelen ser profesionales con el grado de maestro de taller (Meis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5" descr="0_DIHK Stuttgart_Frädrich_Página_16"/>
          <p:cNvPicPr/>
          <p:nvPr/>
        </p:nvPicPr>
        <p:blipFill>
          <a:blip r:embed="rId1"/>
          <a:stretch/>
        </p:blipFill>
        <p:spPr>
          <a:xfrm>
            <a:off x="-2916360" y="-1684440"/>
            <a:ext cx="14760720" cy="1022688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7"/>
          <p:cNvSpPr/>
          <p:nvPr/>
        </p:nvSpPr>
        <p:spPr>
          <a:xfrm>
            <a:off x="0" y="4076640"/>
            <a:ext cx="25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lbertus Extra Bold"/>
              </a:rPr>
              <a:t>CENTRO ESCOL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8"/>
          <p:cNvSpPr/>
          <p:nvPr/>
        </p:nvSpPr>
        <p:spPr>
          <a:xfrm>
            <a:off x="6516720" y="4149720"/>
            <a:ext cx="302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lbertus Extra Bold"/>
              </a:rPr>
              <a:t>CENTRO DE TRABAJ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9"/>
          <p:cNvSpPr/>
          <p:nvPr/>
        </p:nvSpPr>
        <p:spPr>
          <a:xfrm>
            <a:off x="3419640" y="83664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lbertus Extra Bold"/>
              </a:rPr>
              <a:t>CÁM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0"/>
          <p:cNvSpPr/>
          <p:nvPr/>
        </p:nvSpPr>
        <p:spPr>
          <a:xfrm>
            <a:off x="3348000" y="6308640"/>
            <a:ext cx="26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ff"/>
                </a:solidFill>
                <a:latin typeface="Arial"/>
              </a:rPr>
              <a:t>colabo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1"/>
          <p:cNvSpPr/>
          <p:nvPr/>
        </p:nvSpPr>
        <p:spPr>
          <a:xfrm>
            <a:off x="-541440" y="2133720"/>
            <a:ext cx="28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ff"/>
                </a:solidFill>
                <a:latin typeface="Arial"/>
              </a:rPr>
              <a:t>asesor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6877080" y="198900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ccff"/>
                </a:solidFill>
                <a:latin typeface="Arial"/>
              </a:rPr>
              <a:t>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LAB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2 CuadroTexto"/>
          <p:cNvSpPr/>
          <p:nvPr/>
        </p:nvSpPr>
        <p:spPr>
          <a:xfrm>
            <a:off x="826920" y="1268280"/>
            <a:ext cx="770580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Horario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: pactados entre la empresa, la escuela, la inspeccion educativa y la cám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profesores hacen con frecuencia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prácticas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en las empre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centros suelen organizar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actividades y seminarios de actualización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para los formadores y otros trabajadores de las empres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556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El sistema d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Object 4"/>
          <p:cNvGraphicFramePr/>
          <p:nvPr/>
        </p:nvGraphicFramePr>
        <p:xfrm>
          <a:off x="971640" y="774720"/>
          <a:ext cx="7007040" cy="5524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774720"/>
                    <a:ext cx="7007040" cy="552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mbria"/>
              </a:rPr>
              <a:t>Financiación de la formación profe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Diagramm 6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7205760" cy="4267080"/>
          </a:xfrm>
          <a:prstGeom prst="rect">
            <a:avLst/>
          </a:prstGeom>
          <a:ln w="0">
            <a:noFill/>
          </a:ln>
        </p:spPr>
      </p:pic>
      <p:sp>
        <p:nvSpPr>
          <p:cNvPr id="203" name="Text Box 8"/>
          <p:cNvSpPr/>
          <p:nvPr/>
        </p:nvSpPr>
        <p:spPr>
          <a:xfrm>
            <a:off x="4572000" y="2852640"/>
            <a:ext cx="151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MPRES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250920" y="2781360"/>
            <a:ext cx="144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AGENCIA FEDERAL DE EMPL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"/>
          <p:cNvSpPr/>
          <p:nvPr/>
        </p:nvSpPr>
        <p:spPr>
          <a:xfrm>
            <a:off x="1979640" y="177336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1"/>
          <p:cNvSpPr/>
          <p:nvPr/>
        </p:nvSpPr>
        <p:spPr>
          <a:xfrm>
            <a:off x="1619280" y="1989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ESTADOS FED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Cambria"/>
              </a:rPr>
              <a:t>Beneficios de la formación profesional para la </a:t>
            </a:r>
            <a:r>
              <a:rPr b="1" lang="es-ES_tradnl" sz="4400" spc="-1" strike="noStrike">
                <a:solidFill>
                  <a:srgbClr val="172560"/>
                </a:solidFill>
                <a:latin typeface="Cambria"/>
              </a:rPr>
              <a:t>empres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segurar mano de obra cualific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Bajos costes de contrat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fluencia sobre el </a:t>
            </a:r>
            <a:r>
              <a:rPr b="0" lang="es-ES_tradnl" sz="3200" spc="-1" strike="noStrike">
                <a:solidFill>
                  <a:srgbClr val="321863"/>
                </a:solidFill>
                <a:latin typeface="Arial"/>
              </a:rPr>
              <a:t>contenido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y la </a:t>
            </a:r>
            <a:r>
              <a:rPr b="0" lang="es-ES_tradnl" sz="3200" spc="-1" strike="noStrike">
                <a:solidFill>
                  <a:srgbClr val="321863"/>
                </a:solidFill>
                <a:latin typeface="Arial"/>
              </a:rPr>
              <a:t>organiz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la formación según las necesidades del </a:t>
            </a:r>
            <a:r>
              <a:rPr b="1" lang="es-ES_tradnl" sz="3200" spc="-1" strike="noStrike">
                <a:solidFill>
                  <a:srgbClr val="321863"/>
                </a:solidFill>
                <a:latin typeface="Arial"/>
              </a:rPr>
              <a:t>merc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mbria"/>
              </a:rPr>
              <a:t>Beneficios de la formación profesional para los</a:t>
            </a:r>
            <a:r>
              <a:rPr b="0" lang="es-ES_tradnl" sz="4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s-ES_tradnl" sz="4400" spc="-1" strike="noStrike">
                <a:solidFill>
                  <a:srgbClr val="172560"/>
                </a:solidFill>
                <a:latin typeface="Cambria"/>
              </a:rPr>
              <a:t>aprend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acilidad para la </a:t>
            </a:r>
            <a:r>
              <a:rPr b="1" lang="es-ES_tradnl" sz="3200" spc="-1" strike="noStrike">
                <a:solidFill>
                  <a:srgbClr val="321863"/>
                </a:solidFill>
                <a:latin typeface="Arial"/>
              </a:rPr>
              <a:t>incorporación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al mundo del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Formación en el </a:t>
            </a:r>
            <a:r>
              <a:rPr b="1" lang="es-ES_tradnl" sz="3200" spc="-1" strike="noStrike">
                <a:solidFill>
                  <a:srgbClr val="321863"/>
                </a:solidFill>
                <a:latin typeface="Arial"/>
              </a:rPr>
              <a:t>mercado laboral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21863"/>
                </a:solidFill>
                <a:latin typeface="Arial"/>
              </a:rPr>
              <a:t>Estándares uniformes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 de cualificac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tuación motivad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321863"/>
                </a:solidFill>
                <a:latin typeface="Arial"/>
              </a:rPr>
              <a:t>ganan un sueldo/bonificación y reciben una formación (entre 270€ y 830€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Cambria"/>
              </a:rPr>
              <a:t>Beneficios de la formación profesional para el</a:t>
            </a:r>
            <a:r>
              <a:rPr b="0" lang="es-ES_tradnl" sz="44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1" lang="es-ES_tradnl" sz="4400" spc="-1" strike="noStrike">
                <a:solidFill>
                  <a:srgbClr val="172560"/>
                </a:solidFill>
                <a:latin typeface="Cambria"/>
              </a:rPr>
              <a:t>est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Posibilidad de ofrecer FP </a:t>
            </a:r>
            <a:r>
              <a:rPr b="1" lang="es-ES_tradnl" sz="3200" spc="-1" strike="noStrike">
                <a:solidFill>
                  <a:srgbClr val="321863"/>
                </a:solidFill>
                <a:latin typeface="Cambria"/>
              </a:rPr>
              <a:t>a todos los jóvenes</a:t>
            </a: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 que salen de la educación gene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La contribución del </a:t>
            </a:r>
            <a:r>
              <a:rPr b="1" lang="es-ES_tradnl" sz="3200" spc="-1" strike="noStrike">
                <a:solidFill>
                  <a:srgbClr val="321863"/>
                </a:solidFill>
                <a:latin typeface="Cambria"/>
              </a:rPr>
              <a:t>sector privado</a:t>
            </a: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 / menor presión </a:t>
            </a:r>
            <a:r>
              <a:rPr b="1" lang="es-ES_tradnl" sz="3200" spc="-1" strike="noStrike">
                <a:solidFill>
                  <a:srgbClr val="321863"/>
                </a:solidFill>
                <a:latin typeface="Cambria"/>
              </a:rPr>
              <a:t>presupuesto públ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21863"/>
                </a:solidFill>
                <a:latin typeface="Cambria"/>
              </a:rPr>
              <a:t>Estándares competitivos</a:t>
            </a: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 de formación para todo el est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52b63"/>
                </a:solidFill>
                <a:latin typeface="Cambria"/>
              </a:rPr>
              <a:t>Pilares del siste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mbria"/>
              </a:rPr>
              <a:t>Importancia y efectividad de la responsabilidad de los </a:t>
            </a:r>
            <a:r>
              <a:rPr b="1" lang="es-ES_tradnl" sz="2800" spc="-1" strike="noStrike">
                <a:solidFill>
                  <a:srgbClr val="252b63"/>
                </a:solidFill>
                <a:latin typeface="Cambria"/>
              </a:rPr>
              <a:t>actores económicos y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52b63"/>
                </a:solidFill>
                <a:latin typeface="Cambria"/>
              </a:rPr>
              <a:t>Financiación</a:t>
            </a:r>
            <a:r>
              <a:rPr b="1" lang="es-ES_tradnl" sz="2800" spc="-1" strike="noStrike">
                <a:solidFill>
                  <a:srgbClr val="000000"/>
                </a:solidFill>
                <a:latin typeface="Cambr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252b63"/>
                </a:solidFill>
                <a:latin typeface="Cambria"/>
              </a:rPr>
              <a:t>Pilotaje</a:t>
            </a:r>
            <a:r>
              <a:rPr b="0" lang="es-ES_tradnl" sz="2800" spc="-1" strike="noStrike">
                <a:solidFill>
                  <a:srgbClr val="000000"/>
                </a:solidFill>
                <a:latin typeface="Cambria"/>
              </a:rPr>
              <a:t> global de los podere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mbria"/>
              </a:rPr>
              <a:t>Iniciativa de los </a:t>
            </a:r>
            <a:r>
              <a:rPr b="1" lang="es-ES_tradnl" sz="2800" spc="-1" strike="noStrike">
                <a:solidFill>
                  <a:srgbClr val="252b63"/>
                </a:solidFill>
                <a:latin typeface="Cambria"/>
              </a:rPr>
              <a:t>actores económicos y soci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ambria"/>
              </a:rPr>
              <a:t>Papel mediador de las </a:t>
            </a:r>
            <a:r>
              <a:rPr b="1" lang="es-ES_tradnl" sz="2800" spc="-1" strike="noStrike">
                <a:solidFill>
                  <a:srgbClr val="252b63"/>
                </a:solidFill>
                <a:latin typeface="Cambria"/>
              </a:rPr>
              <a:t>cámaras</a:t>
            </a:r>
            <a:r>
              <a:rPr b="0" lang="es-ES_tradnl" sz="2800" spc="-1" strike="noStrike">
                <a:solidFill>
                  <a:srgbClr val="000000"/>
                </a:solidFill>
                <a:latin typeface="Cambria"/>
              </a:rPr>
              <a:t> de industria, comercio y of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7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252b63"/>
                </a:solidFill>
                <a:latin typeface="Cambria"/>
              </a:rPr>
              <a:t>Sombras del sistema</a:t>
            </a:r>
            <a:br>
              <a:rPr sz="4400"/>
            </a:br>
            <a:r>
              <a:rPr b="0" lang="es-ES_tradnl" sz="2000" spc="-1" strike="noStrike">
                <a:solidFill>
                  <a:srgbClr val="252b63"/>
                </a:solidFill>
                <a:latin typeface="Cambria"/>
              </a:rPr>
              <a:t>(Informe 2012 de los sindicat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alta de cumplimiento de los planes de formación (3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oras extras no remuneradas (38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alizacion de funciones y tareas ajenas a la formación (3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Falta de formadores dentro de las empresas (2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Arial"/>
              </a:rPr>
              <a:t>La FP dentro del sistema educ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468360" y="1557360"/>
          <a:ext cx="8280360" cy="4896000"/>
        </p:xfrm>
        <a:graphic>
          <a:graphicData uri="http://schemas.openxmlformats.org/drawingml/2006/table">
            <a:tbl>
              <a:tblPr/>
              <a:tblGrid>
                <a:gridCol w="2070000"/>
                <a:gridCol w="2071800"/>
                <a:gridCol w="2068560"/>
                <a:gridCol w="2070000"/>
              </a:tblGrid>
              <a:tr h="95004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Formación Profesional Continu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Nivel terciario</a:t>
                      </a: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a partir de 19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c98"/>
                    </a:solidFill>
                  </a:tcPr>
                </a:tc>
              </a:tr>
              <a:tr h="9255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Mercado labo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Universida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8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Sistema dual de F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(51%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4c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4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FP escol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3200" spc="-1" strike="noStrike">
                          <a:solidFill>
                            <a:srgbClr val="0d0d0d"/>
                          </a:solidFill>
                          <a:latin typeface="Arial Unicode MS"/>
                        </a:rPr>
                        <a:t>(12%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64c0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ecundaria super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32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(37%)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ecundaria superi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 </a:t>
                      </a: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15 a 18/19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c98"/>
                    </a:solidFill>
                  </a:tcPr>
                </a:tc>
              </a:tr>
              <a:tr h="10432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ecundaria de 1er gr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Escuela Inter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ecundaria de 1er gr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Gymnasi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Secundaria I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e 10/12 a 15/16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c98"/>
                    </a:solidFill>
                  </a:tcPr>
                </a:tc>
              </a:tr>
              <a:tr h="7891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ima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4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Primari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1600" spc="-1" strike="noStrike">
                          <a:solidFill>
                            <a:srgbClr val="000000"/>
                          </a:solidFill>
                          <a:latin typeface="Arial Unicode MS"/>
                        </a:rPr>
                        <a:t>De 6 a 10/12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dec9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44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</a:rPr>
              <a:t>Satisfaccion con el centro escol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3 Marcador de contenido" descr="Páginas de Ausbildungsreport-2012.jpg"/>
          <p:cNvPicPr/>
          <p:nvPr/>
        </p:nvPicPr>
        <p:blipFill>
          <a:blip r:embed="rId1"/>
          <a:stretch/>
        </p:blipFill>
        <p:spPr>
          <a:xfrm>
            <a:off x="468360" y="1341360"/>
            <a:ext cx="8244000" cy="4464000"/>
          </a:xfrm>
          <a:prstGeom prst="rect">
            <a:avLst/>
          </a:prstGeom>
          <a:ln w="0">
            <a:noFill/>
          </a:ln>
        </p:spPr>
      </p:pic>
      <p:sp>
        <p:nvSpPr>
          <p:cNvPr id="219" name="4 CuadroTexto"/>
          <p:cNvSpPr/>
          <p:nvPr/>
        </p:nvSpPr>
        <p:spPr>
          <a:xfrm>
            <a:off x="2484360" y="2133720"/>
            <a:ext cx="93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5 CuadroTexto"/>
          <p:cNvSpPr/>
          <p:nvPr/>
        </p:nvSpPr>
        <p:spPr>
          <a:xfrm>
            <a:off x="324000" y="5013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uy bi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6 CuadroTexto"/>
          <p:cNvSpPr/>
          <p:nvPr/>
        </p:nvSpPr>
        <p:spPr>
          <a:xfrm>
            <a:off x="5435640" y="242100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atisfac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7 CuadroTexto"/>
          <p:cNvSpPr/>
          <p:nvPr/>
        </p:nvSpPr>
        <p:spPr>
          <a:xfrm>
            <a:off x="7093080" y="4221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u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8 CuadroTexto"/>
          <p:cNvSpPr/>
          <p:nvPr/>
        </p:nvSpPr>
        <p:spPr>
          <a:xfrm>
            <a:off x="7524720" y="522936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ic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0" y="4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1"/>
          <p:cNvGraphicFramePr/>
          <p:nvPr/>
        </p:nvGraphicFramePr>
        <p:xfrm>
          <a:off x="1214280" y="928800"/>
          <a:ext cx="981360" cy="103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6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928800"/>
                    <a:ext cx="98136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Rectangle 3"/>
          <p:cNvSpPr/>
          <p:nvPr/>
        </p:nvSpPr>
        <p:spPr>
          <a:xfrm>
            <a:off x="1143000" y="2904480"/>
            <a:ext cx="8001000" cy="17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                              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100" spc="-1" strike="noStrike">
                <a:solidFill>
                  <a:srgbClr val="000000"/>
                </a:solidFill>
                <a:latin typeface="Helvetica Condensed"/>
                <a:ea typeface="Times New Roman"/>
              </a:rPr>
              <a:t>MINISTERIO DE EDUCACIÓ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Helvetica Condensed"/>
                <a:ea typeface="Times New Roman"/>
              </a:rPr>
              <a:t>Consejer</a:t>
            </a:r>
            <a:r>
              <a:rPr b="0" lang="es-ES" sz="1100" spc="-1" strike="noStrike">
                <a:solidFill>
                  <a:srgbClr val="000000"/>
                </a:solidFill>
                <a:latin typeface="Helvetica Condensed"/>
                <a:ea typeface="ＭＳ Ｐゴシック"/>
              </a:rPr>
              <a:t>ía de Educación en Aleman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Helvetica Condense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Helvetica Condense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Helvetica Condensed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Helvetica Condensed"/>
                <a:ea typeface="Times New Roman"/>
              </a:rPr>
              <a:t>Diciembre de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404280"/>
            <a:ext cx="7772400" cy="584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64c08"/>
                </a:solidFill>
                <a:latin typeface="Arial"/>
                <a:ea typeface="Arial"/>
              </a:rPr>
              <a:t>¿Por qué FP „dual“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s conocimientos y destrezas necesarias para el ejercicio de una profesión se adquieren en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dos lugares de aprendiza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64c08"/>
                </a:solidFill>
                <a:latin typeface="Arial"/>
                <a:ea typeface="Arial"/>
              </a:rPr>
              <a:t>Requisitos de ac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aber concluído el periodo d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scolaridad obligatori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de-DE" sz="2800" spc="-1" strike="noStrike">
                <a:solidFill>
                  <a:srgbClr val="000000"/>
                </a:solidFill>
                <a:latin typeface="Arial"/>
              </a:rPr>
              <a:t>único requisito en teoría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Los aprendices son seleccionados por las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empres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formador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64c08"/>
                </a:solidFill>
                <a:latin typeface="Arial"/>
                <a:ea typeface="Arial"/>
              </a:rPr>
              <a:t>Duración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abitualmente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3 añ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64c08"/>
                </a:solidFill>
                <a:latin typeface="Arial"/>
                <a:ea typeface="Arial"/>
              </a:rPr>
              <a:t>Titu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apacita para el ejercicio profesional como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técnico especi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REACIÓN DE NUEVAS PROFE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0_DIHK Stuttgart_Frädrich_Página_11"/>
          <p:cNvPicPr/>
          <p:nvPr/>
        </p:nvPicPr>
        <p:blipFill>
          <a:blip r:embed="rId1"/>
          <a:stretch/>
        </p:blipFill>
        <p:spPr>
          <a:xfrm>
            <a:off x="826920" y="1341360"/>
            <a:ext cx="7920360" cy="48704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3851280" y="3357720"/>
            <a:ext cx="136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cretos regulado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3635280" y="414972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Planes de estudio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348000" y="2205000"/>
            <a:ext cx="223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3348000" y="2133720"/>
            <a:ext cx="23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Gobierno Fed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5219640" y="2421000"/>
            <a:ext cx="3527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sterio Federal de Indust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Ministerio Federal de Edu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0"/>
          <p:cNvSpPr/>
          <p:nvPr/>
        </p:nvSpPr>
        <p:spPr>
          <a:xfrm>
            <a:off x="684360" y="1484280"/>
            <a:ext cx="2016000" cy="95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Consens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Ley de la 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1332000" y="371628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Indust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1258920" y="4149720"/>
            <a:ext cx="151272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ámara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sociaciones empresari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Asociaciones profesi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>
            <a:off x="3276720" y="5334120"/>
            <a:ext cx="2736720" cy="14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16 Estados Fede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Conferencia de Ministros de Educación de los Estados (KMK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>
            <a:off x="6227640" y="3716280"/>
            <a:ext cx="21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indica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6588000" y="4869000"/>
            <a:ext cx="172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nstituto Federal de la FP (Bi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252b63"/>
                </a:solidFill>
                <a:latin typeface="Cambria"/>
              </a:rPr>
              <a:t>Ley de formación profe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Derechos y deberes de los </a:t>
            </a:r>
            <a:r>
              <a:rPr b="1" lang="es-ES_tradnl" sz="3200" spc="-1" strike="noStrike">
                <a:solidFill>
                  <a:srgbClr val="252b63"/>
                </a:solidFill>
                <a:latin typeface="Cambria"/>
              </a:rPr>
              <a:t>actores so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Regulación de la </a:t>
            </a:r>
            <a:r>
              <a:rPr b="1" lang="es-ES_tradnl" sz="3200" spc="-1" strike="noStrike">
                <a:solidFill>
                  <a:srgbClr val="252b63"/>
                </a:solidFill>
                <a:latin typeface="Cambria"/>
              </a:rPr>
              <a:t>financi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Investigación, mejora y desarrollo de </a:t>
            </a:r>
            <a:r>
              <a:rPr b="1" lang="es-ES_tradnl" sz="3200" spc="-1" strike="noStrike">
                <a:solidFill>
                  <a:srgbClr val="252b63"/>
                </a:solidFill>
                <a:latin typeface="Cambria"/>
              </a:rPr>
              <a:t>progr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Infraestructura organizativa a través de </a:t>
            </a:r>
            <a:r>
              <a:rPr b="1" lang="es-ES_tradnl" sz="3200" spc="-1" strike="noStrike">
                <a:solidFill>
                  <a:srgbClr val="252b63"/>
                </a:solidFill>
                <a:latin typeface="Cambria"/>
              </a:rPr>
              <a:t>las cáma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Elementos fundamentales del </a:t>
            </a:r>
            <a:r>
              <a:rPr b="1" lang="es-ES_tradnl" sz="3200" spc="-1" strike="noStrike">
                <a:solidFill>
                  <a:srgbClr val="252b63"/>
                </a:solidFill>
                <a:latin typeface="Cambria"/>
              </a:rPr>
              <a:t>sis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040" indent="-28404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Regulación del Instituto Federal de FP (</a:t>
            </a:r>
            <a:r>
              <a:rPr b="1" lang="es-ES_tradnl" sz="3200" spc="-1" strike="noStrike">
                <a:solidFill>
                  <a:srgbClr val="252b63"/>
                </a:solidFill>
                <a:latin typeface="Cambria"/>
              </a:rPr>
              <a:t>BIBB</a:t>
            </a:r>
            <a:r>
              <a:rPr b="0" lang="es-ES_tradnl" sz="3200" spc="-1" strike="noStrike">
                <a:solidFill>
                  <a:srgbClr val="000000"/>
                </a:solidFill>
                <a:latin typeface="Cambri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71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AREAS / COMPETENCIAS DE LOS DISTINTOS AC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0_DIHK Stuttgart_Frädrich_Página_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5"/>
          <p:cNvSpPr/>
          <p:nvPr/>
        </p:nvSpPr>
        <p:spPr>
          <a:xfrm>
            <a:off x="2340000" y="198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FEDER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2843280" y="3500280"/>
            <a:ext cx="3673440" cy="24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licación de la ley de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etencia sobre el Instituto Federal de FP (BiB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poyo a proyectos experimentales y de investig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creta la creacon de nuevos títulos profes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24000" y="333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REAS / COMPETENCIAS DE LOS DISTINT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0_DIHK Stuttgart_Frädrich_Página_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6"/>
          <p:cNvSpPr/>
          <p:nvPr/>
        </p:nvSpPr>
        <p:spPr>
          <a:xfrm>
            <a:off x="0" y="260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REAS / COMPETENCIAS DE LOS DISTINT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340000" y="1989000"/>
            <a:ext cx="23032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INSTITUTO FEDERAL DE F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2556000" y="105264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BiB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3059280" y="3357720"/>
            <a:ext cx="352872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mpuesto por representantes empresariales y sindicales, a nivel federal y de los es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sesora al Ministerio en cuestiones de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evisa los decretos reguldores de los nuevos títulos profesionales elaborados por los estad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0_DIHK Stuttgart_Frädrich_Página_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468360" y="260280"/>
            <a:ext cx="82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324000" y="333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TAREAS / COMPETENCIAS DE LOS DISTINTOS ACT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2484360" y="2276640"/>
            <a:ext cx="23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6 ESTA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059280" y="3645000"/>
            <a:ext cx="2449440" cy="28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Planes de estudio para los centros escolares de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inanciación del profesorado (los municipios aportan edificios y mobilia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trol de las Cáma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3T19:49:39Z</dcterms:created>
  <dc:creator>MAR</dc:creator>
  <dc:description/>
  <dc:language>en-US</dc:language>
  <cp:lastModifiedBy>Gracia</cp:lastModifiedBy>
  <dcterms:modified xsi:type="dcterms:W3CDTF">2012-12-09T17:56:29Z</dcterms:modified>
  <cp:revision>742</cp:revision>
  <dc:subject/>
  <dc:title>LA SALUD EN ESPAÑA</dc:title>
</cp:coreProperties>
</file>