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0360" y="767880"/>
            <a:ext cx="511812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8AE2655B-429F-4E9D-A3AC-B7EB3E926812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333399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C0FA1993-20CE-4949-A8AB-F48B6F73A5D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 Narrow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84400" y="768240"/>
            <a:ext cx="473076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184400" y="768240"/>
            <a:ext cx="473076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09E78915-38D2-4C30-96B6-C5C95AB3FB5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 Narrow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It is important to revise your NA web-sit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Evaluation depending on the Agency, we gather all the experts in a hotel for one week, we train them  and assis them during the whole procedure, other agencies do the evaluation on line and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Mobility the Leonardo committee approves the final l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Partnerships there is a process of match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TOI  a list of possible selected proposals is sent to the Commision, once the commisssion acepts we communicate to the benefici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AEB1C679-8119-431C-8431-8AE98D864F7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 Narrow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11000" y="4861080"/>
            <a:ext cx="5676840" cy="460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1st october in some countries is from the first of septemb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3 Marcador de número de diapositiva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7A0077F0-7FA5-433F-A677-E422E2F9140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333cc"/>
              </a:solidFill>
              <a:latin typeface="Arial Narrow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184400" y="768240"/>
            <a:ext cx="473076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09560" y="4860720"/>
            <a:ext cx="5680080" cy="470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1592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159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1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8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1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8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15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392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7156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15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392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7156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15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15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1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8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1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86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1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1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8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86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1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86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1592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015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" name="Picture 3" descr="OAPEE"/>
          <p:cNvPicPr/>
          <p:nvPr/>
        </p:nvPicPr>
        <p:blipFill>
          <a:blip r:embed="rId5"/>
          <a:stretch/>
        </p:blipFill>
        <p:spPr>
          <a:xfrm>
            <a:off x="6172200" y="6324480"/>
            <a:ext cx="1219320" cy="262080"/>
          </a:xfrm>
          <a:prstGeom prst="rect">
            <a:avLst/>
          </a:prstGeom>
          <a:ln w="0">
            <a:noFill/>
          </a:ln>
        </p:spPr>
      </p:pic>
      <p:sp>
        <p:nvSpPr>
          <p:cNvPr id="2" name="Text Box 8"/>
          <p:cNvSpPr/>
          <p:nvPr/>
        </p:nvSpPr>
        <p:spPr>
          <a:xfrm rot="10800000">
            <a:off x="0" y="0"/>
            <a:ext cx="990720" cy="6858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LEONARDO DA VINCI</a:t>
            </a:r>
            <a:endParaRPr b="1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pic>
        <p:nvPicPr>
          <p:cNvPr id="3" name="" descr=""/>
          <p:cNvPicPr/>
          <p:nvPr/>
        </p:nvPicPr>
        <p:blipFill>
          <a:blip r:embed="rId6"/>
          <a:stretch/>
        </p:blipFill>
        <p:spPr>
          <a:xfrm>
            <a:off x="1403280" y="6165720"/>
            <a:ext cx="1800360" cy="503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oapee.es/dctm/weboapee/convocatoria/2013/convocatoria-nacional-2013/documentos-limpios/anexoixnormas-administrativas-y-nacionales2013.pdf?documentId=0901e72b8145e12e" TargetMode="External"/><Relationship Id="rId2" Type="http://schemas.openxmlformats.org/officeDocument/2006/relationships/hyperlink" Target="http://www.oapee.es/dctm/weboapee/convocatoria/2013/convocatoria-nacional-2013/documentos-limpios/anexoixnormas-administrativas-y-nacionales2013.pdf?documentId=0901e72b8145e12e" TargetMode="External"/><Relationship Id="rId3" Type="http://schemas.openxmlformats.org/officeDocument/2006/relationships/hyperlink" Target="http://www.oapee.es/dctm/weboapee/convocatoria/2013/convocatoria-nacional-2013/documentos-limpios/anexoixnormas-administrativas-y-nacionales2013.pdf?documentId=0901e72b8145e12e" TargetMode="External"/><Relationship Id="rId4" Type="http://schemas.openxmlformats.org/officeDocument/2006/relationships/hyperlink" Target="http://www.oapee.es/dctm/weboapee/convocatoria/2013/convocatoria-nacional-2013/documentos-limpios/anexoixnormas-administrativas-y-nacionales2013.pdf?documentId=0901e72b8145e12e" TargetMode="External"/><Relationship Id="rId5" Type="http://schemas.openxmlformats.org/officeDocument/2006/relationships/hyperlink" Target="http://www.oapee.es/dctm/weboapee/convocatoria/2013/convocatoria-nacional-2013/documentos-limpios/anexoixnormas-administrativas-y-nacionales2013.pdf?documentId=0901e72b8145e12e" TargetMode="External"/><Relationship Id="rId6" Type="http://schemas.openxmlformats.org/officeDocument/2006/relationships/hyperlink" Target="http://www.oapee.es/dctm/weboapee/convocatoria/2013/convocatoria-nacional-2013/documentos-limpios/anexoixnormas-administrativas-y-nacionales2013.pdf?documentId=0901e72b8145e12e" TargetMode="External"/><Relationship Id="rId7" Type="http://schemas.openxmlformats.org/officeDocument/2006/relationships/hyperlink" Target="http://www.oapee.es/dctm/weboapee/convocatoria/2013/convocatoria-nacional-2013/documentos-limpios/anexoixnormas-administrativas-y-nacionales2013.pdf?documentId=0901e72b8145e12e" TargetMode="External"/><Relationship Id="rId8" Type="http://schemas.openxmlformats.org/officeDocument/2006/relationships/hyperlink" Target="http://www.oapee.es/dctm/weboapee/convocatoria/2013/convocatoria-nacional-2013/documentos-limpios/anexoixnormas-administrativas-y-nacionales2013.pdf?documentId=0901e72b8145e12e" TargetMode="External"/><Relationship Id="rId9" Type="http://schemas.openxmlformats.org/officeDocument/2006/relationships/hyperlink" Target="http://www.oapee.es/dctm/weboapee/convocatoria/2013/convocatoria-nacional-2013/documentos-limpios/anexoixnormas-administrativas-y-nacionales2013.pdf?documentId=0901e72b8145e12e" TargetMode="External"/><Relationship Id="rId10" Type="http://schemas.openxmlformats.org/officeDocument/2006/relationships/hyperlink" Target="http://www.oapee.es/dctm/weboapee/convocatoria/2013/convocatoria-nacional-2013/documentos-limpios/anexoixnormas-administrativas-y-nacionales2013.pdf?documentId=0901e72b8145e12e" TargetMode="External"/><Relationship Id="rId11" Type="http://schemas.openxmlformats.org/officeDocument/2006/relationships/hyperlink" Target="http://www.oapee.es/dctm/weboapee/convocatoria/2013/convocatoria-nacional-2013/documentos-limpios/anexoixnormas-administrativas-y-nacionales2013.pdf?documentId=0901e72b8145e12e" TargetMode="External"/><Relationship Id="rId12" Type="http://schemas.openxmlformats.org/officeDocument/2006/relationships/hyperlink" Target="http://www.oapee.es/dctm/weboapee/convocatoria/2013/convocatoria-nacional-2013/documentos-limpios/anexoixnormas-administrativas-y-nacionales2013.pdf?documentId=0901e72b8145e12e" TargetMode="External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476360" y="1773360"/>
            <a:ext cx="7005600" cy="2357280"/>
          </a:xfrm>
          <a:prstGeom prst="rect">
            <a:avLst/>
          </a:prstGeom>
          <a:noFill/>
          <a:ln w="57240">
            <a:solidFill>
              <a:srgbClr val="ff6600"/>
            </a:solidFill>
            <a:miter/>
          </a:ln>
        </p:spPr>
        <p:txBody>
          <a:bodyPr anchor="t">
            <a:normAutofit fontScale="67000"/>
          </a:bodyPr>
          <a:p>
            <a:pPr marL="229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cc"/>
              </a:solidFill>
              <a:latin typeface="Arial"/>
            </a:endParaRPr>
          </a:p>
          <a:p>
            <a:pPr marL="22968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i="1" lang="es-ES_tradnl" sz="7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3333cc"/>
              </a:solidFill>
              <a:latin typeface="Arial"/>
            </a:endParaRPr>
          </a:p>
          <a:p>
            <a:pPr marL="2296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2296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Arial Narrow"/>
              </a:rPr>
              <a:t>VI JORNADA DE PROMOTORE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2296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cc"/>
              </a:solidFill>
              <a:latin typeface="Arial"/>
            </a:endParaRPr>
          </a:p>
          <a:p>
            <a:pPr marL="229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 Narrow"/>
              </a:rPr>
              <a:t>GRUPO DE TRABAJO LEONARDO DA VINCI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2296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229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22968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700" spc="-1" strike="noStrike">
                <a:solidFill>
                  <a:srgbClr val="3333cc"/>
                </a:solidFill>
                <a:latin typeface="Arial Narrow"/>
              </a:rPr>
              <a:t>                               </a:t>
            </a:r>
            <a:endParaRPr b="0" lang="en-US" sz="700" spc="-1" strike="noStrike">
              <a:solidFill>
                <a:srgbClr val="3333cc"/>
              </a:solidFill>
              <a:latin typeface="Arial"/>
            </a:endParaRPr>
          </a:p>
          <a:p>
            <a:pPr marL="229680" indent="0" algn="ctr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333cc"/>
              </a:solidFill>
              <a:latin typeface="Arial"/>
            </a:endParaRPr>
          </a:p>
          <a:p>
            <a:pPr marL="2296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Arial Narrow"/>
              </a:rPr>
              <a:t>                 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  <a:p>
            <a:pPr marL="22968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 Narrow"/>
              </a:rPr>
              <a:t>                                </a:t>
            </a:r>
            <a:r>
              <a:rPr b="1" lang="es-ES_tradnl" sz="1800" spc="-1" strike="noStrike">
                <a:solidFill>
                  <a:srgbClr val="3333cc"/>
                </a:solidFill>
                <a:latin typeface="Arial Narrow"/>
              </a:rPr>
              <a:t>Madrid, 12 de diciembre de 2012</a:t>
            </a:r>
            <a:r>
              <a:rPr b="1" lang="es-ES_tradnl" sz="18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1" lang="es-ES_tradnl" sz="1800" spc="-1" strike="noStrike">
                <a:solidFill>
                  <a:srgbClr val="3333cc"/>
                </a:solidFill>
                <a:latin typeface="Arial Narrow"/>
              </a:rPr>
              <a:t>	</a:t>
            </a:r>
            <a:endParaRPr b="0" lang="en-US" sz="1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1600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 Narrow"/>
              </a:rPr>
              <a:t>Convocatoria Nacional (1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1592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 Narrow"/>
              </a:rPr>
              <a:t>Desaparecen las prioridades Nacionales. 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 Narrow"/>
              </a:rPr>
              <a:t>Se establece un número máximo de participantes por proyecto para nuevos solicitantes (30).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 Narrow"/>
              </a:rPr>
              <a:t>Se establece un número máximo de participantes por proyecto (100) para cualquier proyecto (a excepción de los que están certificados)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015920" y="1197000"/>
            <a:ext cx="77724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 Narrow"/>
              </a:rPr>
              <a:t>Se mantienen las tablas de manutención, costes de OM y Preparación de la Convocatoria 2012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 Narrow"/>
              </a:rPr>
              <a:t>Se mantiene la reserva del 30% del porcentaje total de la financiación para proyectos IVT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 Narrow"/>
              </a:rPr>
              <a:t>Se mantiene la reserva el 40% del total de la financiación para proyectos con certificado de calidad Leonardo da Vinci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title"/>
          </p:nvPr>
        </p:nvSpPr>
        <p:spPr>
          <a:xfrm>
            <a:off x="1116000" y="188640"/>
            <a:ext cx="77040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 Narrow"/>
              </a:rPr>
              <a:t>Convocatoria Nacional (2)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7427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Arial Narrow"/>
              </a:rPr>
              <a:t>CAPACIDAD FINANCIERA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15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De acuerdo con el nuevo reglamento financiero de la UE, en caso de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 Narrow"/>
              </a:rPr>
              <a:t>organismos o instituciones que no sean públicos</a:t>
            </a: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, con el fin de permitir la evaluación de su capacidad financiera, deberán presentar documentación adicional en el caso de solicitudes de subvención superior a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 Narrow"/>
              </a:rPr>
              <a:t>60.000 €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400" y="981000"/>
            <a:ext cx="8229600" cy="30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Transferencia de Innovación</a:t>
            </a:r>
            <a:br>
              <a:rPr sz="3600"/>
            </a:b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Convocatoria 2013</a:t>
            </a: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Novedades</a:t>
            </a:r>
            <a:r>
              <a:rPr b="0" i="1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537372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MS Gothic"/>
              </a:rPr>
              <a:t>Comisión Formación 29/10/09</a:t>
            </a:r>
            <a:endParaRPr b="1" lang="en-US" sz="20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77" name=""/>
          <p:cNvSpPr/>
          <p:nvPr/>
        </p:nvSpPr>
        <p:spPr>
          <a:xfrm>
            <a:off x="1908000" y="4005360"/>
            <a:ext cx="5185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 Narrow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4995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 Narrow"/>
              </a:rPr>
              <a:t>Prioridade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15920" y="1125000"/>
            <a:ext cx="77724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 Narrow"/>
              </a:rPr>
              <a:t>Desarrollo y transferencia de estrategias de movilidad en la EFP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  </a:t>
            </a: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Desaparece prioridad 2012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 Narrow"/>
              </a:rPr>
              <a:t>Estrategias para reducir el abandono escolar prematuro en la EPF inicial</a:t>
            </a: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    </a:t>
            </a: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Nueva prioridad 2013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 Narrow"/>
              </a:rPr>
              <a:t>Equilibrio de prioridad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 Narrow"/>
              </a:rPr>
              <a:t>NO HAY PRIORIDADES NACIONAL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58560" y="260280"/>
            <a:ext cx="7427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3333cc"/>
                </a:solidFill>
                <a:latin typeface="Arial Narrow"/>
              </a:rPr>
              <a:t>CAPACIDAD FINANCIERA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1592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Arial Narrow"/>
              </a:rPr>
              <a:t>De acuerdo con el nuevo reglamento financiero de la UE, en caso de </a:t>
            </a:r>
            <a:r>
              <a:rPr b="0" lang="es-ES" sz="2800" spc="-1" strike="noStrike" u="sng">
                <a:solidFill>
                  <a:srgbClr val="3333cc"/>
                </a:solidFill>
                <a:uFillTx/>
                <a:latin typeface="Arial Narrow"/>
              </a:rPr>
              <a:t>organismos o instituciones que no sean públicos</a:t>
            </a:r>
            <a:r>
              <a:rPr b="0" lang="es-ES" sz="2800" spc="-1" strike="noStrike">
                <a:solidFill>
                  <a:srgbClr val="3333cc"/>
                </a:solidFill>
                <a:latin typeface="Arial Narrow"/>
              </a:rPr>
              <a:t>, con el fin de permitir la evaluación de su capacidad financiera, deberán presentar documentación adicional en el caso de solicitudes de subvención superior a </a:t>
            </a:r>
            <a:r>
              <a:rPr b="0" lang="es-ES" sz="2800" spc="-1" strike="noStrike" u="sng">
                <a:solidFill>
                  <a:srgbClr val="3333cc"/>
                </a:solidFill>
                <a:uFillTx/>
                <a:latin typeface="Arial Narrow"/>
              </a:rPr>
              <a:t>60.000 €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Arial Narrow"/>
              </a:rPr>
              <a:t>Si se trata de solicitudes de subvención superiores a </a:t>
            </a:r>
            <a:r>
              <a:rPr b="0" lang="es-ES" sz="2800" spc="-1" strike="noStrike" u="sng">
                <a:solidFill>
                  <a:srgbClr val="3333cc"/>
                </a:solidFill>
                <a:uFillTx/>
                <a:latin typeface="Arial Narrow"/>
              </a:rPr>
              <a:t>750.000 €</a:t>
            </a:r>
            <a:r>
              <a:rPr b="0" lang="es-ES" sz="2800" spc="-1" strike="noStrike">
                <a:solidFill>
                  <a:srgbClr val="3333cc"/>
                </a:solidFill>
                <a:latin typeface="Arial Narrow"/>
              </a:rPr>
              <a:t>, deberán presentar, además, un informe de auditoría externa realizado por un auditor autorizado certificando las cuentas del último ejercicio económico disponible</a:t>
            </a:r>
            <a:r>
              <a:rPr b="0" lang="es-ES" sz="2000" spc="-1" strike="noStrike">
                <a:solidFill>
                  <a:srgbClr val="3333cc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981000"/>
            <a:ext cx="8229600" cy="30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Asociaciones</a:t>
            </a:r>
            <a:br>
              <a:rPr sz="3600"/>
            </a:b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Convocatoria 2013</a:t>
            </a: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ff9900"/>
                </a:solidFill>
                <a:latin typeface="Arial"/>
              </a:rPr>
              <a:t>Novedades</a:t>
            </a:r>
            <a:r>
              <a:rPr b="0" i="1" lang="en-US" sz="3600" spc="-1" strike="noStrike">
                <a:solidFill>
                  <a:srgbClr val="3333cc"/>
                </a:solidFill>
                <a:latin typeface="Arial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2000" y="537372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MS Gothic"/>
              </a:rPr>
              <a:t>Comisión Formación 29/10/09</a:t>
            </a:r>
            <a:endParaRPr b="1" lang="en-US" sz="2000" spc="-1" strike="noStrike">
              <a:solidFill>
                <a:srgbClr val="3333cc"/>
              </a:solidFill>
              <a:latin typeface="Arial Narrow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15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En una misma Asociación Leonardo da Vinci podrán participar como máximo </a:t>
            </a:r>
            <a:r>
              <a:rPr b="1" lang="en-US" sz="2800" spc="-1" strike="noStrike" u="sng">
                <a:solidFill>
                  <a:srgbClr val="3333cc"/>
                </a:solidFill>
                <a:uFillTx/>
                <a:latin typeface="Arial Narrow"/>
              </a:rPr>
              <a:t>dos</a:t>
            </a: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 instituciones españolas (dos socios o un coordinador y un socio)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Se incrementa el importe máximo de la subvención de las movilidades 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1 Diagrama" descr=""/>
          <p:cNvPicPr/>
          <p:nvPr/>
        </p:nvPicPr>
        <p:blipFill>
          <a:blip r:embed="rId1"/>
          <a:stretch/>
        </p:blipFill>
        <p:spPr>
          <a:xfrm>
            <a:off x="755640" y="0"/>
            <a:ext cx="8388360" cy="7172280"/>
          </a:xfrm>
          <a:prstGeom prst="rect">
            <a:avLst/>
          </a:prstGeom>
          <a:ln w="0">
            <a:noFill/>
          </a:ln>
        </p:spPr>
      </p:pic>
      <p:sp>
        <p:nvSpPr>
          <p:cNvPr id="87" name="2 Rectángulo"/>
          <p:cNvSpPr/>
          <p:nvPr/>
        </p:nvSpPr>
        <p:spPr>
          <a:xfrm>
            <a:off x="1116000" y="0"/>
            <a:ext cx="8028000" cy="22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611280" y="-360"/>
            <a:ext cx="80755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89" name="4 Rectángulo"/>
          <p:cNvSpPr/>
          <p:nvPr/>
        </p:nvSpPr>
        <p:spPr>
          <a:xfrm>
            <a:off x="1042920" y="907920"/>
            <a:ext cx="2016360" cy="1008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lbertus Extra Bold"/>
              </a:rPr>
              <a:t>TOI</a:t>
            </a:r>
            <a:endParaRPr b="1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0" name="10 Rectángulo"/>
          <p:cNvSpPr/>
          <p:nvPr/>
        </p:nvSpPr>
        <p:spPr>
          <a:xfrm>
            <a:off x="5003640" y="692280"/>
            <a:ext cx="3816360" cy="151272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lbertus Extra Bold"/>
              </a:rPr>
              <a:t>31 enero 2013</a:t>
            </a:r>
            <a:endParaRPr b="1" lang="en-US" sz="3200" spc="-1" strike="noStrike">
              <a:solidFill>
                <a:srgbClr val="3333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lbertus Extra Bold"/>
              </a:rPr>
              <a:t>Envío a la AN</a:t>
            </a:r>
            <a:endParaRPr b="1" lang="en-US" sz="3200" spc="-1" strike="noStrike">
              <a:solidFill>
                <a:srgbClr val="3333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1" name="11 Flecha derecha"/>
          <p:cNvSpPr/>
          <p:nvPr/>
        </p:nvSpPr>
        <p:spPr>
          <a:xfrm>
            <a:off x="3203640" y="1125360"/>
            <a:ext cx="1297080" cy="648000"/>
          </a:xfrm>
          <a:prstGeom prst="rightArrow">
            <a:avLst>
              <a:gd name="adj1" fmla="val 50000"/>
              <a:gd name="adj2" fmla="val 38921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2" name="13 Rectángulo"/>
          <p:cNvSpPr/>
          <p:nvPr/>
        </p:nvSpPr>
        <p:spPr>
          <a:xfrm>
            <a:off x="1187280" y="31417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3" name="14 Rectángulo"/>
          <p:cNvSpPr/>
          <p:nvPr/>
        </p:nvSpPr>
        <p:spPr>
          <a:xfrm>
            <a:off x="1116000" y="2852640"/>
            <a:ext cx="2087640" cy="10080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lbertus Extra Bold"/>
              </a:rPr>
              <a:t>MOVILIDAD</a:t>
            </a:r>
            <a:endParaRPr b="1" lang="en-US" sz="24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4" name="16 Flecha derecha"/>
          <p:cNvSpPr/>
          <p:nvPr/>
        </p:nvSpPr>
        <p:spPr>
          <a:xfrm>
            <a:off x="3203640" y="2781360"/>
            <a:ext cx="1512720" cy="863640"/>
          </a:xfrm>
          <a:prstGeom prst="rightArrow">
            <a:avLst>
              <a:gd name="adj1" fmla="val 100000"/>
              <a:gd name="adj2" fmla="val 5004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5" name="19 Flecha derecha"/>
          <p:cNvSpPr/>
          <p:nvPr/>
        </p:nvSpPr>
        <p:spPr>
          <a:xfrm>
            <a:off x="3348000" y="2924280"/>
            <a:ext cx="1295280" cy="649080"/>
          </a:xfrm>
          <a:prstGeom prst="rightArrow">
            <a:avLst>
              <a:gd name="adj1" fmla="val 50000"/>
              <a:gd name="adj2" fmla="val 49907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6" name="20 Rectángulo"/>
          <p:cNvSpPr/>
          <p:nvPr/>
        </p:nvSpPr>
        <p:spPr>
          <a:xfrm>
            <a:off x="1258920" y="4869000"/>
            <a:ext cx="16574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7" name="21 Rectángulo"/>
          <p:cNvSpPr/>
          <p:nvPr/>
        </p:nvSpPr>
        <p:spPr>
          <a:xfrm>
            <a:off x="1042920" y="4724280"/>
            <a:ext cx="2233800" cy="914400"/>
          </a:xfrm>
          <a:prstGeom prst="rect">
            <a:avLst/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lbertus Extra Bold"/>
              </a:rPr>
              <a:t>ASOCIACIONES</a:t>
            </a:r>
            <a:endParaRPr b="1" lang="en-US" sz="20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8" name="22 Flecha derecha"/>
          <p:cNvSpPr/>
          <p:nvPr/>
        </p:nvSpPr>
        <p:spPr>
          <a:xfrm>
            <a:off x="3635280" y="4869000"/>
            <a:ext cx="979560" cy="772920"/>
          </a:xfrm>
          <a:prstGeom prst="rightArrow">
            <a:avLst>
              <a:gd name="adj1" fmla="val 50000"/>
              <a:gd name="adj2" fmla="val 50042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99" name="23 Rectángulo"/>
          <p:cNvSpPr/>
          <p:nvPr/>
        </p:nvSpPr>
        <p:spPr>
          <a:xfrm>
            <a:off x="5867280" y="3068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00" name="24 Rectángulo"/>
          <p:cNvSpPr/>
          <p:nvPr/>
        </p:nvSpPr>
        <p:spPr>
          <a:xfrm>
            <a:off x="5003640" y="2708280"/>
            <a:ext cx="3816360" cy="1584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lbertus Extra Bold"/>
              </a:rPr>
              <a:t>1 febrero 2013</a:t>
            </a:r>
            <a:endParaRPr b="1" lang="en-US" sz="2800" spc="-1" strike="noStrike">
              <a:solidFill>
                <a:srgbClr val="3333cc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lbertus Extra Bold"/>
              </a:rPr>
              <a:t>Envío a la AN</a:t>
            </a:r>
            <a:endParaRPr b="1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01" name="25 Flecha derecha"/>
          <p:cNvSpPr/>
          <p:nvPr/>
        </p:nvSpPr>
        <p:spPr>
          <a:xfrm>
            <a:off x="3564000" y="4869000"/>
            <a:ext cx="1152360" cy="647640"/>
          </a:xfrm>
          <a:prstGeom prst="rightArrow">
            <a:avLst>
              <a:gd name="adj1" fmla="val 50000"/>
              <a:gd name="adj2" fmla="val 50043"/>
            </a:avLst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02" name="26 Flecha derecha"/>
          <p:cNvSpPr/>
          <p:nvPr/>
        </p:nvSpPr>
        <p:spPr>
          <a:xfrm>
            <a:off x="4140360" y="5084640"/>
            <a:ext cx="977760" cy="486000"/>
          </a:xfrm>
          <a:prstGeom prst="rightArrow">
            <a:avLst>
              <a:gd name="adj1" fmla="val 50000"/>
              <a:gd name="adj2" fmla="val 4983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03" name="27 Rectángulo"/>
          <p:cNvSpPr/>
          <p:nvPr/>
        </p:nvSpPr>
        <p:spPr>
          <a:xfrm>
            <a:off x="5076720" y="4581360"/>
            <a:ext cx="3743280" cy="1368720"/>
          </a:xfrm>
          <a:prstGeom prst="rect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lbertus Extra Bold"/>
              </a:rPr>
              <a:t>21 febrero 2013 Envío a cada AN</a:t>
            </a:r>
            <a:endParaRPr b="1" lang="en-US" sz="28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104" name="20 Flecha derecha"/>
          <p:cNvSpPr/>
          <p:nvPr/>
        </p:nvSpPr>
        <p:spPr>
          <a:xfrm>
            <a:off x="3780000" y="3213000"/>
            <a:ext cx="977760" cy="484200"/>
          </a:xfrm>
          <a:prstGeom prst="rightArrow">
            <a:avLst>
              <a:gd name="adj1" fmla="val 50000"/>
              <a:gd name="adj2" fmla="val 5001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15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CONVOCATORIA DE PROPUESTAS 2013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58920" y="189000"/>
            <a:ext cx="720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 Narrow"/>
              </a:rPr>
              <a:t>DESPUÉS DE LA PRESENTACIÓN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6" name="3 Marcador de contenido" descr=""/>
          <p:cNvPicPr/>
          <p:nvPr/>
        </p:nvPicPr>
        <p:blipFill>
          <a:blip r:embed="rId1"/>
          <a:stretch/>
        </p:blipFill>
        <p:spPr>
          <a:xfrm>
            <a:off x="1116000" y="1052640"/>
            <a:ext cx="7777080" cy="511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31640" y="259920"/>
            <a:ext cx="7127640" cy="6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 Narrow"/>
              </a:rPr>
              <a:t>DURACIÓN DE LOS CONTRATO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pic>
        <p:nvPicPr>
          <p:cNvPr id="108" name="3 Marcador de contenido" descr=""/>
          <p:cNvPicPr/>
          <p:nvPr/>
        </p:nvPicPr>
        <p:blipFill>
          <a:blip r:embed="rId1"/>
          <a:stretch/>
        </p:blipFill>
        <p:spPr>
          <a:xfrm>
            <a:off x="1116000" y="1341360"/>
            <a:ext cx="7559640" cy="4824360"/>
          </a:xfrm>
          <a:prstGeom prst="rect">
            <a:avLst/>
          </a:prstGeom>
          <a:ln w="0">
            <a:noFill/>
          </a:ln>
        </p:spPr>
      </p:pic>
      <p:sp>
        <p:nvSpPr>
          <p:cNvPr id="109" name="5 Conector recto"/>
          <p:cNvSpPr/>
          <p:nvPr/>
        </p:nvSpPr>
        <p:spPr>
          <a:xfrm>
            <a:off x="826920" y="1268280"/>
            <a:ext cx="7417080" cy="0"/>
          </a:xfrm>
          <a:prstGeom prst="line">
            <a:avLst/>
          </a:prstGeom>
          <a:ln w="12708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15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Narrow"/>
              </a:rPr>
              <a:t>Muchas gracias por su atención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 Narrow"/>
              </a:rPr>
              <a:t>Programa Sectorial Leonardo da Vinci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64090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Narrow"/>
              </a:rPr>
              <a:t>Normativa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15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Convocatoria europea y nacional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Guía del PAP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-Parte I. Disposiciones general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-Parte II a. Subprogramas y accion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	</a:t>
            </a:r>
            <a:r>
              <a:rPr b="0" lang="en-US" sz="2800" spc="-1" strike="noStrike">
                <a:solidFill>
                  <a:srgbClr val="3333cc"/>
                </a:solidFill>
                <a:latin typeface="Arial Narrow"/>
              </a:rPr>
              <a:t>-Parte II b. Ficha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900000" y="210960"/>
            <a:ext cx="8244000" cy="6647040"/>
            <a:chOff x="900000" y="210960"/>
            <a:chExt cx="8244000" cy="6647040"/>
          </a:xfrm>
        </p:grpSpPr>
        <p:pic>
          <p:nvPicPr>
            <p:cNvPr id="55" name="Rectangle 2" descr=""/>
            <p:cNvPicPr/>
            <p:nvPr/>
          </p:nvPicPr>
          <p:blipFill>
            <a:blip r:embed="rId1"/>
            <a:stretch/>
          </p:blipFill>
          <p:spPr>
            <a:xfrm>
              <a:off x="900000" y="210960"/>
              <a:ext cx="8244000" cy="6647040"/>
            </a:xfrm>
            <a:prstGeom prst="rect">
              <a:avLst/>
            </a:prstGeom>
            <a:ln w="9360">
              <a:solidFill>
                <a:srgbClr val="0000ff"/>
              </a:solidFill>
              <a:miter/>
            </a:ln>
          </p:spPr>
        </p:pic>
        <p:sp>
          <p:nvSpPr>
            <p:cNvPr id="56" name=""/>
            <p:cNvSpPr txBox="1"/>
            <p:nvPr/>
          </p:nvSpPr>
          <p:spPr>
            <a:xfrm>
              <a:off x="900000" y="210960"/>
              <a:ext cx="8244000" cy="66470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499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3333cc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476360" y="2781360"/>
            <a:ext cx="792000" cy="341280"/>
          </a:xfrm>
          <a:prstGeom prst="rightArrow">
            <a:avLst>
              <a:gd name="adj1" fmla="val 50000"/>
              <a:gd name="adj2" fmla="val 5801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333cc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7280" y="691920"/>
            <a:ext cx="749952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Arial Narrow"/>
              </a:rPr>
              <a:t>Normas administrativas y prioridades nacionales</a:t>
            </a:r>
            <a:endParaRPr b="0" lang="en-US" sz="32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15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ccff"/>
                </a:solidFill>
                <a:uFillTx/>
                <a:latin typeface="Arial Narrow"/>
                <a:hlinkClick r:id="rId1"/>
              </a:rPr>
              <a:t>ANEXO IX DE LA CONVOCATORIA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</a:t>
            </a:r>
            <a:r>
              <a:rPr b="0" lang="es-ES_tradnl" sz="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www.oapee.es</a:t>
            </a:r>
            <a:r>
              <a:rPr b="0" lang="es-ES_tradnl" sz="8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/</a:t>
            </a:r>
            <a:r>
              <a:rPr b="0" lang="es-ES_tradnl" sz="8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dctm</a:t>
            </a:r>
            <a:r>
              <a:rPr b="0" lang="es-ES_tradnl" sz="8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/</a:t>
            </a:r>
            <a:r>
              <a:rPr b="0" lang="es-ES_tradnl" sz="8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weboapee</a:t>
            </a:r>
            <a:r>
              <a:rPr b="0" lang="es-ES_tradnl" sz="8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/convocatoria/2013/convocatoria-nacional-2013/documentos-limpios/</a:t>
            </a:r>
            <a:r>
              <a:rPr b="0" lang="es-ES_tradnl" sz="8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anexoixnormas</a:t>
            </a:r>
            <a:r>
              <a:rPr b="0" lang="es-ES_tradnl" sz="8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-administrativas-y-nacionales2013.</a:t>
            </a:r>
            <a:r>
              <a:rPr b="0" lang="es-ES_tradnl" sz="8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pdf?documentId</a:t>
            </a:r>
            <a:r>
              <a:rPr b="0" lang="es-ES_tradnl" sz="8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=0901e72b8145e12e</a:t>
            </a:r>
            <a:endParaRPr b="0" lang="en-US" sz="800" spc="-1" strike="noStrike">
              <a:solidFill>
                <a:srgbClr val="3333cc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Arial Narrow"/>
              </a:rPr>
              <a:t>No hay prioridades nacionales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15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9900"/>
                </a:solidFill>
                <a:latin typeface="Arial Narrow"/>
              </a:rPr>
              <a:t>Leonardo da Vinci</a:t>
            </a:r>
            <a:br>
              <a:rPr sz="4000"/>
            </a:br>
            <a:r>
              <a:rPr b="1" i="1" lang="en-US" sz="3600" spc="-1" strike="noStrike">
                <a:solidFill>
                  <a:srgbClr val="ff9900"/>
                </a:solidFill>
                <a:latin typeface="Arial Narrow"/>
              </a:rPr>
              <a:t>Convocatoria 2013</a:t>
            </a: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ff9900"/>
                </a:solidFill>
                <a:latin typeface="Arial Narrow"/>
              </a:rPr>
              <a:t>Novedades</a:t>
            </a:r>
            <a:r>
              <a:rPr b="0" i="1" lang="en-US" sz="3600" spc="-1" strike="noStrike">
                <a:solidFill>
                  <a:srgbClr val="3333cc"/>
                </a:solidFill>
                <a:latin typeface="Arial Narrow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981000"/>
            <a:ext cx="8229600" cy="301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4000"/>
            </a:br>
            <a:br>
              <a:rPr sz="4000"/>
            </a:br>
            <a:r>
              <a:rPr b="1" i="1" lang="en-US" sz="4000" spc="-1" strike="noStrike">
                <a:solidFill>
                  <a:srgbClr val="ff9900"/>
                </a:solidFill>
                <a:latin typeface="Arial Narrow"/>
              </a:rPr>
              <a:t>Movilidad</a:t>
            </a:r>
            <a:r>
              <a:rPr b="1" i="1" lang="en-US" sz="4400" spc="-1" strike="noStrike">
                <a:solidFill>
                  <a:srgbClr val="ff9900"/>
                </a:solidFill>
                <a:latin typeface="Arial Narrow"/>
              </a:rPr>
              <a:t> </a:t>
            </a:r>
            <a:br>
              <a:rPr sz="3600"/>
            </a:br>
            <a:r>
              <a:rPr b="1" i="1" lang="en-US" sz="3600" spc="-1" strike="noStrike">
                <a:solidFill>
                  <a:srgbClr val="ff9900"/>
                </a:solidFill>
                <a:latin typeface="Arial Narrow"/>
              </a:rPr>
              <a:t>Convocatoria 2013</a:t>
            </a:r>
            <a:br>
              <a:rPr sz="3600"/>
            </a:br>
            <a:br>
              <a:rPr sz="3600"/>
            </a:br>
            <a:r>
              <a:rPr b="1" i="1" lang="en-US" sz="3600" spc="-1" strike="noStrike">
                <a:solidFill>
                  <a:srgbClr val="ff9900"/>
                </a:solidFill>
                <a:latin typeface="Arial Narrow"/>
              </a:rPr>
              <a:t>Novedades</a:t>
            </a:r>
            <a:r>
              <a:rPr b="0" i="1" lang="en-US" sz="3600" spc="-1" strike="noStrike">
                <a:solidFill>
                  <a:srgbClr val="3333cc"/>
                </a:solidFill>
                <a:latin typeface="Arial Narrow"/>
              </a:rPr>
              <a:t> </a:t>
            </a:r>
            <a:br>
              <a:rPr sz="3600"/>
            </a:b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537372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  <a:ea typeface="MS Gothic"/>
              </a:rPr>
              <a:t>Comisión Formación 29/10/09</a:t>
            </a:r>
            <a:endParaRPr b="1" lang="en-US" sz="2000" spc="-1" strike="noStrike">
              <a:solidFill>
                <a:srgbClr val="3333cc"/>
              </a:solidFill>
              <a:latin typeface="Arial Narrow"/>
            </a:endParaRPr>
          </a:p>
        </p:txBody>
      </p:sp>
      <p:sp>
        <p:nvSpPr>
          <p:cNvPr id="64" name=""/>
          <p:cNvSpPr/>
          <p:nvPr/>
        </p:nvSpPr>
        <p:spPr>
          <a:xfrm>
            <a:off x="1908000" y="4005360"/>
            <a:ext cx="5185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3333cc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MS Gothic"/>
              </a:rPr>
              <a:t>Comisión de Formación 29/10/09</a:t>
            </a:r>
            <a:endParaRPr b="1" lang="en-US" sz="2000" spc="-1" strike="noStrike">
              <a:solidFill>
                <a:srgbClr val="3333cc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160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 Narrow"/>
              </a:rPr>
              <a:t>Prioridades Estratégicas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6920" y="1413000"/>
            <a:ext cx="762804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 Narrow"/>
              </a:rPr>
              <a:t>Se valora especialmente la gestión de la calidad de la movilidad basada en los principios  de la Carta Europea de la Calidad de la Movilidad (especial hincapié en la organización y la preparación de la movilidad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 Narrow"/>
              </a:rPr>
              <a:t>Novedad</a:t>
            </a:r>
            <a:r>
              <a:rPr b="0" lang="en-GB" sz="2400" spc="-1" strike="noStrike">
                <a:solidFill>
                  <a:srgbClr val="3333cc"/>
                </a:solidFill>
                <a:latin typeface="Arial Narrow"/>
              </a:rPr>
              <a:t>: Se fomenta el desarrollo y aplicación de los elementos ECVET (de poca relevancia en España todavía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29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  <a:p>
            <a:pPr marL="329040" indent="-329040" algn="just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 Narrow"/>
              </a:rPr>
              <a:t>Novedad</a:t>
            </a:r>
            <a:r>
              <a:rPr b="0" lang="en-GB" sz="2400" spc="-1" strike="noStrike">
                <a:solidFill>
                  <a:srgbClr val="3333cc"/>
                </a:solidFill>
                <a:latin typeface="Arial Narrow"/>
              </a:rPr>
              <a:t>: Para proyectos IVT: se incentivarán las propuestas de los Consorcios de movilidad LdV (propuesta que aglutina varios centros)</a:t>
            </a:r>
            <a:endParaRPr b="0" lang="en-US" sz="24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620640"/>
            <a:ext cx="81583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Arial Narrow"/>
              </a:rPr>
              <a:t>Formulario de solicitud</a:t>
            </a:r>
            <a:endParaRPr b="0" lang="en-US" sz="3600" spc="-1" strike="noStrike">
              <a:solidFill>
                <a:srgbClr val="3333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 Narrow"/>
              </a:rPr>
              <a:t>Incorpora en todos los apartados la posibilidad de enfocar las respuestas referenciándolas al sistema de créditos ECVET. 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cc"/>
                </a:solidFill>
                <a:latin typeface="Arial Narrow"/>
              </a:rPr>
              <a:t>SÓLO para aquellos familiarizados con dicho sistema. La gran mayoría de solicitantes debe ignorar los apartados del formulario que incluyen referencias a dicho sistema (siempre en segundo lugar e indicado en el formulario como opcional para los proyectos que apliquen elementos ECVET)</a:t>
            </a:r>
            <a:endParaRPr b="0" lang="en-US" sz="2800" spc="-1" strike="noStrike">
              <a:solidFill>
                <a:srgbClr val="33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1T07:15:31Z</dcterms:created>
  <dc:creator>angeles.heras</dc:creator>
  <dc:description/>
  <dc:language>en-US</dc:language>
  <cp:lastModifiedBy>cristina.gallego</cp:lastModifiedBy>
  <dcterms:modified xsi:type="dcterms:W3CDTF">2012-12-11T09:51:12Z</dcterms:modified>
  <cp:revision>269</cp:revision>
  <dc:subject/>
  <dc:title>INTRODUCCIÓN</dc:title>
</cp:coreProperties>
</file>