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65760" y="6443640"/>
            <a:ext cx="1219320" cy="262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rot="10800000">
            <a:off x="0" y="0"/>
            <a:ext cx="147636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auhaus Md BT"/>
              </a:rPr>
              <a:t>VI Encuentro Nacional de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Bauhaus Md BT"/>
              </a:rPr>
              <a:t>Seguimiento Temático </a:t>
            </a:r>
            <a:br>
              <a:rPr sz="2300"/>
            </a:br>
            <a:r>
              <a:rPr b="0" lang="en-US" sz="1800" spc="-1" strike="noStrike">
                <a:solidFill>
                  <a:srgbClr val="ffffff"/>
                </a:solidFill>
                <a:latin typeface="Bauhaus Md BT"/>
              </a:rPr>
              <a:t>Madrid, 24 y  25 de mayo de 2012</a:t>
            </a:r>
            <a:r>
              <a:rPr b="0" lang="en-US" sz="2300" spc="-1" strike="noStrike">
                <a:solidFill>
                  <a:srgbClr val="ffffff"/>
                </a:solidFill>
                <a:latin typeface="Bauhaus Md BT"/>
              </a:rPr>
              <a:t>    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1187280" y="179064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276960" y="76320"/>
            <a:ext cx="2790720" cy="1177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7980480" y="6421320"/>
            <a:ext cx="1055520" cy="284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6320" y="6400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etaPlusNormal"/>
              </a:rPr>
              <a:t>Madrid</a:t>
            </a:r>
            <a:r>
              <a:rPr b="1" lang="en-US" sz="1600" spc="-1" strike="noStrike">
                <a:solidFill>
                  <a:srgbClr val="3366ff"/>
                </a:solidFill>
                <a:latin typeface="MetaPlusNorm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INFOR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Característica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y modo de cumplimentar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6019920"/>
            <a:ext cx="54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82296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Condiciones para la presentación de los productos multimedia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63640" y="2636640"/>
            <a:ext cx="72280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Fichero inicial en pdf con instrucc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uso, estructura y 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xtos en pdf para incluir tex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imágenes en una unidad te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Imágenes en JGP o 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structurar y ordenar la información por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carp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1052640"/>
            <a:ext cx="7580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Condiciones para la presentación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92000" y="2565360"/>
            <a:ext cx="772452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Otros mater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Formatos que permitan el archivo si es material imp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Buen embalaje si son otro tipo de product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Informe fina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8000" y="233208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El informe final tiene dos par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Parte A: referida a la asociación en su conjunto. Acordar con el resto de soci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Parte B: referida al cen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Informe fina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75819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art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- 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sumen de la asociación: motivación para participar, temas desarrollados, socios, resultados obtenidos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- Objetivos y resultados incluyendo los produ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- Comunicación y coop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- Evaluación y seguimiento: estrategias 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- Medidas específicas y prior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Informe fina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79423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arte B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-    Datos cuantitativos sobre actividades locales y mov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- Actividades desarrolladas en 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* Descri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* Consecución y adec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- Asociaciones bilaterales: preparación lingüística proporcionada.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Informe final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19280" y="1988640"/>
            <a:ext cx="752472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Impacto de la aso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fusión y aprovechamiento de l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blemas y obstáculos encont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Información sobre las movilidades (prescriptivo realizar las movilidades previstas como míni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eclaración firmada (prescriptivas firmas origin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000" y="1196640"/>
            <a:ext cx="69944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Pago de la subvenció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220500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Subvención fija (</a:t>
            </a:r>
            <a:r>
              <a:rPr b="0" i="1" lang="en-US" sz="3200" spc="-1" strike="noStrike">
                <a:solidFill>
                  <a:srgbClr val="3333cc"/>
                </a:solidFill>
                <a:latin typeface="Arial Unicode MS"/>
              </a:rPr>
              <a:t>Lump sum)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 para un número mínimo de mov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Una movilidad: una persona que viaja fuera de España a un país soci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Se pueden hacer más movilidades de las previstas, nunca me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Pago de la subvenció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280" y="233208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ago del 80% a la firma del conve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ago del 20% restante tras la recepción, evaluación y aprobación del informe fi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ruebas documentales: custodiar en el cen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112536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Pago de la subvenció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47280" y="2332080"/>
            <a:ext cx="707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 Unicode MS"/>
              </a:rPr>
              <a:t>Resto de los gastos: Documentación acreditativa sólo para el cen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 Unicode MS"/>
              </a:rPr>
              <a:t>Deberán conservarse las pruebas por un periodo de 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9280" y="980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INCIDENCIAS PARA EL P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19280" y="2205000"/>
            <a:ext cx="779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Falta rellenar el informe en lí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Faltan firmas origi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Las movilidades están mal especific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roductos no colgados en 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7139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71391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isponibles en la web: www.oapee.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suario y contraseña en el convenio financi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e rellenan y envían on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e imprimen dos copias: Agencia y C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499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¡ GRACIAS POR SU ATENCIÓ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rial Unicode MS"/>
              </a:rPr>
              <a:t>Infor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280" y="1905120"/>
            <a:ext cx="721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 Unicode MS"/>
              </a:rPr>
              <a:t>Informe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Arial Unicode MS"/>
              </a:rPr>
              <a:t>intermedio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Unicode MS"/>
              </a:rPr>
              <a:t>Enviado a la Agencia Nacional antes del 30 de junio de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 Unicode MS"/>
              </a:rPr>
              <a:t>Informe fina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Unicode MS"/>
              </a:rPr>
              <a:t>Enviado a la Agencia Nacional antes del 30 de Septiembre de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9810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rial Unicode MS"/>
              </a:rPr>
              <a:t>Informe intermedio (1</a:t>
            </a:r>
            <a:r>
              <a:rPr b="0" lang="en-GB" sz="3600" spc="-1" strike="noStrike">
                <a:solidFill>
                  <a:srgbClr val="3333cc"/>
                </a:solidFill>
                <a:latin typeface="Arial Unicode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77724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 Unicode MS"/>
              </a:rPr>
              <a:t>El informe servirá pa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 Unicode MS"/>
              </a:rPr>
              <a:t>el seguimiento del proyecto por la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 Unicode MS"/>
              </a:rPr>
              <a:t>el auto-seguimiento por parte del cen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 Unicode MS"/>
              </a:rPr>
              <a:t>Esto impl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 Unicode MS"/>
              </a:rPr>
              <a:t>comprobar en qué medida se van cumpliendo los objetivos planteados para el proyecto y se realizan las actividades prev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 Unicode MS"/>
              </a:rPr>
              <a:t>Identificar los puntos fuertes y los puntos débiles y las dificult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 Unicode MS"/>
              </a:rPr>
              <a:t>Ayudar a plantear las solu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 Unicode MS"/>
              </a:rPr>
              <a:t>Reconducir en caso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 Unicode MS"/>
              </a:rPr>
              <a:t>Informar sobre las movilidades re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 Unicode MS"/>
              </a:rPr>
              <a:t>Hacer una primera detección de buenas prác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1125000"/>
            <a:ext cx="777240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Informe intermedio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2205000"/>
            <a:ext cx="69994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El informe intermedio proporcio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- Información general sobre 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- Información general  sobre e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- Información sobre el contenido de la asoc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Informe intermedio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7640" y="1773360"/>
            <a:ext cx="67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Contenido de la asoci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- Comunicación y reparto de t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- Actividades rea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- Resultados obtenidos hasta 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- Integración de las actividades en el currículo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- Temáticas principales y complementarias trabaj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Informe intermedio (4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roblemas y obstá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Actividades de movilidad y valoración de las mis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roductos realizados hasta el mo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Actividades de difusión rea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Estrategias e instrumentos de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Impact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7202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Elaboración de infor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69800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Tener en cuen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lan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copilar evid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articipación de los implicados en la elaboración del in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encillez y precisión en la red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edir la lectura de  una person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052280"/>
            <a:ext cx="822960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Condiciones para la presentación de los productos multimedia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79280" y="2781360"/>
            <a:ext cx="743724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segurarse de que está op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ccesible a todo el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Proporcionar usuario y contrase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Idioma de trabajo de la asociación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raducción a idioma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Fácil navegación por todo 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Criterio de difusión de los product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46:44Z</dcterms:created>
  <dc:creator>cecilia.baquero</dc:creator>
  <dc:description/>
  <dc:language>en-US</dc:language>
  <cp:lastModifiedBy>julia.lopez</cp:lastModifiedBy>
  <dcterms:modified xsi:type="dcterms:W3CDTF">2012-05-23T09:25:37Z</dcterms:modified>
  <cp:revision>53</cp:revision>
  <dc:subject/>
  <dc:title>Presentación de PowerPoint</dc:title>
</cp:coreProperties>
</file>