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6.png" ContentType="image/png"/>
  <Override PartName="/ppt/media/image11.png" ContentType="image/png"/>
  <Override PartName="/ppt/media/image10.wmf" ContentType="image/x-wmf"/>
  <Override PartName="/ppt/media/image4.jpeg" ContentType="image/jpeg"/>
  <Override PartName="/ppt/media/image13.png" ContentType="image/png"/>
  <Override PartName="/ppt/media/image12.png" ContentType="image/png"/>
  <Override PartName="/ppt/media/image7.wmf" ContentType="image/x-wmf"/>
  <Override PartName="/ppt/media/image5.png" ContentType="image/png"/>
  <Override PartName="/ppt/media/image8.jpeg" ContentType="image/jpeg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90060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63720" y="741240"/>
            <a:ext cx="4959360" cy="371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C07F9C-24E8-4E89-B983-1C3D388BE59B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31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6D8908-7C10-4CB4-BD37-A0280A980764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66960" y="743040"/>
            <a:ext cx="4954320" cy="371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7280" y="470340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29DB16-B7AA-4627-A5A1-6F685AB0A6F0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02040" y="9410760"/>
            <a:ext cx="2981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1531A9-CD6B-426B-9334-BDDD66C4D60D}" type="slidenum">
              <a:rPr b="0" lang="en-GB" sz="13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C46CFB-7D6E-43C6-96D3-8313FDA830AB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2D6436FF-D1CD-4DA3-8B2D-97D42A576053}" type="slidenum">
              <a:rPr b="0" lang="de-DE" sz="13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2506BD6-1030-4B15-A945-EB667254071C}" type="slidenum">
              <a:rPr b="0" lang="de-DE" sz="12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789DB1CA-8863-4E82-ADC3-075A7B90711A}" type="slidenum">
              <a:rPr b="0" lang="en-GB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1c1e65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669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97360" y="9408960"/>
            <a:ext cx="2984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E82C-A234-4313-AEB9-389E4305C6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ABEDBC-A1EB-4D48-A882-A0D49BB86CA8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3 Marcador de número de diapositiva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5856-F030-4F7B-8B04-EBB36C63D185}" type="slidenum">
              <a:rPr b="0" lang="es-ES" sz="13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669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3 Marcador de número de diapositiva"/>
          <p:cNvSpPr/>
          <p:nvPr/>
        </p:nvSpPr>
        <p:spPr>
          <a:xfrm>
            <a:off x="3897360" y="9408960"/>
            <a:ext cx="2984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2112-A0B5-4F01-A6E0-E10BA4590F4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669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3 Marcador de número de diapositiva"/>
          <p:cNvSpPr/>
          <p:nvPr/>
        </p:nvSpPr>
        <p:spPr>
          <a:xfrm>
            <a:off x="3897360" y="9408960"/>
            <a:ext cx="2984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2E0E-7136-487B-B4D9-AEF504F0D2E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669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3 Marcador de número de diapositiva"/>
          <p:cNvSpPr/>
          <p:nvPr/>
        </p:nvSpPr>
        <p:spPr>
          <a:xfrm>
            <a:off x="3897360" y="9408960"/>
            <a:ext cx="2984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2257-C7DA-4DBB-A9E5-C666DFE6B6D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9FB1B4-69A6-4B9B-9CF3-AAB6CD4442FB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Marcador de número de diapositiva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4CBB13-B132-44C6-9EF9-FE34619FDD94}" type="slidenum">
              <a:rPr b="1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54FC55-709A-42A0-90A5-84EBDB19317C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7D9554-1449-4011-9E1A-53A453D7BC3D}" type="slidenum"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811F69-BBA4-4265-AFD5-DFBAF24CF4F2}" type="slidenum"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6925-5DFB-4200-8130-49F739F8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D0C1-AF6F-471E-92DC-90F57ADC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DC23-8466-46CF-BEAE-4FFC8535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E08A-9299-4D90-AE6F-CDCB375E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DA4D-E8DA-420D-A53C-91E8EFC8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D05E-875D-446C-B351-63DE3089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C7B4-6F25-4988-9C79-B99368AB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472A-24DE-4CF8-A628-6F2C52A8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3B42-A5D3-4646-8262-AE9DC7E4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1D07-D560-4966-B57C-0CE35252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1DB2-2CC0-4109-92D0-B3E05F6C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415A-E3B2-4E1B-A98C-FA0C06B7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ctr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smo Autónomo Programas Educativos Europeo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Text Box 13"/>
          <p:cNvSpPr/>
          <p:nvPr/>
        </p:nvSpPr>
        <p:spPr>
          <a:xfrm rot="10800000">
            <a:off x="1219320" y="177480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" name="Text Box 17"/>
          <p:cNvSpPr/>
          <p:nvPr/>
        </p:nvSpPr>
        <p:spPr>
          <a:xfrm rot="16200000">
            <a:off x="2088360" y="5404680"/>
            <a:ext cx="4237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ff"/>
                </a:solidFill>
                <a:latin typeface="Arial Narrow"/>
              </a:rPr>
              <a:t>12 de septiembre de 2013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3" name="Picture 20" descr="2011-EducacionCD"/>
          <p:cNvPicPr/>
          <p:nvPr/>
        </p:nvPicPr>
        <p:blipFill>
          <a:blip r:embed="rId2"/>
          <a:stretch/>
        </p:blipFill>
        <p:spPr>
          <a:xfrm>
            <a:off x="1187280" y="5997600"/>
            <a:ext cx="1656000" cy="4492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1" descr="OAPEE con leyenda"/>
          <p:cNvPicPr/>
          <p:nvPr/>
        </p:nvPicPr>
        <p:blipFill>
          <a:blip r:embed="rId3"/>
          <a:stretch/>
        </p:blipFill>
        <p:spPr>
          <a:xfrm>
            <a:off x="5364000" y="6043680"/>
            <a:ext cx="1544760" cy="4302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2" descr="EU_flag_LLP_ES"/>
          <p:cNvPicPr/>
          <p:nvPr/>
        </p:nvPicPr>
        <p:blipFill>
          <a:blip r:embed="rId4"/>
          <a:stretch/>
        </p:blipFill>
        <p:spPr>
          <a:xfrm>
            <a:off x="7308720" y="6043680"/>
            <a:ext cx="1462320" cy="4111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3" descr="A enviar para actos"/>
          <p:cNvPicPr/>
          <p:nvPr/>
        </p:nvPicPr>
        <p:blipFill>
          <a:blip r:embed="rId5"/>
          <a:stretch/>
        </p:blipFill>
        <p:spPr>
          <a:xfrm>
            <a:off x="3492360" y="5735520"/>
            <a:ext cx="1454400" cy="10065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4" descr="bg_cedefopLogo"/>
          <p:cNvPicPr/>
          <p:nvPr/>
        </p:nvPicPr>
        <p:blipFill>
          <a:blip r:embed="rId6"/>
          <a:stretch/>
        </p:blipFill>
        <p:spPr>
          <a:xfrm>
            <a:off x="6948360" y="189000"/>
            <a:ext cx="1986120" cy="425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2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ctr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smo Autónomo Programas Educativos Europeo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 rot="10800000">
            <a:off x="1219320" y="177480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 rot="16200000">
            <a:off x="2088360" y="5404680"/>
            <a:ext cx="4237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ff"/>
                </a:solidFill>
                <a:latin typeface="Arial Narrow"/>
              </a:rPr>
              <a:t>12 de septiembre de 2013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7" name="Picture 20" descr="2011-EducacionCD"/>
          <p:cNvPicPr/>
          <p:nvPr/>
        </p:nvPicPr>
        <p:blipFill>
          <a:blip r:embed="rId2"/>
          <a:stretch/>
        </p:blipFill>
        <p:spPr>
          <a:xfrm>
            <a:off x="1187280" y="5997600"/>
            <a:ext cx="1656000" cy="449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OAPEE con leyenda"/>
          <p:cNvPicPr/>
          <p:nvPr/>
        </p:nvPicPr>
        <p:blipFill>
          <a:blip r:embed="rId3"/>
          <a:stretch/>
        </p:blipFill>
        <p:spPr>
          <a:xfrm>
            <a:off x="5364000" y="6043680"/>
            <a:ext cx="1544760" cy="43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EU_flag_LLP_ES"/>
          <p:cNvPicPr/>
          <p:nvPr/>
        </p:nvPicPr>
        <p:blipFill>
          <a:blip r:embed="rId4"/>
          <a:stretch/>
        </p:blipFill>
        <p:spPr>
          <a:xfrm>
            <a:off x="7308720" y="6043680"/>
            <a:ext cx="1462320" cy="411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A enviar para actos"/>
          <p:cNvPicPr/>
          <p:nvPr/>
        </p:nvPicPr>
        <p:blipFill>
          <a:blip r:embed="rId5"/>
          <a:stretch/>
        </p:blipFill>
        <p:spPr>
          <a:xfrm>
            <a:off x="3492360" y="5735520"/>
            <a:ext cx="1454400" cy="1006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bg_cedefopLogo"/>
          <p:cNvPicPr/>
          <p:nvPr/>
        </p:nvPicPr>
        <p:blipFill>
          <a:blip r:embed="rId6"/>
          <a:stretch/>
        </p:blipFill>
        <p:spPr>
          <a:xfrm>
            <a:off x="6948360" y="189000"/>
            <a:ext cx="1986120" cy="425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800" spc="-1" strike="noStrike">
                <a:solidFill>
                  <a:srgbClr val="00ffff"/>
                </a:solidFill>
                <a:latin typeface="Arial"/>
              </a:defRPr>
            </a:lvl1pPr>
          </a:lstStyle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1C7B-1652-42CD-8DA9-F7430F6D9B60}" type="slidenum">
              <a:rPr b="0" lang="es-ES" sz="28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cristina.figueroa@oapee.es" TargetMode="External"/><Relationship Id="rId2" Type="http://schemas.openxmlformats.org/officeDocument/2006/relationships/hyperlink" Target="mailto:anac.delcanto@oapee.e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773360"/>
            <a:ext cx="8153280" cy="2519280"/>
          </a:xfrm>
          <a:prstGeom prst="rect">
            <a:avLst/>
          </a:prstGeom>
          <a:solidFill>
            <a:srgbClr val="3366ff"/>
          </a:solidFill>
          <a:ln w="9360">
            <a:solidFill>
              <a:srgbClr val="99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PROGRAMA DE APRENDIZAJE PERMANENTE</a:t>
            </a:r>
            <a:r>
              <a:rPr b="1" lang="en-GB" sz="4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Desarrollo y perspectiva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ERASMUS +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3600"/>
            </a:b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295280" y="1447920"/>
            <a:ext cx="744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Objetivo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ayudar a Europa a 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recuperarse de la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salir más fuerte a través de una estrategia coordinada y global para un 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crecimiento inteligente, integrador y sostenible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Educación y formación como máxima prior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Ningún objetivo de E2020 se alcanzará sin una importante 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inversión en capital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Cinco de las iniciativas emblemáticas de E2020 dependen de su 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modernización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 (Juventud en movimiento, Agendas de nuevas cualificaciones y empleos, Una agenda digital para Europa.Unión por la innovación y la Plataforma europea contra la pobrez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3 Rectángulo redondeado"/>
          <p:cNvSpPr/>
          <p:nvPr/>
        </p:nvSpPr>
        <p:spPr>
          <a:xfrm>
            <a:off x="1143000" y="914400"/>
            <a:ext cx="612144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ff"/>
                </a:solidFill>
                <a:latin typeface="Arial"/>
                <a:ea typeface="Arial"/>
              </a:rPr>
              <a:t>Punto de partida: Europa 2020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4" name="5 Rectángulo redondeado"/>
          <p:cNvSpPr/>
          <p:nvPr/>
        </p:nvSpPr>
        <p:spPr>
          <a:xfrm>
            <a:off x="1066680" y="304920"/>
            <a:ext cx="460872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ff"/>
                </a:solidFill>
                <a:latin typeface="Arial"/>
                <a:ea typeface="Arial"/>
              </a:rPr>
              <a:t>El futuro: </a:t>
            </a:r>
            <a:r>
              <a:rPr b="0" i="1" lang="es-ES" sz="2800" spc="-1" strike="noStrike">
                <a:solidFill>
                  <a:srgbClr val="9933ff"/>
                </a:solidFill>
                <a:latin typeface="Arial"/>
                <a:ea typeface="Arial"/>
              </a:rPr>
              <a:t>Erasmus +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7080" y="240840"/>
            <a:ext cx="877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Tahoma"/>
              </a:rPr>
              <a:t>      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Tijdelijke aanduiding voor inhoud 2"/>
          <p:cNvSpPr/>
          <p:nvPr/>
        </p:nvSpPr>
        <p:spPr>
          <a:xfrm>
            <a:off x="900000" y="942840"/>
            <a:ext cx="7859880" cy="56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d1111"/>
                </a:solidFill>
                <a:latin typeface="Tahoma"/>
              </a:rPr>
              <a:t>Lograr los objetivos de Europa 2020 y los de Bolonia</a:t>
            </a:r>
            <a:endParaRPr b="0" lang="en-US" sz="22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buClr>
                <a:srgbClr val="056e9b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buClr>
                <a:srgbClr val="056e9b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56e9b"/>
                </a:solidFill>
                <a:latin typeface="Calibri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Al menos  40% de la población entre 30-34 año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con educación superior;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buClr>
                <a:srgbClr val="9933ff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Tasas de abandono escolar por debajo del 10%;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buClr>
                <a:srgbClr val="9933ff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Movilidad del 20%  de los estudiantes en 2020;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buClr>
                <a:srgbClr val="9933ff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249"/>
              </a:spcBef>
              <a:buClr>
                <a:srgbClr val="9933ff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Al menos 95% de niños y niñas de 4 años  en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educación infanti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buClr>
                <a:srgbClr val="9933ff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Alumnado de 15 años con habilidade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insuficientes en lectura, matemáticas y ciencia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por debajo del 15%;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499"/>
              </a:spcBef>
              <a:buClr>
                <a:srgbClr val="9933ff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buClr>
                <a:srgbClr val="9933ff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Media de al menos 15 % de adultos (25-64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   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participando en aprendizaje a lo largo de la vid</a:t>
            </a:r>
            <a:r>
              <a:rPr b="1" lang="en-GB" sz="2000" spc="-1" strike="noStrike">
                <a:solidFill>
                  <a:srgbClr val="6666ff"/>
                </a:solidFill>
                <a:latin typeface="Arial"/>
                <a:ea typeface="ＭＳ Ｐゴシック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buClr>
                <a:srgbClr val="056e9b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499"/>
              </a:spcBef>
              <a:buClr>
                <a:srgbClr val="056e9b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7367760" y="1628640"/>
            <a:ext cx="299880" cy="1173240"/>
          </a:xfrm>
          <a:custGeom>
            <a:avLst/>
            <a:gdLst>
              <a:gd name="textAreaLeft" fmla="*/ 0 w 299880"/>
              <a:gd name="textAreaRight" fmla="*/ 108360 w 299880"/>
              <a:gd name="textAreaTop" fmla="*/ 33840 h 1173240"/>
              <a:gd name="textAreaBottom" fmla="*/ 1139400 h 117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00"/>
                  <a:pt x="10800" y="1999"/>
                </a:cubicBezTo>
                <a:lnTo>
                  <a:pt x="10800" y="8801"/>
                </a:lnTo>
                <a:cubicBezTo>
                  <a:pt x="10800" y="9801"/>
                  <a:pt x="16200" y="10800"/>
                  <a:pt x="21600" y="10800"/>
                </a:cubicBezTo>
                <a:cubicBezTo>
                  <a:pt x="16200" y="10800"/>
                  <a:pt x="10800" y="11800"/>
                  <a:pt x="10800" y="12799"/>
                </a:cubicBezTo>
                <a:lnTo>
                  <a:pt x="10800" y="19601"/>
                </a:lnTo>
                <a:cubicBezTo>
                  <a:pt x="10800" y="20601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7632720" y="211608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ffff"/>
                </a:solidFill>
                <a:latin typeface="Arial"/>
              </a:rPr>
              <a:t>Europe 2020 / ET 2020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7524720" y="3573360"/>
            <a:ext cx="546120" cy="2778120"/>
          </a:xfrm>
          <a:custGeom>
            <a:avLst/>
            <a:gdLst>
              <a:gd name="textAreaLeft" fmla="*/ 0 w 546120"/>
              <a:gd name="textAreaRight" fmla="*/ 197280 w 546120"/>
              <a:gd name="textAreaTop" fmla="*/ 118800 h 2778120"/>
              <a:gd name="textAreaBottom" fmla="*/ 2659320 h 277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76"/>
                  <a:pt x="10800" y="2952"/>
                </a:cubicBezTo>
                <a:lnTo>
                  <a:pt x="10800" y="7848"/>
                </a:lnTo>
                <a:cubicBezTo>
                  <a:pt x="10800" y="9324"/>
                  <a:pt x="16200" y="10800"/>
                  <a:pt x="21600" y="10800"/>
                </a:cubicBezTo>
                <a:cubicBezTo>
                  <a:pt x="16200" y="10800"/>
                  <a:pt x="10800" y="12276"/>
                  <a:pt x="10800" y="13752"/>
                </a:cubicBezTo>
                <a:lnTo>
                  <a:pt x="10800" y="18648"/>
                </a:lnTo>
                <a:cubicBezTo>
                  <a:pt x="10800" y="20124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7956720" y="4653000"/>
            <a:ext cx="11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ffff"/>
                </a:solidFill>
                <a:latin typeface="Arial"/>
              </a:rPr>
              <a:t>ET 2020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7632720" y="29592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ffff"/>
                </a:solidFill>
                <a:latin typeface="Arial"/>
              </a:rPr>
              <a:t>Bolonia 2020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7418520" y="2892600"/>
            <a:ext cx="215640" cy="360360"/>
          </a:xfrm>
          <a:custGeom>
            <a:avLst/>
            <a:gdLst>
              <a:gd name="textAreaLeft" fmla="*/ 0 w 215640"/>
              <a:gd name="textAreaRight" fmla="*/ 77760 w 21564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3" name="4 Rectángulo redondeado"/>
          <p:cNvSpPr/>
          <p:nvPr/>
        </p:nvSpPr>
        <p:spPr>
          <a:xfrm>
            <a:off x="1447920" y="304920"/>
            <a:ext cx="619272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33ff"/>
                </a:solidFill>
                <a:latin typeface="Calibri"/>
              </a:rPr>
              <a:t>Erasmus +: 2014-2020  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1066680" y="1447920"/>
            <a:ext cx="7521840" cy="42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Favorecer la movilidad y el aprendizaje en otros países (5 millones de personas en el período 2014-2020)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Favorecer la cooperación institucional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Favorecer la adquisición de nuevas competencias y la mejora de la calidad de la educación y formación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Participantes: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12574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Estados miembro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12574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Países candidato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12574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Países de la EEA/EFTA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12574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Otros terceros paíse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2" marL="8002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5" name="3 Rectángulo redondeado"/>
          <p:cNvSpPr/>
          <p:nvPr/>
        </p:nvSpPr>
        <p:spPr>
          <a:xfrm>
            <a:off x="1219320" y="533520"/>
            <a:ext cx="612144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ff"/>
                </a:solidFill>
                <a:latin typeface="Arial"/>
                <a:ea typeface="Arial"/>
              </a:rPr>
              <a:t>Objetivos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ianummer 3"/>
          <p:cNvSpPr/>
          <p:nvPr/>
        </p:nvSpPr>
        <p:spPr>
          <a:xfrm>
            <a:off x="6742080" y="648180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2CBE-4DFA-483A-AE8E-E93F0968C4EC}" type="slidenum">
              <a:rPr b="0" lang="de-DE" sz="1400" spc="-1" strike="noStrike">
                <a:solidFill>
                  <a:srgbClr val="00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1143000" y="990720"/>
            <a:ext cx="7750080" cy="57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Tahoma"/>
              </a:rPr>
              <a:t>Foco en los resultados, el impacto y la simplificación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Tahoma"/>
              </a:rPr>
              <a:t>3 tipos de acciones: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2" marL="1428840" indent="-514440">
              <a:lnSpc>
                <a:spcPct val="140000"/>
              </a:lnSpc>
              <a:spcBef>
                <a:spcPts val="1199"/>
              </a:spcBef>
              <a:buClr>
                <a:srgbClr val="9933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Movilidad transnacional para el aprendizaj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2" marL="1428840" indent="-514440">
              <a:lnSpc>
                <a:spcPct val="140000"/>
              </a:lnSpc>
              <a:spcBef>
                <a:spcPts val="1199"/>
              </a:spcBef>
              <a:buClr>
                <a:srgbClr val="9933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Cooperación institucional para la innovación y el intercambio de buenas práctica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2" marL="1428840" indent="-514440">
              <a:lnSpc>
                <a:spcPct val="140000"/>
              </a:lnSpc>
              <a:spcBef>
                <a:spcPts val="901"/>
              </a:spcBef>
              <a:buClr>
                <a:srgbClr val="9933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Apoyo a las reformas de política educativa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2" marL="1428840" indent="-514440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Y uso extenso del concepto de e-Twinning </a:t>
            </a:r>
            <a:r>
              <a:rPr b="0" lang="nl-BE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a9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4 Rectángulo redondeado"/>
          <p:cNvSpPr/>
          <p:nvPr/>
        </p:nvSpPr>
        <p:spPr>
          <a:xfrm>
            <a:off x="1523880" y="533520"/>
            <a:ext cx="619308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33ff"/>
                </a:solidFill>
                <a:latin typeface="Calibri"/>
              </a:rPr>
              <a:t>Erasmus +: 2014-2020  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ianummer 3"/>
          <p:cNvSpPr/>
          <p:nvPr/>
        </p:nvSpPr>
        <p:spPr>
          <a:xfrm>
            <a:off x="6742080" y="648180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C8B8-2A71-4565-A87D-F048C12AFF9E}" type="slidenum">
              <a:rPr b="0" lang="de-DE" sz="1400" spc="-1" strike="noStrike">
                <a:solidFill>
                  <a:srgbClr val="00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1219320" y="1173240"/>
            <a:ext cx="7315200" cy="42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just">
              <a:lnSpc>
                <a:spcPct val="140000"/>
              </a:lnSpc>
              <a:spcBef>
                <a:spcPts val="601"/>
              </a:spcBef>
              <a:buClr>
                <a:srgbClr val="9933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alibri"/>
              </a:rPr>
              <a:t>Valor añadido Europeo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1" marL="914400" indent="-457200" algn="just">
              <a:lnSpc>
                <a:spcPct val="110000"/>
              </a:lnSpc>
              <a:spcBef>
                <a:spcPts val="901"/>
              </a:spcBef>
              <a:buClr>
                <a:srgbClr val="ed111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Fuerte énfasis en la demostración del valor añadido europeo y del impacto de la cooperación.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1" marL="914400" indent="-457200" algn="just">
              <a:lnSpc>
                <a:spcPct val="110000"/>
              </a:lnSpc>
              <a:spcBef>
                <a:spcPts val="901"/>
              </a:spcBef>
              <a:buClr>
                <a:srgbClr val="ed111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Sinergias y complementariedades con otros instrumentos de cooperación europea y otras fuentes de financiación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1" marL="914400" indent="-457200" algn="just">
              <a:lnSpc>
                <a:spcPct val="110000"/>
              </a:lnSpc>
              <a:spcBef>
                <a:spcPts val="901"/>
              </a:spcBef>
              <a:buClr>
                <a:srgbClr val="ed111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La movilidad es una prioridad del programa, en particular para la educación superior</a:t>
            </a:r>
            <a:r>
              <a:rPr b="0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 algn="just">
              <a:lnSpc>
                <a:spcPct val="140000"/>
              </a:lnSpc>
              <a:spcBef>
                <a:spcPts val="601"/>
              </a:spcBef>
              <a:buClr>
                <a:srgbClr val="99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042920" y="620640"/>
            <a:ext cx="674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alibri"/>
              </a:rPr>
              <a:t>Principios clave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1066680" y="2057400"/>
            <a:ext cx="2865600" cy="3546000"/>
            <a:chOff x="1066680" y="2057400"/>
            <a:chExt cx="2865600" cy="3546000"/>
          </a:xfrm>
        </p:grpSpPr>
        <p:sp>
          <p:nvSpPr>
            <p:cNvPr id="145" name="Oval 3"/>
            <p:cNvSpPr/>
            <p:nvPr/>
          </p:nvSpPr>
          <p:spPr>
            <a:xfrm>
              <a:off x="2514600" y="3882240"/>
              <a:ext cx="1257480" cy="17211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90"/>
                  </a:solidFill>
                  <a:latin typeface="Calibri"/>
                </a:rPr>
                <a:t>Juventud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90"/>
                  </a:solidFill>
                  <a:latin typeface="Calibri"/>
                </a:rPr>
                <a:t>en Acción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6" name="Oval 4"/>
            <p:cNvSpPr/>
            <p:nvPr/>
          </p:nvSpPr>
          <p:spPr>
            <a:xfrm>
              <a:off x="2292480" y="2057400"/>
              <a:ext cx="1639800" cy="173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Programas 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Internacionales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de Eduación superior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(Erasmus Mundus, 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Tempus,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Alfa, Edulink</a:t>
              </a:r>
              <a:r>
                <a:rPr b="0" lang="fr-BE" sz="1200" spc="-1" strike="noStrike">
                  <a:solidFill>
                    <a:srgbClr val="00ffff"/>
                  </a:solidFill>
                  <a:latin typeface="Calibri"/>
                </a:rPr>
                <a:t>)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7" name="Oval 5"/>
            <p:cNvSpPr/>
            <p:nvPr/>
          </p:nvSpPr>
          <p:spPr>
            <a:xfrm>
              <a:off x="1066680" y="2285280"/>
              <a:ext cx="1296000" cy="3312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Grundtvig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Erasmus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Leonardo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Comenius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1219680" y="3581280"/>
              <a:ext cx="754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49" name="AutoShape 8"/>
          <p:cNvSpPr/>
          <p:nvPr/>
        </p:nvSpPr>
        <p:spPr>
          <a:xfrm>
            <a:off x="3708360" y="3193920"/>
            <a:ext cx="1263600" cy="378000"/>
          </a:xfrm>
          <a:custGeom>
            <a:avLst/>
            <a:gdLst>
              <a:gd name="textAreaLeft" fmla="*/ 197280 w 1263600"/>
              <a:gd name="textAreaRight" fmla="*/ 1105920 w 1263600"/>
              <a:gd name="textAreaTop" fmla="*/ 94320 h 378000"/>
              <a:gd name="textAreaBottom" fmla="*/ 283680 h 378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3399ff">
                  <a:alpha val="70196"/>
                </a:srgbClr>
              </a:gs>
              <a:gs pos="100000">
                <a:srgbClr val="ffff99"/>
              </a:gs>
            </a:gsLst>
            <a:lin ang="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266840" y="163440"/>
            <a:ext cx="51148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d1111"/>
                </a:solidFill>
                <a:latin typeface="Tahoma"/>
              </a:rPr>
              <a:t>Arquitectura del programa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1" name="Group 13"/>
          <p:cNvGrpSpPr/>
          <p:nvPr/>
        </p:nvGrpSpPr>
        <p:grpSpPr>
          <a:xfrm>
            <a:off x="4707720" y="1459440"/>
            <a:ext cx="3949200" cy="4156920"/>
            <a:chOff x="4707720" y="1459440"/>
            <a:chExt cx="3949200" cy="4156920"/>
          </a:xfrm>
        </p:grpSpPr>
        <p:sp>
          <p:nvSpPr>
            <p:cNvPr id="152" name="Rectangle 14"/>
            <p:cNvSpPr/>
            <p:nvPr/>
          </p:nvSpPr>
          <p:spPr>
            <a:xfrm>
              <a:off x="5232600" y="2086200"/>
              <a:ext cx="2879640" cy="237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3" name="Text Box 15"/>
            <p:cNvSpPr/>
            <p:nvPr/>
          </p:nvSpPr>
          <p:spPr>
            <a:xfrm>
              <a:off x="5486400" y="2362320"/>
              <a:ext cx="2736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56e9b"/>
                  </a:solidFill>
                  <a:latin typeface="Calibri"/>
                </a:rPr>
                <a:t>Erasmus for all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4" name="Line 16"/>
            <p:cNvSpPr/>
            <p:nvPr/>
          </p:nvSpPr>
          <p:spPr>
            <a:xfrm>
              <a:off x="6168960" y="3012120"/>
              <a:ext cx="5040" cy="12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>
              <a:off x="7291440" y="3012120"/>
              <a:ext cx="3240" cy="12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6" name="Text Box 18"/>
            <p:cNvSpPr/>
            <p:nvPr/>
          </p:nvSpPr>
          <p:spPr>
            <a:xfrm>
              <a:off x="5334120" y="3353400"/>
              <a:ext cx="8380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56e9b"/>
                  </a:solidFill>
                  <a:latin typeface="Calibri"/>
                </a:rPr>
                <a:t>1.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56e9b"/>
                  </a:solidFill>
                  <a:latin typeface="Calibri"/>
                </a:rPr>
                <a:t>Learning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56e9b"/>
                  </a:solidFill>
                  <a:latin typeface="Calibri"/>
                </a:rPr>
                <a:t>Mobilit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Text Box 19"/>
            <p:cNvSpPr/>
            <p:nvPr/>
          </p:nvSpPr>
          <p:spPr>
            <a:xfrm>
              <a:off x="7421760" y="3270960"/>
              <a:ext cx="863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56e9b"/>
                  </a:solidFill>
                  <a:latin typeface="Calibri"/>
                </a:rPr>
                <a:t>3.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56e9b"/>
                  </a:solidFill>
                  <a:latin typeface="Calibri"/>
                </a:rPr>
                <a:t>Polic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56e9b"/>
                  </a:solidFill>
                  <a:latin typeface="Calibri"/>
                </a:rPr>
                <a:t>support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Text Box 20"/>
            <p:cNvSpPr/>
            <p:nvPr/>
          </p:nvSpPr>
          <p:spPr>
            <a:xfrm>
              <a:off x="6172200" y="3429360"/>
              <a:ext cx="11430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56e9b"/>
                  </a:solidFill>
                  <a:latin typeface="Calibri"/>
                </a:rPr>
                <a:t>2.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56e9b"/>
                  </a:solidFill>
                  <a:latin typeface="Calibri"/>
                </a:rPr>
                <a:t>Institutiona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56e9b"/>
                  </a:solidFill>
                  <a:latin typeface="Calibri"/>
                </a:rPr>
                <a:t>co-operation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Line 21"/>
            <p:cNvSpPr/>
            <p:nvPr/>
          </p:nvSpPr>
          <p:spPr>
            <a:xfrm>
              <a:off x="5305320" y="3012120"/>
              <a:ext cx="27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Text Box 22"/>
            <p:cNvSpPr/>
            <p:nvPr/>
          </p:nvSpPr>
          <p:spPr>
            <a:xfrm rot="19003800">
              <a:off x="4878720" y="4241520"/>
              <a:ext cx="72072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Text Box 23"/>
            <p:cNvSpPr/>
            <p:nvPr/>
          </p:nvSpPr>
          <p:spPr>
            <a:xfrm rot="19003800">
              <a:off x="7764840" y="1599480"/>
              <a:ext cx="72072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2" name="Text Box 24"/>
            <p:cNvSpPr/>
            <p:nvPr/>
          </p:nvSpPr>
          <p:spPr>
            <a:xfrm rot="5400000">
              <a:off x="7222320" y="3313440"/>
              <a:ext cx="21236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3" name="Text Box 25"/>
            <p:cNvSpPr/>
            <p:nvPr/>
          </p:nvSpPr>
          <p:spPr>
            <a:xfrm rot="5400000">
              <a:off x="4095000" y="2970360"/>
              <a:ext cx="2123640" cy="18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164" name="Text Box 26" descr=""/>
            <p:cNvPicPr/>
            <p:nvPr/>
          </p:nvPicPr>
          <p:blipFill>
            <a:blip r:embed="rId1"/>
            <a:stretch/>
          </p:blipFill>
          <p:spPr>
            <a:xfrm>
              <a:off x="5535720" y="4738320"/>
              <a:ext cx="2895480" cy="87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4 Rectángulo redondeado"/>
          <p:cNvSpPr/>
          <p:nvPr/>
        </p:nvSpPr>
        <p:spPr>
          <a:xfrm>
            <a:off x="1219320" y="838080"/>
            <a:ext cx="6192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33ff"/>
                </a:solidFill>
                <a:latin typeface="Calibri"/>
              </a:rPr>
              <a:t>Erasmus +: 2014-2020  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rcRect l="20518" t="20888" r="14207" b="20924"/>
          <a:stretch/>
        </p:blipFill>
        <p:spPr>
          <a:xfrm>
            <a:off x="1096920" y="762120"/>
            <a:ext cx="7742160" cy="4311360"/>
          </a:xfrm>
          <a:prstGeom prst="rect">
            <a:avLst/>
          </a:prstGeom>
          <a:ln w="0">
            <a:noFill/>
          </a:ln>
        </p:spPr>
      </p:pic>
      <p:sp>
        <p:nvSpPr>
          <p:cNvPr id="167" name="3 Rectángulo redondeado"/>
          <p:cNvSpPr/>
          <p:nvPr/>
        </p:nvSpPr>
        <p:spPr>
          <a:xfrm>
            <a:off x="1066680" y="304920"/>
            <a:ext cx="619308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"/>
                <a:ea typeface="Arial"/>
              </a:rPr>
              <a:t>Acción clave 1: </a:t>
            </a:r>
            <a:r>
              <a:rPr b="1" lang="es-ES" sz="2400" spc="-1" strike="noStrike">
                <a:solidFill>
                  <a:srgbClr val="9933ff"/>
                </a:solidFill>
                <a:latin typeface="Arial"/>
                <a:ea typeface="Arial"/>
              </a:rPr>
              <a:t>Movilidad individu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10 Llamada rectangular redondeada"/>
          <p:cNvSpPr/>
          <p:nvPr/>
        </p:nvSpPr>
        <p:spPr>
          <a:xfrm rot="16200000">
            <a:off x="1467720" y="4552200"/>
            <a:ext cx="990720" cy="1944720"/>
          </a:xfrm>
          <a:prstGeom prst="wedgeRoundRectCallout">
            <a:avLst>
              <a:gd name="adj1" fmla="val 100018"/>
              <a:gd name="adj2" fmla="val -2186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Incluye la movilidad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el 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profesorado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iferencia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11 Llamada rectangular redondeada"/>
          <p:cNvSpPr/>
          <p:nvPr/>
        </p:nvSpPr>
        <p:spPr>
          <a:xfrm rot="16200000">
            <a:off x="7376760" y="4586040"/>
            <a:ext cx="1067040" cy="1800360"/>
          </a:xfrm>
          <a:prstGeom prst="wedgeRoundRectCallout">
            <a:avLst>
              <a:gd name="adj1" fmla="val 100935"/>
              <a:gd name="adj2" fmla="val -2129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Incluye voluntariado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</a:rPr>
              <a:t>Fomento Aprendizaje 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</a:rPr>
              <a:t>no  form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0" name="12 Llamada rectangular redondeada"/>
          <p:cNvSpPr/>
          <p:nvPr/>
        </p:nvSpPr>
        <p:spPr>
          <a:xfrm rot="16200000">
            <a:off x="3528720" y="4547880"/>
            <a:ext cx="990720" cy="1800360"/>
          </a:xfrm>
          <a:prstGeom prst="wedgeRoundRectCallout">
            <a:avLst>
              <a:gd name="adj1" fmla="val 100018"/>
              <a:gd name="adj2" fmla="val -2186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studiantes d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ducación superio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y de FP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1" name="13 Llamada rectangular redondeada"/>
          <p:cNvSpPr/>
          <p:nvPr/>
        </p:nvSpPr>
        <p:spPr>
          <a:xfrm rot="16200000">
            <a:off x="5552280" y="4658400"/>
            <a:ext cx="914400" cy="1656000"/>
          </a:xfrm>
          <a:prstGeom prst="wedgeRoundRectCallout">
            <a:avLst>
              <a:gd name="adj1" fmla="val 100018"/>
              <a:gd name="adj2" fmla="val -2186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Con sistema d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garantía d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réstamo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33ff"/>
                </a:solidFill>
                <a:latin typeface="Calibri"/>
              </a:rPr>
              <a:t>KA1: Movilidad del persona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99640" y="1628640"/>
            <a:ext cx="782964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Enfoque instituc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Actividades de formación y desarrollo profesional del personal educativ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Cursos estructurados o eventos de 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Estancias en centros de trabajo o empresas o instituciones de 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Job shadowing/ Periodo de observ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Periodo de enseñanza/ formación  en una institución asoc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Dur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2 días a 2 m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Movilidad de larga duración (tras estudio de viabilid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"/>
          <p:cNvPicPr/>
          <p:nvPr/>
        </p:nvPicPr>
        <p:blipFill>
          <a:blip r:embed="rId1"/>
          <a:srcRect l="21204" t="18357" r="14330" b="22281"/>
          <a:stretch/>
        </p:blipFill>
        <p:spPr>
          <a:xfrm>
            <a:off x="1066680" y="990720"/>
            <a:ext cx="7772400" cy="39830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7956720" y="1917720"/>
            <a:ext cx="720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4 Rectángulo redondeado"/>
          <p:cNvSpPr/>
          <p:nvPr/>
        </p:nvSpPr>
        <p:spPr>
          <a:xfrm>
            <a:off x="990720" y="304920"/>
            <a:ext cx="6192720" cy="7189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Acción clave 2: </a:t>
            </a:r>
            <a:r>
              <a:rPr b="1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Cooperación para la innovación y las buenas prácticas (institucional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7" name="5 Llamada rectangular redondeada"/>
          <p:cNvSpPr/>
          <p:nvPr/>
        </p:nvSpPr>
        <p:spPr>
          <a:xfrm rot="16200000">
            <a:off x="1505880" y="4514040"/>
            <a:ext cx="1218960" cy="1944720"/>
          </a:xfrm>
          <a:prstGeom prst="wedgeRoundRectCallout">
            <a:avLst>
              <a:gd name="adj1" fmla="val 100018"/>
              <a:gd name="adj2" fmla="val -21861"/>
              <a:gd name="adj3" fmla="val 16667"/>
            </a:avLst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Asociaciones para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la cooperación entr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centros educativos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iferencias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6 Llamada rectangular redondeada"/>
          <p:cNvSpPr/>
          <p:nvPr/>
        </p:nvSpPr>
        <p:spPr>
          <a:xfrm rot="16200000">
            <a:off x="7590600" y="4372560"/>
            <a:ext cx="792000" cy="1800360"/>
          </a:xfrm>
          <a:prstGeom prst="wedgeRoundRectCallout">
            <a:avLst>
              <a:gd name="adj1" fmla="val 100935"/>
              <a:gd name="adj2" fmla="val -2129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ducación superio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Terceros paíse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9" name="7 Llamada rectangular redondeada"/>
          <p:cNvSpPr/>
          <p:nvPr/>
        </p:nvSpPr>
        <p:spPr>
          <a:xfrm rot="16200000">
            <a:off x="3672720" y="4709520"/>
            <a:ext cx="1008000" cy="1800000"/>
          </a:xfrm>
          <a:prstGeom prst="wedgeRoundRectCallout">
            <a:avLst>
              <a:gd name="adj1" fmla="val 100018"/>
              <a:gd name="adj2" fmla="val -2186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Asociacione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ducación superio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y de FP y empresa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8 Llamada rectangular redondeada"/>
          <p:cNvSpPr/>
          <p:nvPr/>
        </p:nvSpPr>
        <p:spPr>
          <a:xfrm rot="16200000">
            <a:off x="5171040" y="4810320"/>
            <a:ext cx="1676520" cy="1656000"/>
          </a:xfrm>
          <a:prstGeom prst="wedgeRoundRectCallout">
            <a:avLst>
              <a:gd name="adj1" fmla="val 83421"/>
              <a:gd name="adj2" fmla="val -2186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Mayor papel de la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lataformas TIC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eTwinning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s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xtiende a FP y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otro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7956720" y="1989000"/>
            <a:ext cx="720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2" name="4 Rectángulo redondeado"/>
          <p:cNvSpPr/>
          <p:nvPr/>
        </p:nvSpPr>
        <p:spPr>
          <a:xfrm>
            <a:off x="900000" y="189000"/>
            <a:ext cx="619308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Acción clave 2: </a:t>
            </a:r>
            <a:r>
              <a:rPr b="1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Cooperación para la innovación y las buenas prácticas (institucional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3" name="2 Marcador de contenido"/>
          <p:cNvSpPr/>
          <p:nvPr/>
        </p:nvSpPr>
        <p:spPr>
          <a:xfrm>
            <a:off x="971640" y="2492280"/>
            <a:ext cx="7777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11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Promoverán la cooperación transnacional entre instituciones (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centros educativos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, organizaciones juveniles, voluntariado, asociaciones…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Promoverán actividades de 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movilidad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 y aumentarán el 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impacto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 sistémico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Mejorarán </a:t>
            </a: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Arial"/>
              </a:rPr>
              <a:t>la cooperación con las empresas mediante proyectos transnacionales a gran escala (promoción de la innovación y empleabilidad)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ff"/>
                </a:solidFill>
                <a:latin typeface="Arial"/>
                <a:ea typeface="Arial"/>
              </a:rPr>
              <a:t>En Educación escolar</a:t>
            </a: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Arial"/>
              </a:rPr>
              <a:t>: Asociaciones escolares, Asociaciones Regio y otras asociaciones en el ámbito educativo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5 Rectángulo redondeado"/>
          <p:cNvSpPr/>
          <p:nvPr/>
        </p:nvSpPr>
        <p:spPr>
          <a:xfrm>
            <a:off x="971640" y="1052640"/>
            <a:ext cx="3981240" cy="10810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Asociaciones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estratégica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2 CuadroTexto"/>
          <p:cNvSpPr/>
          <p:nvPr/>
        </p:nvSpPr>
        <p:spPr>
          <a:xfrm>
            <a:off x="1066680" y="2057400"/>
            <a:ext cx="784872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 Rounded MT Bold"/>
              </a:rPr>
              <a:t>El programa de Aprendizaje Permanente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 Rounded MT Bold"/>
              </a:rPr>
              <a:t>El PAP: Evaluación intermedia y resultado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 Rounded MT Bold"/>
              </a:rPr>
              <a:t>Previsiones sobre el futuro programa 2014-20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0" name="4 Rectángulo redondeado"/>
          <p:cNvSpPr/>
          <p:nvPr/>
        </p:nvSpPr>
        <p:spPr>
          <a:xfrm>
            <a:off x="1116000" y="404640"/>
            <a:ext cx="75708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  <a:ea typeface="Arial"/>
              </a:rPr>
              <a:t>En esta sesión sobre el PAP y ERASMUS +: 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01" name="Picture 13" descr="comenius_schema"/>
          <p:cNvPicPr/>
          <p:nvPr/>
        </p:nvPicPr>
        <p:blipFill>
          <a:blip r:embed="rId1"/>
          <a:srcRect l="33863" t="44331" r="0" b="0"/>
          <a:stretch/>
        </p:blipFill>
        <p:spPr>
          <a:xfrm>
            <a:off x="5029200" y="3809880"/>
            <a:ext cx="3527280" cy="22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33ff"/>
                </a:solidFill>
                <a:latin typeface="Calibri"/>
              </a:rPr>
              <a:t>KA2: Asociaciones estratégica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71280" y="1412640"/>
            <a:ext cx="782964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ff"/>
                </a:solidFill>
                <a:latin typeface="Calibri"/>
              </a:rPr>
              <a:t>Cooperación sectorial y trans-secto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ff"/>
                </a:solidFill>
                <a:latin typeface="Calibri"/>
              </a:rPr>
              <a:t>Movilidad transnac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Calibri"/>
              </a:rPr>
              <a:t>Estancias del personal educati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Calibri"/>
              </a:rPr>
              <a:t>Eventos de formación de corta durací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Calibri"/>
              </a:rPr>
              <a:t>Movilidad de alumnado de corta duración, combinando con la movilidad vir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ff"/>
                </a:solidFill>
                <a:latin typeface="Calibri"/>
              </a:rPr>
              <a:t>Duración: 2-3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ff"/>
                </a:solidFill>
                <a:latin typeface="Calibri"/>
              </a:rPr>
              <a:t>Desarrollo institucional e internacionaliz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33ff"/>
                </a:solidFill>
                <a:latin typeface="Calibri"/>
              </a:rPr>
              <a:t>KA2: Asociaciones estratégicas escolare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6920" y="1785600"/>
            <a:ext cx="74725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Propuesta de la 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Coordinador  a cargo de las 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AN del centro coordinador a cargo de la evaluación y de la contractu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Ventaj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incremento de la calidad  y la ambición de las propuesta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simplificació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menos carga administrativ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no </a:t>
            </a:r>
            <a:r>
              <a:rPr b="0" i="1" lang="es-ES" sz="2000" spc="-1" strike="noStrike">
                <a:solidFill>
                  <a:srgbClr val="9933ff"/>
                </a:solidFill>
                <a:latin typeface="Calibri"/>
              </a:rPr>
              <a:t>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Inconvenientes: la mayoría de los centros no tienen capacidad de gestión económica de esta envergad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7956720" y="1989000"/>
            <a:ext cx="720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0" name="4 Rectángulo redondeado"/>
          <p:cNvSpPr/>
          <p:nvPr/>
        </p:nvSpPr>
        <p:spPr>
          <a:xfrm>
            <a:off x="1128600" y="130320"/>
            <a:ext cx="5688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Acción clave 3: </a:t>
            </a:r>
            <a:r>
              <a:rPr b="1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Apoyo a la reforma de las política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rcRect l="20905" t="18472" r="14474" b="25276"/>
          <a:stretch/>
        </p:blipFill>
        <p:spPr>
          <a:xfrm>
            <a:off x="1066680" y="692280"/>
            <a:ext cx="7561440" cy="3952800"/>
          </a:xfrm>
          <a:prstGeom prst="rect">
            <a:avLst/>
          </a:prstGeom>
          <a:ln w="0">
            <a:noFill/>
          </a:ln>
        </p:spPr>
      </p:pic>
      <p:sp>
        <p:nvSpPr>
          <p:cNvPr id="192" name="6 Llamada rectangular redondeada"/>
          <p:cNvSpPr/>
          <p:nvPr/>
        </p:nvSpPr>
        <p:spPr>
          <a:xfrm rot="16200000">
            <a:off x="1858320" y="4161240"/>
            <a:ext cx="990360" cy="2421000"/>
          </a:xfrm>
          <a:prstGeom prst="wedgeRoundRectCallout">
            <a:avLst>
              <a:gd name="adj1" fmla="val 100018"/>
              <a:gd name="adj2" fmla="val -2186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esarrollo de indicadore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Análisis de las política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studios comparativo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3" name="7 Llamada rectangular redondeada"/>
          <p:cNvSpPr/>
          <p:nvPr/>
        </p:nvSpPr>
        <p:spPr>
          <a:xfrm rot="16200000">
            <a:off x="7184160" y="3907440"/>
            <a:ext cx="1218960" cy="2700360"/>
          </a:xfrm>
          <a:prstGeom prst="wedgeRoundRectCallout">
            <a:avLst>
              <a:gd name="adj1" fmla="val 90194"/>
              <a:gd name="adj2" fmla="val -2129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Apoyo a las agendas política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ara prioridades temática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roceso Bolonia, Escuelas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ara el siglo XXI, .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10 Llamada rectangular redondeada"/>
          <p:cNvSpPr/>
          <p:nvPr/>
        </p:nvSpPr>
        <p:spPr>
          <a:xfrm rot="16200000">
            <a:off x="4345560" y="4111920"/>
            <a:ext cx="1295640" cy="2519280"/>
          </a:xfrm>
          <a:prstGeom prst="wedgeRoundRectCallout">
            <a:avLst>
              <a:gd name="adj1" fmla="val 92824"/>
              <a:gd name="adj2" fmla="val -2186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Fomento de la aplicación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nacional de herramientas d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transparencia de la UE: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CTS, ECVET, .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1116000" y="476280"/>
          <a:ext cx="7570800" cy="5473800"/>
        </p:xfrm>
        <a:graphic>
          <a:graphicData uri="http://schemas.openxmlformats.org/drawingml/2006/table">
            <a:tbl>
              <a:tblPr/>
              <a:tblGrid>
                <a:gridCol w="3673440"/>
                <a:gridCol w="389736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PAP Comeniu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Erasmus +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 02 (IST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1 Mobility of Learners and Staff (ML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STAFF MOBILITY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 04 (ASSITANT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 05 (HOST SCHOOL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 1 High Education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¿??????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 06 (MULTILATERAL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 07 (BILATERAL)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 2:  STRATEGIG PARTNERSHIP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SCHOOL PARTNERSHIP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 13 ( COMENIUS REGIO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 2 STRATEGIC PARTNERSHIPS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 14 (INDIVIDUAL PUPIL MOBILITY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 2 (STRATEGIC  PARTNERSHIP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???? KA 1 (LEARNERS MOBILITY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 09 (PREPARATORY VISIT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?????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1187280" y="471600"/>
          <a:ext cx="7056720" cy="5621400"/>
        </p:xfrm>
        <a:graphic>
          <a:graphicData uri="http://schemas.openxmlformats.org/drawingml/2006/table">
            <a:tbl>
              <a:tblPr/>
              <a:tblGrid>
                <a:gridCol w="3603960"/>
                <a:gridCol w="3452760"/>
              </a:tblGrid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PAP GRUNDTVIG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Erasmus +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GRU 03 (IST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1 Mobility of Learners and   Staff (ML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STAFF MOBILITY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GRU 11 (ASSITANT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 1 High Education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¿??????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GRU 06 (LEARNER  PARTNERSHIP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 2:  STRATEGIG PARTNERSHIP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GRU 13 ( WORKSHOP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DESAPARECE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GRU 14 (VOLUNTEERING PROJECTS)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 2 (STRATEGIC      PARTNERSHIP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GRU 07 (PREPARATORY VISIT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?????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GRU 12 (VISITS AND EXCHANGE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1 STAFF MOBILITY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1332000" y="1484280"/>
          <a:ext cx="6923160" cy="2592360"/>
        </p:xfrm>
        <a:graphic>
          <a:graphicData uri="http://schemas.openxmlformats.org/drawingml/2006/table">
            <a:tbl>
              <a:tblPr/>
              <a:tblGrid>
                <a:gridCol w="3535200"/>
                <a:gridCol w="338796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PAP GRUNDTVIG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Erasmus +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VISITAS DE ESTUDIO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DESAPARECE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ATÁLOGO DE CURSOS Y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ACTIVIDADES DE FORMACIÓN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ENIUS Y GRUNDTVIG</a:t>
                      </a:r>
                      <a:r>
                        <a:rPr b="0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DESAPARECE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826920" y="177336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042920" y="1341360"/>
          <a:ext cx="7921800" cy="4297320"/>
        </p:xfrm>
        <a:graphic>
          <a:graphicData uri="http://schemas.openxmlformats.org/drawingml/2006/table">
            <a:tbl>
              <a:tblPr/>
              <a:tblGrid>
                <a:gridCol w="3745080"/>
                <a:gridCol w="4176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Presupuesto total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7.299 millones € (??)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Oportunidades totales de movilidad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5 millones de persona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Educación Superior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,2 millones de estudiante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Movilidad del personal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 millón de profesores, formadores, etc.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Formación Profesional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735.000 estudiante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Programas juveniles (voluntariado / intercambio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540.000 jóvene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Garantía de préstamos (Máster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30.000 estudiante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Estudiantes internacionale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35.000 estudiante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Ayudas para programas conjunto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4.000 estudiante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Asociaciones estratégica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Más de 20.000 (115.000 institucione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Alianzas para el conocimiento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00 (2.000 empresas e Inst. de E.Sup.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Alianzas - competencias sectoriale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00 (2.000 empresas y proveedores FP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4 Rectángulo redondeado"/>
          <p:cNvSpPr/>
          <p:nvPr/>
        </p:nvSpPr>
        <p:spPr>
          <a:xfrm>
            <a:off x="900000" y="189000"/>
            <a:ext cx="316728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Previsiones de Erasmus +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33ff"/>
                </a:solidFill>
                <a:latin typeface="Calibri"/>
              </a:rPr>
              <a:t>Dudas y reto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71280" y="1483920"/>
            <a:ext cx="79009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Garantizar que no sólo los centros experimentados acceden: incorporación de nuevos centros e 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European Development Plan: Debe contribuir a la mejora, internacionalización del centro/i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Cómo elaborarlo, cómo integrarlo en proyecto institucional, en la vida ordinaria del centro/institución, cómo ser convin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Personal no ligado a una institución, cómo asegurar que no quedan excl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33ff"/>
                </a:solidFill>
                <a:latin typeface="Calibri"/>
              </a:rPr>
              <a:t>Estrategia de futuro conjunta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71280" y="1628280"/>
            <a:ext cx="7829640" cy="46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Objetivo: Prepararnos para estar en buena posición de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Difusión, promoción, formación, asesoramiento, seguimiento, 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Destinatarios: las instituciones: centros, asociaciones, organizaciones locales, regionales, servicios educativos de las CCAA, agentes sociales y otros agentes educativo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Formación y promoción en cas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Cooperación entre AN yAdministraciones educ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6826320" cy="11430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33ff"/>
                </a:solidFill>
                <a:latin typeface="Arial Narrow"/>
              </a:rPr>
              <a:t>Direcciones útil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812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 Narrow"/>
              </a:rPr>
              <a:t>http://www.oapee.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 Narrow"/>
              </a:rPr>
              <a:t>http://studyvisits.cedefop.europa.eu/</a:t>
            </a:r>
            <a:r>
              <a:rPr b="0" lang="es-ES" sz="2000" spc="-1" strike="noStrike">
                <a:solidFill>
                  <a:srgbClr val="9933ff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 Narrow"/>
              </a:rPr>
              <a:t>http://www.modeproject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 Narrow"/>
              </a:rPr>
              <a:t>http://ec.europa.eu/education/programmes/programmes_e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 Narrow"/>
              </a:rPr>
              <a:t>www.eurydice.org/</a:t>
            </a:r>
            <a:r>
              <a:rPr b="0" lang="es-ES" sz="2000" spc="-1" strike="noStrike">
                <a:solidFill>
                  <a:srgbClr val="9933ff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 Narrow"/>
              </a:rPr>
              <a:t>Oapee@oapee.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 Narrow"/>
              </a:rPr>
              <a:t>Gustavo Fernández Balbuena, 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 Narrow"/>
              </a:rPr>
              <a:t>28002 Mad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 Narrow"/>
              </a:rPr>
              <a:t>Cristina Figueroa  </a:t>
            </a:r>
            <a:r>
              <a:rPr b="0" lang="es-ES" sz="2000" spc="-1" strike="noStrike" u="sng">
                <a:solidFill>
                  <a:srgbClr val="ff0000"/>
                </a:solidFill>
                <a:uFillTx/>
                <a:latin typeface="Arial Narrow"/>
                <a:hlinkClick r:id="rId1"/>
              </a:rPr>
              <a:t>cristina.figueroa@oapee.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 Narrow"/>
              </a:rPr>
              <a:t>Ana Carmen del Canto </a:t>
            </a:r>
            <a:r>
              <a:rPr b="0" lang="es-ES" sz="2000" spc="-1" strike="noStrike" u="sng">
                <a:solidFill>
                  <a:srgbClr val="ff0000"/>
                </a:solidFill>
                <a:uFillTx/>
                <a:latin typeface="Arial Narrow"/>
                <a:hlinkClick r:id="rId2"/>
              </a:rPr>
              <a:t>anac.delcanto@oapee.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4 Rectángulo redondeado"/>
          <p:cNvSpPr/>
          <p:nvPr/>
        </p:nvSpPr>
        <p:spPr>
          <a:xfrm>
            <a:off x="1143000" y="22860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"/>
                <a:ea typeface="Arial"/>
              </a:rPr>
              <a:t>El Contexto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3" name="6 Rectángulo redondeado"/>
          <p:cNvSpPr/>
          <p:nvPr/>
        </p:nvSpPr>
        <p:spPr>
          <a:xfrm>
            <a:off x="1066680" y="990720"/>
            <a:ext cx="770436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"/>
                <a:ea typeface="Arial"/>
              </a:rPr>
              <a:t>El PAP </a:t>
            </a:r>
            <a:r>
              <a:rPr b="0" lang="es-ES_tradnl" sz="2400" spc="-1" strike="noStrike">
                <a:solidFill>
                  <a:srgbClr val="9933ff"/>
                </a:solidFill>
                <a:latin typeface="Arial"/>
                <a:ea typeface="Arial"/>
              </a:rPr>
              <a:t>(2007-2013)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042920" y="1676520"/>
          <a:ext cx="7872480" cy="4913280"/>
        </p:xfrm>
        <a:graphic>
          <a:graphicData uri="http://schemas.openxmlformats.org/drawingml/2006/table">
            <a:tbl>
              <a:tblPr/>
              <a:tblGrid>
                <a:gridCol w="1968480"/>
                <a:gridCol w="1968480"/>
                <a:gridCol w="1967040"/>
                <a:gridCol w="1968480"/>
              </a:tblGrid>
              <a:tr h="51840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rogramas Sectoriales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4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omenius</a:t>
                      </a:r>
                      <a:endParaRPr b="0" lang="en-US" sz="24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Educaci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ó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n escolar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3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rasmus</a:t>
                      </a:r>
                      <a:endParaRPr b="0" lang="en-US" sz="24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Educaci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ó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n superior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Leonardo da Vinci</a:t>
                      </a:r>
                      <a:r>
                        <a:rPr b="0" lang="es-ES" sz="2800" spc="-1" strike="noStrike">
                          <a:solidFill>
                            <a:srgbClr val="ff0066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Formaci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ó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n Profesional</a:t>
                      </a:r>
                      <a:r>
                        <a:rPr b="0" lang="es-E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Grundtvig</a:t>
                      </a:r>
                      <a:endParaRPr b="0" lang="en-US" sz="24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Educaci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Book Antiqua"/>
                          <a:ea typeface="Arial"/>
                        </a:rPr>
                        <a:t>ó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n de personas adultas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156636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grama Transversal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isitas de estudio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4 actividades clave: Desarrollo de pol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í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ticas; Aprendizaje de idiomas; TIC; Difusi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ó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n y valorizaci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ó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n</a:t>
                      </a:r>
                      <a:r>
                        <a:rPr b="0" lang="es-E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740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grama Jean Monnet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3 actividades clave 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–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 Acci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ó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n Jean Monnet; Instituciones europeas; Asociaciones europeas</a:t>
                      </a:r>
                      <a:r>
                        <a:rPr b="0" lang="es-E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" name="AutoShape 20"/>
          <p:cNvSpPr/>
          <p:nvPr/>
        </p:nvSpPr>
        <p:spPr>
          <a:xfrm>
            <a:off x="3395520" y="3843360"/>
            <a:ext cx="3048120" cy="880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258560" y="2133720"/>
            <a:ext cx="7427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33ff"/>
                </a:solidFill>
                <a:latin typeface="Arial Narrow"/>
              </a:rPr>
              <a:t>¡Muchas gracias por su atenció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4 Rectángulo redondeado"/>
          <p:cNvSpPr/>
          <p:nvPr/>
        </p:nvSpPr>
        <p:spPr>
          <a:xfrm>
            <a:off x="1143000" y="260280"/>
            <a:ext cx="242100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"/>
                <a:ea typeface="Arial"/>
              </a:rPr>
              <a:t>1. El </a:t>
            </a:r>
            <a:r>
              <a:rPr b="0" lang="es-ES" sz="2400" spc="-1" strike="noStrike">
                <a:solidFill>
                  <a:srgbClr val="c753c3"/>
                </a:solidFill>
                <a:latin typeface="Arial"/>
                <a:ea typeface="Arial"/>
              </a:rPr>
              <a:t>Contexto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7" name="6 Rectángulo redondeado"/>
          <p:cNvSpPr/>
          <p:nvPr/>
        </p:nvSpPr>
        <p:spPr>
          <a:xfrm>
            <a:off x="1066680" y="990720"/>
            <a:ext cx="770436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"/>
                <a:ea typeface="Arial"/>
              </a:rPr>
              <a:t>El Programa de Aprendizaje Permanente (PAP)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079640" y="1916280"/>
            <a:ext cx="7524720" cy="29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Calibri"/>
                <a:ea typeface="Arial"/>
              </a:rPr>
              <a:t>El PAP pretend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33ff"/>
                </a:solidFill>
                <a:latin typeface="Calibri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9933ff"/>
                </a:solidFill>
                <a:latin typeface="Calibri"/>
                <a:ea typeface="Arial"/>
              </a:rPr>
              <a:t>Contribuir al desarrollo de la </a:t>
            </a:r>
            <a:r>
              <a:rPr b="0" lang="es-ES_tradnl" sz="2000" spc="-1" strike="noStrike" u="sng">
                <a:solidFill>
                  <a:srgbClr val="9933ff"/>
                </a:solidFill>
                <a:uFillTx/>
                <a:latin typeface="Calibri"/>
                <a:ea typeface="Arial"/>
              </a:rPr>
              <a:t>Unión Europea como sociedad del conocimiento avanzado</a:t>
            </a:r>
            <a:r>
              <a:rPr b="0" lang="es-ES_tradnl" sz="2000" spc="-1" strike="noStrike">
                <a:solidFill>
                  <a:srgbClr val="9933ff"/>
                </a:solidFill>
                <a:latin typeface="Calibri"/>
                <a:ea typeface="Arial"/>
              </a:rPr>
              <a:t>, con un desarrollo económico sostenible, más y mejores trabajos y una mayor cohesión social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  <a:ea typeface="Arial"/>
              </a:rPr>
              <a:t> </a:t>
            </a:r>
            <a:r>
              <a:rPr b="0" lang="es-ES" sz="2000" spc="-1" strike="noStrike">
                <a:solidFill>
                  <a:srgbClr val="9933ff"/>
                </a:solidFill>
                <a:latin typeface="Calibri"/>
                <a:ea typeface="Arial"/>
              </a:rPr>
              <a:t>Favorecer el </a:t>
            </a:r>
            <a:r>
              <a:rPr b="0" lang="es-ES" sz="2000" spc="-1" strike="noStrike" u="sng">
                <a:solidFill>
                  <a:srgbClr val="9933ff"/>
                </a:solidFill>
                <a:uFillTx/>
                <a:latin typeface="Calibri"/>
                <a:ea typeface="Arial"/>
              </a:rPr>
              <a:t>intercambio</a:t>
            </a:r>
            <a:r>
              <a:rPr b="0" lang="es-ES" sz="2000" spc="-1" strike="noStrike">
                <a:solidFill>
                  <a:srgbClr val="9933ff"/>
                </a:solidFill>
                <a:latin typeface="Calibri"/>
                <a:ea typeface="Arial"/>
              </a:rPr>
              <a:t>, la </a:t>
            </a:r>
            <a:r>
              <a:rPr b="0" lang="es-ES" sz="2000" spc="-1" strike="noStrike" u="sng">
                <a:solidFill>
                  <a:srgbClr val="9933ff"/>
                </a:solidFill>
                <a:uFillTx/>
                <a:latin typeface="Calibri"/>
                <a:ea typeface="Arial"/>
              </a:rPr>
              <a:t>cooperación</a:t>
            </a:r>
            <a:r>
              <a:rPr b="0" lang="es-ES" sz="2000" spc="-1" strike="noStrike">
                <a:solidFill>
                  <a:srgbClr val="9933ff"/>
                </a:solidFill>
                <a:latin typeface="Calibri"/>
                <a:ea typeface="Arial"/>
              </a:rPr>
              <a:t> y la </a:t>
            </a:r>
            <a:r>
              <a:rPr b="0" lang="es-ES" sz="2000" spc="-1" strike="noStrike" u="sng">
                <a:solidFill>
                  <a:srgbClr val="9933ff"/>
                </a:solidFill>
                <a:uFillTx/>
                <a:latin typeface="Calibri"/>
                <a:ea typeface="Arial"/>
              </a:rPr>
              <a:t>movilidad</a:t>
            </a:r>
            <a:r>
              <a:rPr b="0" lang="es-ES" sz="2000" spc="-1" strike="noStrike">
                <a:solidFill>
                  <a:srgbClr val="9933ff"/>
                </a:solidFill>
                <a:latin typeface="Calibri"/>
                <a:ea typeface="Arial"/>
              </a:rPr>
              <a:t> entre centros y sistemas educativos y de formación dentro de los países europeo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bd19890_"/>
          <p:cNvPicPr/>
          <p:nvPr/>
        </p:nvPicPr>
        <p:blipFill>
          <a:blip r:embed="rId1"/>
          <a:stretch/>
        </p:blipFill>
        <p:spPr>
          <a:xfrm>
            <a:off x="914400" y="3200400"/>
            <a:ext cx="3362400" cy="297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j0400008"/>
          <p:cNvPicPr/>
          <p:nvPr/>
        </p:nvPicPr>
        <p:blipFill>
          <a:blip r:embed="rId2"/>
          <a:stretch/>
        </p:blipFill>
        <p:spPr>
          <a:xfrm>
            <a:off x="5029200" y="91440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j0174351"/>
          <p:cNvPicPr/>
          <p:nvPr/>
        </p:nvPicPr>
        <p:blipFill>
          <a:blip r:embed="rId3"/>
          <a:stretch/>
        </p:blipFill>
        <p:spPr>
          <a:xfrm>
            <a:off x="4952880" y="3581280"/>
            <a:ext cx="3416400" cy="2927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00">
                <a:alpha val="75000"/>
              </a:srgbClr>
            </a:outerShdw>
          </a:effectLst>
        </p:spPr>
      </p:pic>
      <p:pic>
        <p:nvPicPr>
          <p:cNvPr id="112" name="Picture 6" descr="j0397949"/>
          <p:cNvPicPr/>
          <p:nvPr/>
        </p:nvPicPr>
        <p:blipFill>
          <a:blip r:embed="rId4"/>
          <a:stretch/>
        </p:blipFill>
        <p:spPr>
          <a:xfrm>
            <a:off x="1600200" y="0"/>
            <a:ext cx="2558880" cy="259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00">
                <a:alpha val="75000"/>
              </a:srgbClr>
            </a:outerShdw>
          </a:effectLst>
        </p:spPr>
      </p:pic>
      <p:sp>
        <p:nvSpPr>
          <p:cNvPr id="113" name="CuadroTexto 5"/>
          <p:cNvSpPr/>
          <p:nvPr/>
        </p:nvSpPr>
        <p:spPr>
          <a:xfrm>
            <a:off x="6413040" y="2743200"/>
            <a:ext cx="16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ff"/>
                </a:solidFill>
                <a:latin typeface="Arial"/>
              </a:rPr>
              <a:t>Movilidad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4" name="CuadroTexto 6"/>
          <p:cNvSpPr/>
          <p:nvPr/>
        </p:nvSpPr>
        <p:spPr>
          <a:xfrm>
            <a:off x="1552680" y="2836800"/>
            <a:ext cx="21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ff"/>
                </a:solidFill>
                <a:latin typeface="Arial"/>
              </a:rPr>
              <a:t>Cooperación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283760" y="2205000"/>
            <a:ext cx="78598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"/>
              </a:rPr>
              <a:t>3 000 millones de euros 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</a:rPr>
              <a:t>en tres años para actividades transnacionales de educación y formación destinadas a promover la modernización de los sistemas educativos en treinta y un países europe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33ff"/>
                </a:solidFill>
                <a:latin typeface="Arial"/>
              </a:rPr>
              <a:t>900 000 periodos de movilidad </a:t>
            </a:r>
            <a:r>
              <a:rPr b="0" lang="es-ES" sz="2400" spc="-1" strike="noStrike">
                <a:solidFill>
                  <a:srgbClr val="9933ff"/>
                </a:solidFill>
                <a:latin typeface="Arial"/>
              </a:rPr>
              <a:t>de aprendizaje a ciudadanos europe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</a:rPr>
              <a:t>más de 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</a:rPr>
              <a:t>720 000 estudiantes 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</a:rPr>
              <a:t>y casi </a:t>
            </a:r>
            <a:r>
              <a:rPr b="1" lang="es-ES" sz="2400" spc="-1" strike="noStrike">
                <a:solidFill>
                  <a:srgbClr val="9933ff"/>
                </a:solidFill>
                <a:latin typeface="Arial"/>
              </a:rPr>
              <a:t>180 000 profesores</a:t>
            </a:r>
            <a:r>
              <a:rPr b="0" lang="es-ES" sz="2400" spc="-1" strike="noStrike">
                <a:solidFill>
                  <a:srgbClr val="9933ff"/>
                </a:solidFill>
                <a:latin typeface="Arial"/>
              </a:rPr>
              <a:t>, formadores y otro personal.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</a:rPr>
              <a:t>Más de 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</a:rPr>
              <a:t>50 000 organizaciones europeas</a:t>
            </a:r>
            <a:r>
              <a:rPr b="1" lang="es-ES" sz="24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4 Rectángulo redondeado"/>
          <p:cNvSpPr/>
          <p:nvPr/>
        </p:nvSpPr>
        <p:spPr>
          <a:xfrm>
            <a:off x="1079640" y="1109520"/>
            <a:ext cx="8064360" cy="979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ff"/>
                </a:solidFill>
                <a:latin typeface="Calibri"/>
              </a:rPr>
              <a:t>Evaluación intermedia del PAP: algunas cifra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573200" y="2492280"/>
            <a:ext cx="7570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Un catalizador de cambios estruc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Un éxito para las personas y las 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Gran demanda de asociaciones, proyectos y r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Apoyo al desarrollo de las iniciativas a nivel de la UE y 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Modernización de las instituciones de educación y 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Fomento de las competencias individ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Mejor marco de gestión 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4 Rectángulo redondeado"/>
          <p:cNvSpPr/>
          <p:nvPr/>
        </p:nvSpPr>
        <p:spPr>
          <a:xfrm>
            <a:off x="1079640" y="1447920"/>
            <a:ext cx="8064360" cy="89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ff"/>
                </a:solidFill>
                <a:latin typeface="Calibri"/>
              </a:rPr>
              <a:t>Evaluación intermedia del PAP: conclusione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116000" y="1916280"/>
            <a:ext cx="8028000" cy="48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     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Innovación: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-Cambio en las institucion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-Formación del profesorado / personal formador 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Fortalecimiento del Aprendizaje a lo largo de la vida en la Unión Europea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Influencia en la política educativa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0" name="ZoneTexte 60"/>
          <p:cNvSpPr/>
          <p:nvPr/>
        </p:nvSpPr>
        <p:spPr>
          <a:xfrm>
            <a:off x="1042920" y="762120"/>
            <a:ext cx="81010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aaa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ff"/>
                </a:solidFill>
                <a:latin typeface="Verdana"/>
                <a:ea typeface="Arial"/>
              </a:rPr>
              <a:t> </a:t>
            </a: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¿Qué ha supuesto el Programa de Aprendizaje Permanente?</a:t>
            </a:r>
            <a:r>
              <a:rPr b="0" lang="fr-BE" sz="2400" spc="-1" strike="noStrike">
                <a:solidFill>
                  <a:srgbClr val="9933ff"/>
                </a:solidFill>
                <a:latin typeface="Verdana"/>
                <a:ea typeface="Arial"/>
              </a:rPr>
              <a:t>- </a:t>
            </a:r>
            <a:r>
              <a:rPr b="0" lang="fr-BE" sz="2000" spc="-1" strike="noStrike">
                <a:solidFill>
                  <a:srgbClr val="9933ff"/>
                </a:solidFill>
                <a:latin typeface="Verdana"/>
                <a:ea typeface="Arial"/>
              </a:rPr>
              <a:t>2000-2013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403280" y="990720"/>
            <a:ext cx="7344000" cy="61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8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Y también: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Primera experiencia de Europa para muchas instituciones y su personal y alumnado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Dimensión europea en las instituciones de educación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Fomenta el desarrollo de redes para el intercambio de experiencias y buenas práctica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Mejora la calidad a través de la cooperación a nivel de bas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Impulsa la innovación y la creatividad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Fomenta la cohesión soci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"/>
                <a:ea typeface="Arial Unicode MS"/>
              </a:rPr>
              <a:t>……</a:t>
            </a:r>
            <a:r>
              <a:rPr b="0" lang="es-ES" sz="2400" spc="-1" strike="noStrike">
                <a:solidFill>
                  <a:srgbClr val="9933ff"/>
                </a:solidFill>
                <a:latin typeface="Arial"/>
                <a:ea typeface="Arial Unicode MS"/>
              </a:rPr>
              <a:t>..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06:05:51Z</dcterms:created>
  <dc:creator>cecilia.baquero</dc:creator>
  <dc:description/>
  <dc:language>en-US</dc:language>
  <cp:lastModifiedBy>oapee</cp:lastModifiedBy>
  <dcterms:modified xsi:type="dcterms:W3CDTF">2013-09-17T07:32:16Z</dcterms:modified>
  <cp:revision>735</cp:revision>
  <dc:subject/>
  <dc:title>Presentación de PowerPoint</dc:title>
</cp:coreProperties>
</file>