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8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6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8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6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5124960"/>
            <a:ext cx="77724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F52D-1109-4554-B9CC-6B2A88C2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084C-08DD-4DA1-9854-49644CE3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F243-A581-4EEC-BCB3-F3B016C5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6E76-0EC3-45DD-A16B-C996ECB5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67F8-D798-4CF1-A5B8-B93676F2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14400" y="5124960"/>
            <a:ext cx="77724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2BD5-A3E8-43C9-B8DA-64D171ED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84B2-3F23-4263-BF29-7C838A89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45F-16C0-4659-ABD2-3EB992F7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69CF-B5BE-46B6-89C3-88EC897D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50C7-0521-4CCD-970D-2C134355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7D1E-E4BC-4A63-974C-7F7E9CBF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18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46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18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46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4F4-2F75-4D67-897C-A81A15B0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5331-3CA9-4647-BA81-4B492E4C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AABB-D4C4-419C-B271-B528D503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C10C-4CDE-4452-9DF9-4720D062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80E2-BEF0-4D55-8C20-50C07D37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3301-F987-46E5-AF75-2DE466C0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914400" y="5124960"/>
            <a:ext cx="77724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46F3-ED05-4C1B-A997-0FC54F1C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AA00-BD82-4085-A9AC-33A4681A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39B0-0D52-4B41-BF0C-907B9D49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6479-B64D-4711-B8FA-A9FF3383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F83A-EDE7-4887-BD09-F5E6F1EA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A28A-425C-47D6-9E69-D3E4D8FB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618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46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618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46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1640-8FBF-45E7-BDA8-079569FB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5124960"/>
            <a:ext cx="77724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ITAS DE EST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RNADAS INFORM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10800000">
            <a:off x="1219320" y="177480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116000" y="6021360"/>
            <a:ext cx="1871640" cy="5079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5187960" y="6021360"/>
            <a:ext cx="1544760" cy="430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236000" y="6021360"/>
            <a:ext cx="1461960" cy="411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3419640" y="5734080"/>
            <a:ext cx="1454040" cy="100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ITAS DE EST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RNADAS INFORM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1219320" y="177480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16000" y="6021360"/>
            <a:ext cx="187164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187960" y="6021360"/>
            <a:ext cx="1544760" cy="430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236000" y="6021360"/>
            <a:ext cx="1461960" cy="411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419640" y="5734080"/>
            <a:ext cx="1454040" cy="100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FF82-766F-4728-B338-8995C7992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ctr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smo Autónomo Programas Educativos Europe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948360" y="189000"/>
            <a:ext cx="1986120" cy="425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187280" y="6021360"/>
            <a:ext cx="1656000" cy="449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492360" y="5851440"/>
            <a:ext cx="1454400" cy="1006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364000" y="6021360"/>
            <a:ext cx="1544760" cy="430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308720" y="6021360"/>
            <a:ext cx="1462320" cy="41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9AE1-312A-42CD-A678-6C7CEECF8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ctr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smo Autónomo Programas Educativos Europe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948360" y="189000"/>
            <a:ext cx="1986120" cy="425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187280" y="6021360"/>
            <a:ext cx="1656000" cy="449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492360" y="5851440"/>
            <a:ext cx="1454400" cy="1006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364000" y="6021360"/>
            <a:ext cx="1544760" cy="430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7308720" y="6021360"/>
            <a:ext cx="1462320" cy="41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VISITAS DE ESTUDI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692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GRAMA TRANSVERSAL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NDICIONES DE PAGO Y DOCUMENTACIÓN</a:t>
            </a:r>
            <a:br>
              <a:rPr sz="1800"/>
            </a:b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BENEFICIARIOS DE VISITAS</a:t>
            </a:r>
            <a:br>
              <a:rPr sz="1600"/>
            </a:br>
            <a:r>
              <a:rPr b="1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800" spc="-1" strike="noStrike" u="sng">
                <a:solidFill>
                  <a:srgbClr val="3333cc"/>
                </a:solidFill>
                <a:uFillTx/>
                <a:latin typeface="Arial"/>
              </a:rPr>
              <a:t>ANTES DE LA VISITA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c0066"/>
                </a:solidFill>
                <a:uFillTx/>
                <a:latin typeface="Arial"/>
              </a:rPr>
              <a:t>Si usted ha recibido el convenio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0066"/>
                </a:solidFill>
                <a:latin typeface="Arial"/>
              </a:rPr>
              <a:t>Por favor, léalo con atención. Conozca las obligaciones de ambas part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0066"/>
                </a:solidFill>
                <a:latin typeface="Arial"/>
              </a:rPr>
              <a:t>Además del convenio, se adjunta una guía práctica y tabla de dietas por país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Debe enviar a la A.N dos ejemplares del Convenio Financiero firmados  antes de 30 días naturales a contar desde la fecha de  su recepción (pag. 1-9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Alta a tercero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La directora del OAPEE , como representante de la A.N. española firmará ambos ejemplares a su recepción, certificando el acuerdo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Se realizará  pre-financiación del 80% de la ayuda máxima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Plazo pago AN: 45 días naturales a partir de la entrada en vigor del convenio (a la firma de la última de ambas parte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Se les remitirá un ejemplar con ambas firmas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NDICIONES DE PAGO Y DOCUMENTACIÓN</a:t>
            </a:r>
            <a:br>
              <a:rPr sz="1800"/>
            </a:b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BENEFICIARIOS DE VISITAS</a:t>
            </a:r>
            <a:br>
              <a:rPr sz="1600"/>
            </a:br>
            <a:r>
              <a:rPr b="1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800" spc="-1" strike="noStrike" u="sng">
                <a:solidFill>
                  <a:srgbClr val="3333cc"/>
                </a:solidFill>
                <a:uFillTx/>
                <a:latin typeface="Arial"/>
              </a:rPr>
              <a:t>DESPUÉS DE LA VISITA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63280" y="1981080"/>
            <a:ext cx="705636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66"/>
                </a:solidFill>
                <a:uFillTx/>
                <a:latin typeface="Arial"/>
              </a:rPr>
              <a:t>Si usted ha regresado de la visit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nforme final 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EN LÍNEA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integrado por 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Declaración de gasto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nforme de evaluació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emoria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pedagógic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demás deberá inclui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nforme de grup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opia del certificado de asistenci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Pago final (hasta un máximo 20% de la ayuda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lazo: 45 días naturales desde la aprobación de la documentación fin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EJEMPLO</a:t>
            </a:r>
            <a:br>
              <a:rPr sz="1600"/>
            </a:b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CUMPLIMENTACIÓN INFORME FINAL</a:t>
            </a:r>
            <a:br>
              <a:rPr sz="1600"/>
            </a:b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ISITA DE ESTUDIOS A PORTUGAL (VISITA 5 DÍA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547640" y="1700280"/>
          <a:ext cx="6913440" cy="4003560"/>
        </p:xfrm>
        <a:graphic>
          <a:graphicData uri="http://schemas.openxmlformats.org/drawingml/2006/table">
            <a:tbl>
              <a:tblPr/>
              <a:tblGrid>
                <a:gridCol w="1630440"/>
                <a:gridCol w="2895480"/>
                <a:gridCol w="23875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STES DE LA ACTIV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SCRIP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MPORTE (EN €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iajes y vis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costes real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aís que se visita- PORTU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ocalidad-Lisb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echa inicio actividad. 22/10/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echa fin actividad      26/10/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98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STES MÁXIM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SCRIP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MPORTE (EN €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ietas (incluye seguro de viaje, alojamiento, manutención y transportes local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úmero de días – </a:t>
                      </a: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135 € x 6 dí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1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STE TOTAL DE LA ACTIV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08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CONDICIONES DE PAG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6697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99"/>
                </a:solidFill>
                <a:uFillTx/>
                <a:latin typeface="Arial"/>
              </a:rPr>
              <a:t>DURACIÓN DE LAS VISITA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ISITAS FORMACIÓN PROFESIONAL Y MIXTAS:  3 - 4 DÍA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ISITAS EDUCACIÓN GENERAL: 5 DÍA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99"/>
                </a:solidFill>
                <a:uFillTx/>
                <a:latin typeface="Arial"/>
              </a:rPr>
              <a:t>DIETAS  (FINANCIACIÓN MÁXIMA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ESTINOS ULTRAMAR (Martinica, Guadalupe, La Reunión ,Islas      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Caimán, etc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ORIGEN (Islas Canarias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ías de duración de la visita + 2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STO DE DESTINO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ías de duración de la visita + 1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66"/>
                </a:solidFill>
                <a:uFillTx/>
                <a:latin typeface="Arial"/>
              </a:rPr>
              <a:t>      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90756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SPECTOS PRÁCTICOS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79786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El organizador se pondrá en contacto con usted y le pedirá confirmación de su asistenci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Le remitirá la lista de participantes en la visita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Le facilitará información  (programa, visitas culturales, etc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Le indicará lo que espera de los participantes (exposiciones y contenido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Le proporcionará información práctica (reserva de hotel, transportes, aeropuerto de llegada….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845800" y="2602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Arial"/>
              </a:rPr>
              <a:t>ANTES DE LA VIS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ASPECTOS PRÁCTICOS</a:t>
            </a:r>
            <a:br>
              <a:rPr sz="1600"/>
            </a:br>
            <a:r>
              <a:rPr b="1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DESPUÉS DE LA VISITA</a:t>
            </a:r>
            <a:br>
              <a:rPr sz="2800"/>
            </a:b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02920" y="1197000"/>
            <a:ext cx="727236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INFORME INDIVIDU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scribir los conocimientos o competencias adquirid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eneficio y conclusiones de la visita de cara a su desarrollo profesion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ciencia de la dimensión europea de su trabaj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rma en que piensa difundir lo aprendid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erspectivas de impacto de la visita en su participación en otras acciones del PA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CANCELACION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19280" y="1699920"/>
            <a:ext cx="71438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Deben comunicarse simultáneamente con suficiente antela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–</a:t>
            </a: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Al organizad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–</a:t>
            </a:r>
            <a:r>
              <a:rPr b="1" lang="es-ES" sz="2400" spc="-1" strike="noStrike">
                <a:solidFill>
                  <a:srgbClr val="9900cc"/>
                </a:solidFill>
                <a:latin typeface="Arial"/>
              </a:rPr>
              <a:t>A la Agencia Nacion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cc"/>
                </a:solidFill>
                <a:latin typeface="Arial"/>
              </a:rPr>
              <a:t>Cambios de visi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Se solicitan única y exclusivamente a la 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Sólo se realizan si están debidamente  justificad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7612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 u="sng">
                <a:solidFill>
                  <a:srgbClr val="cc0099"/>
                </a:solidFill>
                <a:uFillTx/>
                <a:latin typeface="Arial"/>
              </a:rPr>
              <a:t>VISITAS DE ESTUDI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836280"/>
            <a:ext cx="78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Arial"/>
              </a:rPr>
              <a:t>EFECTOS MULTIPLICADORES: SINERGIA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D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</a:rPr>
              <a:t>esarrollo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 proyectos educativos de carácter transnaciona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Implicación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de las personas asistentes y sus instituciones e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     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otros programas del PAP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Inclusión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 en el programa de visitas a centros o instituciones  que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participan 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coordinan  proyectos de los programas sectoriales Leonardo, Comenius, Grundtvig…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Participación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en otras movilidades individual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Organización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de una Visita de estudio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Colaboración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con instituciones europeas para el desarrollo de ideas innovadoras en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materia educativa y de formación profesional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Incorporación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de nuevas metodología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 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DIFUSIÓ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Publicación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artículos en revistas especializada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Publicación de buenas prácticas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de personas participantes e instituciones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organizadoras de Visitas de estudio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Participación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en seminarios internacional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79640" y="333360"/>
            <a:ext cx="60530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UGERENCIAS PARA EL APROVECHAMIENTO DE LA VISIT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92360" y="1341000"/>
            <a:ext cx="6742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Practique la lengua de trabajo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Prepare una breve presentació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Un pequeño regalo para el organizador es una muestra de cortesía habitual en las Visitas de estudio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Lleve información de su área profesional y de su centro u organismo. Es una buena manera de difundir lo que se está haciendo en su país o comunidad en materia educativa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Interésese por las políticas educativas y de formación para el empleo  que se están llevando a cabo en los países de origen de sus compañeros de visita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Amplíe sus relaciones profesionale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Deje a la familia en casa. La Visita de estudio es un viaje de trabajo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Muéstrese participativo, colabore, aprenda, difunda lo aprendido y sobre todo…..¡disfrute la experiencia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EVALUACIÓN</a:t>
            </a:r>
            <a:br>
              <a:rPr sz="3600"/>
            </a:b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ARTÍCULO 7 (convenio financiero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47640" y="1916280"/>
            <a:ext cx="7150320" cy="24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cc"/>
                </a:solidFill>
                <a:uFillTx/>
                <a:latin typeface="Arial"/>
              </a:rPr>
              <a:t>SEGUIMIENTO: EVALUACIÓN Y CONTRO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Para recibir la financiació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Podrán ser requeridas las facturas, justificantes, billetes y otra documentación relativa a la visita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476000" y="764640"/>
            <a:ext cx="6769080" cy="53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99"/>
                </a:solidFill>
                <a:uFillTx/>
                <a:latin typeface="Arial"/>
              </a:rPr>
              <a:t>En qué consisten las visitas de estudi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Es una acción descentralizada gestionada por la Agencia Nacional (OAPEE), en colaboración con la agencia europea CEDEFOP (Centro Europeo de Desarrollo de la Formación profesional)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sisten en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asistir a una visita organizada en otro país europeo participante en el Programa de aprendizaje permanente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e desarrolla en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pequeños grupos,(entre 8 y 15 participantes), procedentes de distintos países europeos que durante periodos de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res a cinco día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tendrán la oportunidad de debatir, observar e intercambiar perspectivas e ideas sobre cualquier aspecto del ámbito educativo o de formación profesional en un país europeo diferente al suyo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l idioma de trabaj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de la visita es en su mayoría inglés, francés o alemá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371600" y="115560"/>
            <a:ext cx="77724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99"/>
                </a:solidFill>
                <a:uFillTx/>
                <a:latin typeface="Arial"/>
              </a:rPr>
              <a:t>VISITAS DE ESTUDI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Visitas de estudi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03280" y="1125360"/>
            <a:ext cx="73598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L PROGRAMA COMPRENDE DOS ACTIVIDAD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PARTICIPACIÓN EN VISITAS DE ESTUDI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ORGANIZACIÓN DE VISITAS DE ESTUDI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GB" sz="1800" spc="-1" strike="noStrike" u="sng">
                <a:solidFill>
                  <a:srgbClr val="3333cc"/>
                </a:solidFill>
                <a:uFillTx/>
                <a:latin typeface="Arial"/>
              </a:rPr>
              <a:t>INSTITUCIONES QUE LES ACOGERÁN</a:t>
            </a:r>
            <a:r>
              <a:rPr b="1" lang="en-GB" sz="1400" spc="-1" strike="noStrike" u="sng">
                <a:solidFill>
                  <a:srgbClr val="3333cc"/>
                </a:solidFill>
                <a:uFillTx/>
                <a:latin typeface="Arial"/>
              </a:rPr>
              <a:t>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18920" y="1268280"/>
            <a:ext cx="67676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Instituciones con responsabilidad en educación y formación</a:t>
            </a: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Administraciones  educativas públicas nacionales, autonómicas o local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Entidades de orientación y evaluació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Centros de formación del profesorad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Servicios de inspección educativ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Asociaciones de formación y educació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Oficinas de emple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Cámaras de comercio e industri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Organizaciones empresarial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Institutos de investigació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Fundacion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ORGANIZADOR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YUDA DE FINANCIACIÓN A INSTITUCIONES ORGANIZADORAS DE VISITAS EN ESPAÑ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1.900, 00 Euro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ara COFINANCIAR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astos de desplazamientos, comidas, visitas culturales, material, etc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RESPONSABILIDADES</a:t>
            </a:r>
            <a:br>
              <a:rPr sz="2000"/>
            </a:b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ORGANIZADOR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Consultar el Handbook del organizador (disponible en español en la página del CEDEFOP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Elaborar un programa equilibrad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Proporcionar a la AN programa de la visit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Reservar un alojamiento adecuad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Informarse del perfil profesional de todos sus participantes en la base “Olive” del Cedefo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Contactar con los participantes al menos dos meses antes de la celebración de la visita y remitirles el programa previst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Responder a las dudas que les plantean sus participant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Proporcionar soporte logístico a los participantes y darles la información que requieran acerca de los contenidos de la visita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No todo es trabajo ….. (programe alguna actividad lúdica, visita cultural, etc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RESPONSABILIDADES</a:t>
            </a:r>
            <a:br>
              <a:rPr sz="2000"/>
            </a:b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ORGANIZADOR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127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ntactar con autoridades educativas, representantes de los agentes sociales, etc. con la suficiente antelació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ncluir ponencias o intervenciones de calid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ncertar visitas a centros, organismos o institucion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ntar con una infraestructura que permita un desarrollo provechoso de la visita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roporcionar a sus participantes un certificado de asistenci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694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ORGANIZADORES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692280"/>
            <a:ext cx="7677360" cy="43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DOCUMENTACIÓN REQUERIDA A LA INSTITUCIÓN ORGANIZADORA PARA PERCIBIR LA AYU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ertificado de organización de la visita emitido por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utoridad compe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rograma de la vis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forme de gru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7151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ORGANIZADOR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47280" y="1700280"/>
            <a:ext cx="727236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cc"/>
                </a:solidFill>
                <a:latin typeface="Arial"/>
              </a:rPr>
              <a:t>DOCUMENTACIÓN REQUERIDA A LA INSTITUCIÓN ORGANIZADORA PARA RECIBIR LA AYUDA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Certificado Agencia Tributaria de estar al corriente en el pago de sus obligaciones tributarias (</a:t>
            </a:r>
            <a:r>
              <a:rPr b="1" i="1" lang="es-ES" sz="1600" spc="-1" strike="noStrike">
                <a:solidFill>
                  <a:srgbClr val="0000cc"/>
                </a:solidFill>
                <a:latin typeface="Arial"/>
              </a:rPr>
              <a:t>si el organismo no tiene obligación de tributar, certificado que acredite este extremo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Certificado Tesorería de la Seguridad Social de estar al corriente en el pago de los seguros sociales (</a:t>
            </a:r>
            <a:r>
              <a:rPr b="1" i="1" lang="es-ES" sz="1600" spc="-1" strike="noStrike">
                <a:solidFill>
                  <a:srgbClr val="0000cc"/>
                </a:solidFill>
                <a:latin typeface="Arial"/>
              </a:rPr>
              <a:t>si el organismo no tiene obligación de pago por este concepto, certificado que acredite este extremo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Cuenta bancaria para realizar el pago-Debe constar de 20 dígitos  y hacer constar la titularidad de la misma (nombre de la institución beneficiaria de la ayuda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CIF de la institución, centro u organismo organizador (Centro de Recursos, Consejería, etc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En el caso de que la ayuda se canalice a través de un centro de profesores y recursos, debe adjuntarse un certificado del director del centro en el que conste que el personal que presta servicios en el mismo depende de la correspondiente consejería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Reconocimiento de la institución como organismo no deudor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VISITAS DE ESTUDIO</a:t>
            </a:r>
            <a:br>
              <a:rPr sz="2000"/>
            </a:br>
            <a:br>
              <a:rPr sz="1200"/>
            </a:br>
            <a:br>
              <a:rPr sz="1400"/>
            </a:br>
            <a:br>
              <a:rPr sz="1400"/>
            </a:b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58560" y="1052280"/>
            <a:ext cx="75610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Certificación de la activida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Las Administraciones educativas autonómicas acreditarán al profesorado participante en Visitas de estudio, expidiendo certificado de créditos de formació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El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Instituto Superior de Formación y Recursos en Red para el Profesorado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a propuesta de la AN, acreditarán al profesorado adscrito a centros de Ceuta y Melilla y a instituciones u organismos de la Administración centra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CRÉDITOS- Según nº de horas ( hasta 3 créditos/visita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 1 crédito= 10 hora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CRÉDITOS organizadores visitas (35 horas/visita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LIDAD DE LAS MOVILIDADES</a:t>
            </a:r>
            <a:br>
              <a:rPr sz="2000"/>
            </a:b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ARTA EUROPEA DE CALIDAD DE LA MOVILIDA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76360" y="1699920"/>
            <a:ext cx="72849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DOCUMENTO DIRIGIDO A ESTADOS MIEMBROS Y A ORGANIZACIONES RESPONSABLES DE LAS ESTANCIA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NO OLVIDEN QUE LAS ORGANIZACIONES QUE LES ACOGERÁN, DEBERÁN: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Ofrecerles información adecuada antes de la partid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ntar con infraestructura en el país de acogid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Ofrecerles contenidos que respondan al tema propuest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laborar un programa de equilibrado y de calida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LOS REPRESENTANTES DE ORGANIZACIONES EUROPEAS Y BENEFICIARIOS DE MOVILIDADES EN GENERAL DEBERÁN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nocer la lengua de trabaj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parar la visit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articipar de manera activ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7272360" cy="569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s-ES" sz="1200" spc="-1" strike="noStrike" u="sng">
                <a:solidFill>
                  <a:srgbClr val="9900cc"/>
                </a:solidFill>
                <a:uFillTx/>
                <a:latin typeface="Arial"/>
              </a:rPr>
              <a:t>DIRECCIONES DE INTERÉS</a:t>
            </a:r>
            <a:br>
              <a:rPr sz="1200"/>
            </a:br>
            <a:br>
              <a:rPr sz="1200"/>
            </a:br>
            <a:r>
              <a:rPr b="1" lang="es-ES" sz="1200" spc="-1" strike="noStrike" u="sng">
                <a:solidFill>
                  <a:srgbClr val="0000cc"/>
                </a:solidFill>
                <a:uFillTx/>
                <a:latin typeface="Arial"/>
              </a:rPr>
              <a:t> Organismo Autónomo Programas</a:t>
            </a:r>
            <a:r>
              <a:rPr b="1" lang="es-ES" sz="1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" sz="1200" spc="-1" strike="noStrike" u="sng">
                <a:solidFill>
                  <a:srgbClr val="0000cc"/>
                </a:solidFill>
                <a:uFillTx/>
                <a:latin typeface="Arial"/>
              </a:rPr>
              <a:t>Educativos Europeos</a:t>
            </a:r>
            <a:br>
              <a:rPr sz="1200"/>
            </a:br>
            <a:r>
              <a:rPr b="1" lang="es-ES" sz="1200" spc="-1" strike="noStrike">
                <a:solidFill>
                  <a:srgbClr val="0000cc"/>
                </a:solidFill>
                <a:latin typeface="Arial"/>
              </a:rPr>
              <a:t>Gustavo Fernández Balbuena 13</a:t>
            </a:r>
            <a:br>
              <a:rPr sz="1200"/>
            </a:br>
            <a:r>
              <a:rPr b="1" lang="es-ES" sz="1200" spc="-1" strike="noStrike">
                <a:solidFill>
                  <a:srgbClr val="0000cc"/>
                </a:solidFill>
                <a:latin typeface="Arial"/>
              </a:rPr>
              <a:t>28002 Madrid</a:t>
            </a:r>
            <a:br>
              <a:rPr sz="1200"/>
            </a:br>
            <a:br>
              <a:rPr sz="1200"/>
            </a:br>
            <a:r>
              <a:rPr b="1" lang="es-ES" sz="1000" spc="-1" strike="noStrike" u="sng">
                <a:solidFill>
                  <a:srgbClr val="0000cc"/>
                </a:solidFill>
                <a:uFillTx/>
                <a:latin typeface="Arial"/>
              </a:rPr>
              <a:t>Información general</a:t>
            </a:r>
            <a:br>
              <a:rPr sz="1200"/>
            </a:br>
            <a:br>
              <a:rPr sz="1200"/>
            </a:br>
            <a:r>
              <a:rPr b="1" lang="es-ES" sz="1200" spc="-1" strike="noStrike">
                <a:solidFill>
                  <a:srgbClr val="0000cc"/>
                </a:solidFill>
                <a:latin typeface="Arial"/>
              </a:rPr>
              <a:t>oapee</a:t>
            </a:r>
            <a:r>
              <a:rPr b="1" i="1" lang="es-ES" sz="1200" spc="-1" strike="noStrike">
                <a:solidFill>
                  <a:srgbClr val="0000cc"/>
                </a:solidFill>
                <a:latin typeface="Arial"/>
              </a:rPr>
              <a:t>@oapee.es</a:t>
            </a:r>
            <a:br>
              <a:rPr sz="1200"/>
            </a:br>
            <a:br>
              <a:rPr sz="1200"/>
            </a:br>
            <a:r>
              <a:rPr b="1" lang="es-ES" sz="1000" spc="-1" strike="noStrike" u="sng">
                <a:solidFill>
                  <a:srgbClr val="0000cc"/>
                </a:solidFill>
                <a:uFillTx/>
                <a:latin typeface="Arial"/>
              </a:rPr>
              <a:t>Cristina Figueroa</a:t>
            </a:r>
            <a:br>
              <a:rPr sz="1000"/>
            </a:br>
            <a:r>
              <a:rPr b="1" i="1" lang="es-ES" sz="1000" spc="-1" strike="noStrike">
                <a:solidFill>
                  <a:srgbClr val="0000cc"/>
                </a:solidFill>
                <a:latin typeface="Arial"/>
              </a:rPr>
              <a:t>cristina.figueroa@oapee.es</a:t>
            </a:r>
            <a:br>
              <a:rPr sz="1000"/>
            </a:br>
            <a:r>
              <a:rPr b="1" i="1" lang="es-ES" sz="12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1200"/>
            </a:br>
            <a:r>
              <a:rPr b="1" i="1" lang="es-ES" sz="1200" spc="-1" strike="noStrike">
                <a:solidFill>
                  <a:srgbClr val="0000cc"/>
                </a:solidFill>
                <a:latin typeface="Arial"/>
              </a:rPr>
              <a:t> Web: </a:t>
            </a:r>
            <a:r>
              <a:rPr b="1" lang="es-ES" sz="1200" spc="-1" strike="noStrike" u="sng">
                <a:solidFill>
                  <a:srgbClr val="0000cc"/>
                </a:solidFill>
                <a:uFillTx/>
                <a:latin typeface="Arial"/>
              </a:rPr>
              <a:t>www,oapee.es</a:t>
            </a:r>
            <a:br>
              <a:rPr sz="1200"/>
            </a:br>
            <a:r>
              <a:rPr b="1" lang="es-ES" sz="1200" spc="-1" strike="noStrike" u="sng">
                <a:solidFill>
                  <a:srgbClr val="0000cc"/>
                </a:solidFill>
                <a:uFillTx/>
                <a:latin typeface="Arial"/>
              </a:rPr>
              <a:t>CEDEFOP</a:t>
            </a: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1800"/>
            </a:br>
            <a:r>
              <a:rPr b="1" lang="es-ES" sz="1400" spc="-1" strike="noStrike">
                <a:solidFill>
                  <a:srgbClr val="0000cc"/>
                </a:solidFill>
                <a:latin typeface="Arial"/>
              </a:rPr>
              <a:t>http://studyvisits.cedefop.europa.eu</a:t>
            </a:r>
            <a:br>
              <a:rPr sz="18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6920" y="765000"/>
            <a:ext cx="7162920" cy="398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476000" y="765000"/>
            <a:ext cx="676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Objetivo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operación europea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tercambio de información y  experiencias entre especialistas en educación y  formación profesion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ocer políticas europeas en materia educativa y de formación profesion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371600" y="115560"/>
            <a:ext cx="77724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99"/>
                </a:solidFill>
                <a:uFillTx/>
                <a:latin typeface="Arial"/>
              </a:rPr>
              <a:t>VISITAS DE ESTUDI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476360" y="765000"/>
            <a:ext cx="69120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Objetivo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ermitir que los responsables de la educación a nivel local, regional o nacional puedan compartir, revisar y modificar metodologías y herramientas  a través de la observación y el conocimiento de las estructuras educativas y las reformas en otros Estados miembr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cambio de ideas entre todos los participantes del program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umentar la información sobre educación y difundirla entre los responsables polític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forzar la dimensión europe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371600" y="-360"/>
            <a:ext cx="77724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99"/>
                </a:solidFill>
                <a:uFillTx/>
                <a:latin typeface="Arial"/>
              </a:rPr>
              <a:t>VISITAS DE ESTUDI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76360" y="3333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GB" sz="1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99"/>
                </a:solidFill>
                <a:uFillTx/>
                <a:latin typeface="Arial"/>
              </a:rPr>
              <a:t>TIPOS DE VISITAS</a:t>
            </a:r>
            <a:r>
              <a:rPr b="1" lang="en-GB" sz="1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76360" y="2204640"/>
            <a:ext cx="693432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Visitas educación general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Visitas VET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Visitas mixed</a:t>
            </a:r>
            <a:r>
              <a:rPr b="0" lang="es-ES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Arial"/>
              </a:rPr>
              <a:t>ASISTENTES A UNA VISITA DE ESTUDIO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8560" y="1773360"/>
            <a:ext cx="75610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Su perfil profesional debe corresponderse con la temática de la visita a la que desea asistir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Debe tener capacidad multiplicadora y compromiso para difundir las conclusiones de la activida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Capacidad de generar impacto posterior y de incorporar estrategias y metodologías a su actividad profesion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Debe tener potencial para contribuir al intercambio, la cooperación y la innovación de las políticas de educación y formación profesional en Europa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FINANCIACIÓN DE LA ACTIVIDAD</a:t>
            </a:r>
            <a:br>
              <a:rPr sz="2000"/>
            </a:b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todos los destinos excepto territorios ultramar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1.350, 00 Euro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ara COFINANCIAR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esplazamiento y visados de entrada/salida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stancia (manutención y alojamiento) incluido el seguro de viaj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FINANCIACIÓN DE LA ACTIVIDAD</a:t>
            </a:r>
            <a:br>
              <a:rPr sz="2000"/>
            </a:b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 </a:t>
            </a: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para beneficiarios con destino territorios ultramar</a:t>
            </a:r>
            <a:br>
              <a:rPr sz="1600"/>
            </a:b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y beneficiarios con origen en las Islas Canarias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1.550, 00 Euro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ara COFINANCIAR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esplazamiento y visados de entrada/salida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stancia (manutención y alojamiento) incluido el seguro de viaj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PERIODOS DE PAGO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Financiación anticipada ( 80% de la ayud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lazo: 45 días naturales a partir de la entrada en vigor del convenio (a la firma de la última de ambas part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Pago final (hasta un máximo 20% de la ayud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lazo: 45 días naturales desde la aprobación de la documentación fin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1:46:44Z</dcterms:created>
  <dc:creator>cecilia.baquero</dc:creator>
  <dc:description/>
  <dc:language>en-US</dc:language>
  <cp:lastModifiedBy>TANDEM</cp:lastModifiedBy>
  <dcterms:modified xsi:type="dcterms:W3CDTF">2013-09-11T18:48:32Z</dcterms:modified>
  <cp:revision>37</cp:revision>
  <dc:subject/>
  <dc:title>Presentación de PowerPoint</dc:title>
</cp:coreProperties>
</file>