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55600" y="-36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28800" y="744120"/>
            <a:ext cx="4951440" cy="371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55600" y="941040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5A7F-64D1-4440-A5D7-18920DAD64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31BA-65A7-4685-8303-CC823BFFB2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62CA-4EC2-46A2-8173-21EE80339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5567-2DD5-4334-B592-12F9C8E4B3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6971-0D2D-4BB7-9B82-1866C9D5F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1529-DFDB-4D9A-9C5C-D5FC6AADEA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438F-521D-4D87-A7A6-A2ECA3FE6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0991-B4B4-4FD1-9982-71A72F36B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7AE-FABF-40B6-A51C-70FC9E60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DDF-3F59-476A-8648-A76D1F5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5DE-931D-44F9-8396-106DD906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FF9-CFB9-43DF-9A65-D88159CE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A79-F310-4359-8388-13DD9B8D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80C-A0D0-45E8-A3EF-F8331D17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D28-264C-4A39-86D4-9BF59794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392-FA7C-4BD2-B2A1-1D15332C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79640" y="183960"/>
            <a:ext cx="640872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9B8-90DE-4719-904E-A84EFC3C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5A9-BCC4-4EB3-B75F-598876FA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8F1-97B5-44AC-BFAD-B76A6CA6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270-85D0-4EBE-8AAC-3D7ADAF0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0"/>
            <a:ext cx="1763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440"/>
            <a:ext cx="1763640" cy="111600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753" h="559">
                <a:moveTo>
                  <a:pt x="0" y="0"/>
                </a:moveTo>
                <a:cubicBezTo>
                  <a:pt x="583" y="0"/>
                  <a:pt x="583" y="0"/>
                  <a:pt x="583" y="0"/>
                </a:cubicBezTo>
                <a:cubicBezTo>
                  <a:pt x="676" y="0"/>
                  <a:pt x="753" y="76"/>
                  <a:pt x="753" y="170"/>
                </a:cubicBezTo>
                <a:cubicBezTo>
                  <a:pt x="753" y="389"/>
                  <a:pt x="753" y="389"/>
                  <a:pt x="753" y="389"/>
                </a:cubicBezTo>
                <a:cubicBezTo>
                  <a:pt x="753" y="483"/>
                  <a:pt x="676" y="559"/>
                  <a:pt x="583" y="559"/>
                </a:cubicBezTo>
                <a:cubicBezTo>
                  <a:pt x="0" y="559"/>
                  <a:pt x="0" y="559"/>
                  <a:pt x="0" y="55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915480" y="6237000"/>
            <a:ext cx="17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B7C4-8868-476F-AFA8-6648C905CA61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eacea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7682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arrows_02"/>
          <p:cNvPicPr/>
          <p:nvPr/>
        </p:nvPicPr>
        <p:blipFill>
          <a:blip r:embed="rId3"/>
          <a:stretch/>
        </p:blipFill>
        <p:spPr>
          <a:xfrm>
            <a:off x="7313760" y="-27000"/>
            <a:ext cx="1830240" cy="13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icon"/>
          <p:cNvPicPr/>
          <p:nvPr/>
        </p:nvPicPr>
        <p:blipFill>
          <a:blip r:embed="rId4"/>
          <a:stretch/>
        </p:blipFill>
        <p:spPr>
          <a:xfrm>
            <a:off x="450720" y="6237360"/>
            <a:ext cx="398520" cy="430200"/>
          </a:xfrm>
          <a:prstGeom prst="rect">
            <a:avLst/>
          </a:prstGeom>
          <a:ln w="0">
            <a:noFill/>
          </a:ln>
        </p:spPr>
      </p:pic>
      <p:sp>
        <p:nvSpPr>
          <p:cNvPr id="11" name="Line 13"/>
          <p:cNvSpPr/>
          <p:nvPr/>
        </p:nvSpPr>
        <p:spPr>
          <a:xfrm>
            <a:off x="450720" y="6165720"/>
            <a:ext cx="824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55700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EUROPASS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2011  </a:t>
            </a: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Management and Financial issues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EACEA – Education, Audiovisual and Culture Executive Agency</a:t>
            </a:r>
            <a:br>
              <a:rPr sz="2400"/>
            </a:br>
            <a:br>
              <a:rPr sz="24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Vyte Ezerskiene</a:t>
            </a:r>
            <a:br>
              <a:rPr sz="18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Pascale Storme</a:t>
            </a:r>
            <a:br>
              <a:rPr sz="18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Filip Steppe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710A-EDD1-45A7-93F0-8392C97F9658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Financial report 201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Costs -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 Two type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A. Direct costs (staff, travels, ICT, equipment, operating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B. Indirect costs (eligible only if not covered already by another operating grant,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Revenue part. </a:t>
            </a: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EC funding limited by the EC decision (see art.1.3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Europass contribu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Other sources of incom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7B64-8DEC-4E75-A7F0-6EEBABB1C407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REPORTING :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he beneficiary certifies on his honour that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information contained in the final report is full, reliable and true,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 costs incurred can be considered eligible in accordance with the grant agree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costs are substantiated by adequate supporting documents that can be checked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BC31-DF29-4B7E-96CD-F9AFA1F19267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ligible costs meet the following criteria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ctually incurred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during the dur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ork programme as specified in the Grant Decision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y ar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connected with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the subject of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the work programm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d they ar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ndicated in the estimated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verall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budget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ork programme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F81A-3646-49D0-9126-47BD8DA8F35D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Necessary for implement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P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dentifiabl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verifiabl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, (i.e recorded in the accountancy of the beneficiary, determined according to th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standards of the countr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nd to the usual cost-accounting practices of the beneficiary;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y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compl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with the requirements of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applicable tax and social legislations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1BF6-842A-4686-971C-D915DDC7F543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reasonable, justified, comply with the requirements of sound financial management (i.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economy and efficiency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ccounting/internal auditing procedures must permit direct reconciliation of the costs and revenue declared in respect of the work programme with the corresponding accounting statements and supporting docum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8957-40FE-4428-842B-0940211E65B3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STAFF COSTS (on the payroll of the centr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includes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ctual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salaries plus social security charges and other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statutor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costs, provided that this does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not exceed the average rates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corresponding to th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beneficiary's </a:t>
            </a: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usual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policy on remuner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Not eligible: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bonuses, leased car, expense account schemes, incentive, payments or profit-sharing scheme</a:t>
            </a:r>
            <a:br>
              <a:rPr sz="3200"/>
            </a:b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9B3A-2B38-462B-895D-0A564F9BDB0E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STAFF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09760" indent="-609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Only working days in work plan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Part-time, the pro-rata stated (time sheets, report)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Wages for employees – </a:t>
            </a:r>
            <a:r>
              <a:rPr b="0" lang="en-GB" sz="2400" spc="-1" strike="noStrike" u="sng">
                <a:solidFill>
                  <a:srgbClr val="336699"/>
                </a:solidFill>
                <a:uFillTx/>
                <a:latin typeface="Arial"/>
              </a:rPr>
              <a:t>employment contrac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Do not include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: ad hoc external staff, which is purchase of services (e.g. </a:t>
            </a:r>
            <a:r>
              <a:rPr b="0" lang="en-GB" sz="2400" spc="-1" strike="noStrike" u="sng">
                <a:solidFill>
                  <a:srgbClr val="336699"/>
                </a:solidFill>
                <a:uFillTx/>
                <a:latin typeface="Arial"/>
              </a:rPr>
              <a:t>service and consultancy contract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Keep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original time-sheets signed (name, function, percentage of time if working on several actions etc.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aff contracts, payslips and related payment docu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E4C5-F728-4689-81F2-8A783D0210DF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Travel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sistence allow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or staff only (otherwise in “other costs”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Rates must correspond to the beneficiary’s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usual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practices (contract art.9.2 or II.14.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aily allowance for each day of meeting (include all costs e.g. meals and local transport, travel and accident insurance)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Number of nights = meeting days + 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Keep all justifying documents &amp; signed mission repor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960E-91DF-4B66-A59E-E20A200B76D3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Travel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sistence allow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ny activities …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igible countries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r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not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ligible". (Section 5.2. Eligible activities)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“…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ravels …outside eligible countries … be accepted in exceptional and duly justified cases, i.e.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proven added value in terms of policy and content related to the network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…prior agreement of EACEA … requested... " (ToR section 9.5. Eligible costs,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.B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07F-3F1A-4D66-B14D-618E4ED4BC9D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Conversion ra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xpenses are converted into EUR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t the monthly accounting rate established by the European Commission and published on its website, for th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first month of the eligibility period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18DB-482F-431E-87B1-9E1202266EDA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Cont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24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am in P3, EACEA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ad map 2010 - 201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nt request 201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ncial issu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OPERATING COSTS &amp; OVERHEA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 beneficiary may be awarded only one operating grant from the budget per financial year.” - (R.F. Article 111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or centre receiving another operating grant, indirect costs are not eligible under EUROPASS budge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E436-142A-457B-83E7-FE4F480B02BC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INELIGIBLE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6699"/>
                </a:solidFill>
                <a:uFillTx/>
                <a:latin typeface="Arial"/>
              </a:rPr>
              <a:t>VAT: Costs must be presented VAT excluded</a:t>
            </a: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, unless you cannot recover it (for private legal entities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BUT “By derogation to Article 9.3. of the General Conditions, seventh indent, VAT paid by public bodies shall </a:t>
            </a:r>
            <a:r>
              <a:rPr b="1" lang="nl-BE" sz="3200" spc="-1" strike="noStrike">
                <a:solidFill>
                  <a:srgbClr val="336699"/>
                </a:solidFill>
                <a:latin typeface="Arial"/>
              </a:rPr>
              <a:t>never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be an eligible cost."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Contributions in kin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AF3E-C14F-47BA-B48F-3D320DB66DB0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202F-495A-4331-B895-BF33C694E5F4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CEA Europass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Head of Unit (Legal representativ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HALLER-BLOCK U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Financial tea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OPHANSAY Phetsamon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EPPE Filip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ORME Pascale – financial co-ordin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Operational tea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ZERSKIENE Vy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6699"/>
                </a:solidFill>
                <a:latin typeface="Arial"/>
              </a:rPr>
              <a:t>BOTTI Renat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EACEA-EUROPASS@ec.europa.e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3. Road map 2010 – 2011 </a:t>
            </a:r>
            <a:br>
              <a:rPr sz="2400"/>
            </a:br>
            <a:r>
              <a:rPr b="1" lang="fr-BE" sz="2400" spc="-1" strike="noStrike">
                <a:solidFill>
                  <a:srgbClr val="ff9900"/>
                </a:solidFill>
                <a:latin typeface="Arial"/>
              </a:rPr>
              <a:t>(May-November 2011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267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pril –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agreements/decisions 2011 (all done except 3 suspended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ril –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prefinancing 80% (will be finalised mid May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ober/November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Mid October 2011 – Terms of Reference 201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Mid November 2011 – DEADLINE - Grant request (GRF) 201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ynthesis Repor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Synthesis report 2008 –  will be disseminated in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Synthesis report 2009 – being drafted (July 2011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ant applications 20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34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grant application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New centres: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Croatia, Malt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Grant requested: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2.067.162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Grant available: 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2.160.000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nal Reports 20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ll final reports receiv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inal Grant requested: </a:t>
            </a: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1.914.629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Max Grant available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:    </a:t>
            </a: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2.100.000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valuation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May-Ju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Payment of final balance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end May-mid Jul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42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Logo of Lifelong Learning Programm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cknowledge - European Union's contribution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NO LLP logo → grant may be reduced or agreement/decision terminated (article 10.4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24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Financial and contractual issu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IGIBLE BENEFICIA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Only designated bodies can be signatory of  the EC EUROPASS Decisions/agreements and receive the fun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Only the beneficiary that receive the grant and which receive the funds can charge its costs in the frame of its Europass contrac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1279-F351-47ED-A1F1-825B6AF3E72F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0:44:45Z</dcterms:created>
  <dc:creator>bruyaol</dc:creator>
  <dc:description/>
  <dc:language>en-US</dc:language>
  <cp:lastModifiedBy>sadia.khokhar</cp:lastModifiedBy>
  <dcterms:modified xsi:type="dcterms:W3CDTF">2011-05-12T09:30:42Z</dcterms:modified>
  <cp:revision>195</cp:revision>
  <dc:subject/>
  <dc:title>Welcome ! </dc:title>
</cp:coreProperties>
</file>