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3B1B2-6AFC-4942-9D45-51761BF9B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E3D41-72B7-4E03-ABA1-005437F1B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9CD5A-FED6-470D-849B-25660F16D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9941D-14A1-46BF-BFDA-51229F202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4C2C6-FFFD-46F6-B6CF-6A0E6CAC0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F4F79-9169-48A9-B4F6-961C3A626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9F5D2-99AC-4F6A-B2F8-3E285E126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92761-DCD4-4605-9D76-E536E892E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DD658-EB62-44F8-9049-82C3D7E6F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68360" y="620640"/>
            <a:ext cx="822960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3E79B-5AD0-4B1F-9289-23F26FCE4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27C39-B706-44FD-AACA-137FE0894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072CE-E435-4043-960D-C5A56142D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E8D88-9B70-4C9A-B1A2-C3B48781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C614E-2752-42DD-B8AB-DF1269FDC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B2EEA-D7A1-4F63-B7DF-ADEB19624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CD653-52C2-4D35-9679-5C97971EB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0764B-4A4E-4F42-8B69-83D361370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43AF6-039D-4C57-9687-0BF0147E5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70079-56BD-4AF2-911E-D9B7AC870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A6AE1-72A6-4BE7-A702-78149BAA7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620640"/>
            <a:ext cx="822960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C3B79-0103-4491-B848-7801301DD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CDC50-BB88-45CC-A664-3AD9A7BC3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27D6D-D8D7-4DE6-A9C2-FB36B61E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CEDA8-43FF-4A65-9129-E79BD5D27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484360" y="260280"/>
            <a:ext cx="612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748720" y="304920"/>
            <a:ext cx="3952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FFC95-B3F3-4751-9C31-C3851CB4F867}" type="slidenum"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5076720" y="6308280"/>
            <a:ext cx="14400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468360" y="6308280"/>
            <a:ext cx="44640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02920" y="2130120"/>
            <a:ext cx="70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C7035-94FE-4E43-8530-F5D78699CEA3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F505A-066F-4C24-8611-D46F13D50797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280" y="2131920"/>
            <a:ext cx="79930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r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Europass Website Redesig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276720" y="5873760"/>
            <a:ext cx="2692440" cy="5079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058400" y="3382560"/>
            <a:ext cx="694548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 Sneak Pe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42920" y="5327640"/>
            <a:ext cx="69454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imitris Zavaliadis, Europass Technical 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42920" y="4390920"/>
            <a:ext cx="69454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C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laga, 10 May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design’s Main 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450120" y="1557360"/>
            <a:ext cx="2658960" cy="40053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24000" y="2852640"/>
            <a:ext cx="6119640" cy="1944720"/>
          </a:xfrm>
          <a:prstGeom prst="foldedCorner">
            <a:avLst>
              <a:gd name="adj" fmla="val 125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Improve th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4800" spc="-1" strike="noStrike">
                <a:solidFill>
                  <a:srgbClr val="0066ff"/>
                </a:solidFill>
                <a:latin typeface="Arial"/>
              </a:rPr>
              <a:t>User Experie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uropass Mobility System Training, Brusse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F029E-F9B6-44D5-9F26-EBE6A29F209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Nov 2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340000" y="1628640"/>
            <a:ext cx="4484520" cy="42865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spects of User Experience</a:t>
            </a: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9280" y="5302080"/>
            <a:ext cx="3313080" cy="935280"/>
          </a:xfrm>
          <a:prstGeom prst="wedgeRoundRectCallout">
            <a:avLst>
              <a:gd name="adj1" fmla="val 36439"/>
              <a:gd name="adj2" fmla="val -98046"/>
              <a:gd name="adj3" fmla="val 16667"/>
            </a:avLst>
          </a:prstGeom>
          <a:solidFill>
            <a:srgbClr val="bbe0e3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You can’t use what you can’t f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589800" y="4581360"/>
            <a:ext cx="2519280" cy="1224000"/>
          </a:xfrm>
          <a:prstGeom prst="wedgeRoundRectCallout">
            <a:avLst>
              <a:gd name="adj1" fmla="val -63800"/>
              <a:gd name="adj2" fmla="val -45717"/>
              <a:gd name="adj3" fmla="val 16667"/>
            </a:avLst>
          </a:prstGeom>
          <a:solidFill>
            <a:srgbClr val="bbe0e3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80"/>
                </a:solidFill>
                <a:latin typeface="Arial"/>
              </a:rPr>
              <a:t>You can’t use what you can’t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948360" y="2637000"/>
            <a:ext cx="2016360" cy="1655640"/>
          </a:xfrm>
          <a:prstGeom prst="wedgeRoundRectCallout">
            <a:avLst>
              <a:gd name="adj1" fmla="val -71180"/>
              <a:gd name="adj2" fmla="val -10115"/>
              <a:gd name="adj3" fmla="val 16667"/>
            </a:avLst>
          </a:prstGeom>
          <a:solidFill>
            <a:srgbClr val="bbe0e3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00"/>
                </a:solidFill>
                <a:latin typeface="Arial"/>
              </a:rPr>
              <a:t>Humans are visible beings after 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8000" y="1484280"/>
            <a:ext cx="3241800" cy="865080"/>
          </a:xfrm>
          <a:prstGeom prst="wedgeRoundRectCallout">
            <a:avLst>
              <a:gd name="adj1" fmla="val 32958"/>
              <a:gd name="adj2" fmla="val 83759"/>
              <a:gd name="adj3" fmla="val 16667"/>
            </a:avLst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Ease of use is vital but not su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0" y="5950080"/>
            <a:ext cx="4321080" cy="577800"/>
          </a:xfrm>
          <a:prstGeom prst="wedgeRoundRectCallout">
            <a:avLst>
              <a:gd name="adj1" fmla="val -41879"/>
              <a:gd name="adj2" fmla="val -148902"/>
              <a:gd name="adj3" fmla="val 16667"/>
            </a:avLst>
          </a:prstGeom>
          <a:solidFill>
            <a:srgbClr val="bbe0e3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9900"/>
                </a:solidFill>
                <a:latin typeface="Arial"/>
              </a:rPr>
              <a:t>Trust is key to persua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64000" y="1557360"/>
            <a:ext cx="3095640" cy="576360"/>
          </a:xfrm>
          <a:prstGeom prst="wedgeRoundRectCallout">
            <a:avLst>
              <a:gd name="adj1" fmla="val -57537"/>
              <a:gd name="adj2" fmla="val 66805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Relevance is 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8000" y="3213000"/>
            <a:ext cx="2376360" cy="1224000"/>
          </a:xfrm>
          <a:prstGeom prst="wedgeRoundRectCallout">
            <a:avLst>
              <a:gd name="adj1" fmla="val 114597"/>
              <a:gd name="adj2" fmla="val -5513"/>
              <a:gd name="adj3" fmla="val 16667"/>
            </a:avLst>
          </a:prstGeom>
          <a:solidFill>
            <a:srgbClr val="bbe0e3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The bottom li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deliver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79280" y="6524640"/>
            <a:ext cx="734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a.k.a. the User Experience Honeycomb (Peter Morvil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uropass Mobility System Training, Bruss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4863D-CCD8-4BFA-BD39-E52E2740584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Nov 2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340000" y="1628640"/>
            <a:ext cx="4484520" cy="42865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84960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xisting Website vs. Honeycom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195640" y="4797360"/>
            <a:ext cx="792000" cy="792360"/>
          </a:xfrm>
          <a:prstGeom prst="smileyFace">
            <a:avLst>
              <a:gd name="adj" fmla="val -30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0920" y="2060640"/>
            <a:ext cx="792360" cy="792000"/>
          </a:xfrm>
          <a:prstGeom prst="smileyFace">
            <a:avLst>
              <a:gd name="adj" fmla="val -30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11640" y="1341360"/>
            <a:ext cx="792000" cy="792360"/>
          </a:xfrm>
          <a:prstGeom prst="smileyFace">
            <a:avLst>
              <a:gd name="adj" fmla="val 2301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300720" y="4724280"/>
            <a:ext cx="792360" cy="792360"/>
          </a:xfrm>
          <a:prstGeom prst="smileyFace">
            <a:avLst>
              <a:gd name="adj" fmla="val -4652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227640" y="1989000"/>
            <a:ext cx="792360" cy="792360"/>
          </a:xfrm>
          <a:prstGeom prst="smileyFace">
            <a:avLst>
              <a:gd name="adj" fmla="val -4652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2560" y="5445000"/>
            <a:ext cx="792360" cy="792360"/>
          </a:xfrm>
          <a:prstGeom prst="smileyFace">
            <a:avLst>
              <a:gd name="adj" fmla="val 2301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189320" y="2781360"/>
            <a:ext cx="792360" cy="792000"/>
          </a:xfrm>
          <a:prstGeom prst="smileyFace">
            <a:avLst>
              <a:gd name="adj" fmla="val -30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8000" y="3213000"/>
            <a:ext cx="2160360" cy="115272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desig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ocuses 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050920" y="2060640"/>
            <a:ext cx="792360" cy="792000"/>
          </a:xfrm>
          <a:prstGeom prst="smileyFace">
            <a:avLst>
              <a:gd name="adj" fmla="val 928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195640" y="4797360"/>
            <a:ext cx="792000" cy="792360"/>
          </a:xfrm>
          <a:prstGeom prst="smileyFace">
            <a:avLst>
              <a:gd name="adj" fmla="val 928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300720" y="4724280"/>
            <a:ext cx="792360" cy="792360"/>
          </a:xfrm>
          <a:prstGeom prst="smileyFace">
            <a:avLst>
              <a:gd name="adj" fmla="val 928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227640" y="1989000"/>
            <a:ext cx="792360" cy="792360"/>
          </a:xfrm>
          <a:prstGeom prst="smileyFace">
            <a:avLst>
              <a:gd name="adj" fmla="val 928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189320" y="5445000"/>
            <a:ext cx="792360" cy="792360"/>
          </a:xfrm>
          <a:prstGeom prst="smileyFace">
            <a:avLst>
              <a:gd name="adj" fmla="val 928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211640" y="1341360"/>
            <a:ext cx="792000" cy="792360"/>
          </a:xfrm>
          <a:prstGeom prst="smileyFace">
            <a:avLst>
              <a:gd name="adj" fmla="val 928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189320" y="2781360"/>
            <a:ext cx="792360" cy="792000"/>
          </a:xfrm>
          <a:prstGeom prst="smileyFace">
            <a:avLst>
              <a:gd name="adj" fmla="val 928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165800" y="1844640"/>
            <a:ext cx="1727280" cy="208908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ich might increase even mor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4360" y="4292640"/>
            <a:ext cx="1727280" cy="15843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d therefore the overall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uropass Mobility System Training, Bruss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07C02-3C97-487F-B9CE-BC34B624590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Nov 2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me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lobal Navi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i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cond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cal Navi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t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ortc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ther Usability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uropass Mobility System Training, Bruss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9A443-4228-49BF-8528-5C31738D93C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Nov 2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nct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e-tu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ces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I compat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ice indepen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d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arch engine optim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uropass Mobility System Training, Bruss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B21E4-5B57-4EDE-9EB5-E49C7B82905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Nov 2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oad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Sep. 2011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– Launch of new site in parallel with the current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Dec. 2011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– Old site st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Dec. 2011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– Instruments redesign specs comple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Sep. 201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– Launch of new instruments in parallel with the current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Dec. 201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– Old instruments sto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uropass Mobility System Training, Bruss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BC39D-7839-4268-9F54-4D277E0C989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Nov 2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ank you for your atten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uropass Mobility System Training, Bruss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B2A64-27AF-4D26-A71B-A7FD2C2C0EB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Nov 2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8T11:45:30Z</dcterms:created>
  <dc:creator>Zavaliadis Dimitris</dc:creator>
  <dc:description/>
  <dc:language>en-US</dc:language>
  <cp:lastModifiedBy>europassx3</cp:lastModifiedBy>
  <dcterms:modified xsi:type="dcterms:W3CDTF">2011-05-06T18:43:21Z</dcterms:modified>
  <cp:revision>1649</cp:revision>
  <dc:subject/>
  <dc:title>Europass cooperation with external applications</dc:title>
</cp:coreProperties>
</file>