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A4D-DE2F-4BD8-9385-708B5F26D0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u geen link tussen Digi-K en deze database. In de toekomst hopelijk w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0EB-4238-44FE-90CA-5728BD61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F87-9DE0-4F04-ABB5-7BACE32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159-F97D-4C87-A6D6-642C8AD4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B93-99BE-47D0-8733-05F9DC4E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F6E-C346-439D-AE14-8BFEBBA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5DF-BD74-4644-8DAB-77F58C7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AB7-679C-4CE5-AB85-6B60B193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1D4-6951-4E82-89E3-6C8A0ABB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3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FA6-6FF7-4218-8C94-C29B645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89C-1B9E-4B56-A424-05A3849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EF9-8CE3-499A-B7A1-5887ECE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F89-E612-4326-A253-1BD7DAD3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952-39E2-4019-88D4-C00B895B8D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nlnrp.nl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coloplatform.nl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Database Europass Certificate Supplement</a:t>
            </a:r>
            <a:br>
              <a:rPr sz="2800"/>
            </a:br>
            <a:r>
              <a:rPr b="1" lang="en-US" sz="2400" spc="-1" strike="noStrike">
                <a:solidFill>
                  <a:srgbClr val="00bee1"/>
                </a:solidFill>
                <a:latin typeface="Arial"/>
              </a:rPr>
              <a:t>the Netherlands</a:t>
            </a:r>
            <a:endParaRPr b="1" lang="en-US" sz="24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Indira von Oven – Colo (Dutch NEC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8-5-2011, Malaga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Email: i.vonoven@colo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Improvements of the database</a:t>
            </a:r>
            <a:r>
              <a:rPr b="1" lang="nl-NL" sz="2800" spc="-1" strike="noStrike">
                <a:solidFill>
                  <a:srgbClr val="00bee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administrative part of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website of the NR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aking it possible to change all the CS at once (example change in address, adding the EQF / NLQF level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Linking all databases together </a:t>
            </a:r>
            <a:r>
              <a:rPr b="0" lang="en-US" sz="2400" spc="-1" strike="noStrike">
                <a:solidFill>
                  <a:srgbClr val="00499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generating CS directly within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ertificate Supplement: statistics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Europass Certificate Supplement is available free of charg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utomatically generated from the qualification websit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ertificate Supplements are available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all new level 3 + 4 qualifications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s 2008: 125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old qualifications: 200  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vailable in Dutch and English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Why a new database?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Word and Excel not sufficient for so many C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Difficult to search through all the CS available online and available within Word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No connection between Word and the onlin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ly possible to search in alphabetical order, no other search option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12280" r="39983" b="31103"/>
          <a:stretch/>
        </p:blipFill>
        <p:spPr>
          <a:xfrm>
            <a:off x="-1440" y="0"/>
            <a:ext cx="9145440" cy="630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eer informatie?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loplatform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2277" r="0" b="0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So let’s have a look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 the internet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Key word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Via extended search option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Name qualification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number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level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939" r="0" b="456"/>
          <a:stretch/>
        </p:blipFill>
        <p:spPr>
          <a:xfrm>
            <a:off x="0" y="404640"/>
            <a:ext cx="9144000" cy="583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12503" r="8025" b="2310"/>
          <a:stretch/>
        </p:blipFill>
        <p:spPr>
          <a:xfrm>
            <a:off x="324000" y="333360"/>
            <a:ext cx="8642160" cy="597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12800" t="12939" r="14161" b="20131"/>
          <a:stretch/>
        </p:blipFill>
        <p:spPr>
          <a:xfrm>
            <a:off x="468360" y="404640"/>
            <a:ext cx="8351640" cy="5500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742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30:49Z</dcterms:created>
  <dc:creator>mavb</dc:creator>
  <dc:description/>
  <dc:language>en-US</dc:language>
  <cp:lastModifiedBy>sadia.khokhar</cp:lastModifiedBy>
  <dcterms:modified xsi:type="dcterms:W3CDTF">2011-05-17T11:00:50Z</dcterms:modified>
  <cp:revision>12</cp:revision>
  <dc:subject/>
  <dc:title>Certificaatsupplement op internet Coloplatform</dc:title>
</cp:coreProperties>
</file>