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503-96B4-48DA-A5DA-74E4D7D1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1E4-95F8-418D-99E8-3EFCD726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86C-12AF-4119-8C28-BCED2A1E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784-9F43-468A-851A-85A17EA8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64C-F418-447F-A710-78B9D5D3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1B8B-723D-4B0A-8B6C-2BA4C0FD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6EA1-DD2B-43D1-B819-FB32965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5A4-C16D-4F84-A45E-5AF52F5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70AB-F59B-4DA9-80F4-0A7934D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C7D-3B86-49CA-8CA6-B772F09C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487-1876-4C18-93F8-7993193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71A-5C11-4460-868F-420C2E43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031D-16AA-4A87-9ED7-A04B210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EC31-48AB-40A9-AADE-19382B6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1B68-D2A0-464A-9635-79D18D54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671F-4D4D-4EB7-AA5E-CF5AB69A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22D-BDEB-444F-8533-145BA177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941-DBFE-4B75-85A0-39CF1EE0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A96-E1EE-4D02-95C8-83DEA537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41F-AA21-415C-B669-9BBC6203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4A3-C7E5-48F9-9C2D-3F04D7E6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B79-A54E-4DEF-BCB1-B75E437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086-8FC7-4A06-AFD7-34F185B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00C-E3A7-4148-953D-9C4F775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9532-A70E-4328-838D-02061777879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C07-5A9F-4F23-91B3-E1A5589B52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CREATIVIDAD E INNOVACIÓN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SEMINARIO INTERNACIONAL DEL CONSEJO DE EUROPA MAYO 2009</a:t>
            </a:r>
            <a:br>
              <a:rPr sz="2200"/>
            </a:b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981000"/>
            <a:ext cx="4567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6633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D34-E7C3-4EC3-865C-8B84D4ECC2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NCEPTOS CLA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96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OCER OTROS PROFESIONALES Y RE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LICAR Y DIFUNDIR EXPERIENCIAS E INNOV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ORAR LA DIVERSIDAD PARA RESPETAR LAS DIFERENTES CULTU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EOS DE CONTINUAR INTERACTU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F86-8A3B-4BA7-8F62-6960ABE198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INICIATIV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IMIL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OTENCIACIÓN DE LAS NUE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ALORACIÓN DE LA EDUCACIÓN PLURILINGÜE EN LAS DIFERENTES ETAPA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05C-7B7E-45B8-A338-01F3389C99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ICIATIVAS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534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INGULAR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PORTUG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rdenadores para profesores(150€) y alumnos(50 €).Es gratis para los que no tienen di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las sesiones de clase son de 90 minutos en todas las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HIPRE Y AUSTRIA: certificación europea de conocimientos de infor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ESPAÑ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Andalucía:coordinador de co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Cataluña:planes educativos de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C.valenciana:implantación de la metodología CLIL(plurilingüis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USTRIA: hay grupos donde la enseñanza se realiza con portátiles durante toda la jor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45F-D328-4A78-A0A2-9FCC79E81F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FORMACIÓ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SIMIL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 F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rmación permanente a lo largo de la vida profe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- Manuales actualizados al marco de referencia de las lengu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-Ayudas y becas para formarse en cualquier campo en el país de origen u en otros pa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B6C-750A-4EE1-922C-80DA186327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CIÓ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1688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INGULAR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AUSTRIA:En cada una de las nueve provincias existe un instituto pedag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CHIPRE:No hay oposiciones para acceder a la docencia.Sistema de listas por año de grad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PAÑA:Cada C.A tiene su propio centro de formación que recibe nombres 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Reserva de plazas para el profesorado en las distintas E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PORTUGAL:Los sindicatos y las asociaciones se encargan de la formación del profesorado que luego valida la administración. 25 horas de formación cda año son obligatorias, la mitad en su área de enseñ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3BC-ED13-44C1-8544-B3A4801A98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MATERIALES Y RECURS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SIMIL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Utilización de foros, blogs,webs,plataformas mood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WEBS DE INTERÉ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lsr-noe.gv.ac.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bmukk.gv.ac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CHI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moec.gov.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90B-9B54-4497-A51B-D95BD60B82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ERIALES Y RECURSOS 2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PAÑ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ceei.es(centro europeo de empresas e innov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Andaluc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juntadeandalucia.es  (agencia idea, innovación y desarro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Cataluñ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20.gencat.cat/portal/site/Educació (áreas de actuación e innovación educativ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joanteixido.org  (tercer premio CIDE investigación educativa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PORTUG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dgidc.min-edu.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49D-E3EF-4251-8A3A-FD67A21A4A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900" spc="-1" strike="noStrike">
                <a:solidFill>
                  <a:srgbClr val="330066"/>
                </a:solidFill>
                <a:latin typeface="Arial"/>
              </a:rPr>
              <a:t>4.Valoración y sug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Aspectos positiv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Notable organización(nivel general de los ponentes muy elevado,elección del sitio,acogida,apoyo,ambiente de trabajo, gastronomía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Acertada selección de los participantes (diversidad de origen , de etapas educativa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El trabajo en  grupos reducidos ha sido clave  para intercambiar información e id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FC1-D438-4FC3-B3CE-3341D37A0D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VALORACIÓN Y SUGERENCIAS 2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UG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a duración de algunas ponencias y los powerpoints sobrecargados de información no facilitaban la comprensión del 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as ponencias podrían repartirse en papel recogiendo las ideas cent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os participantes podrían rotar por distintos grupos de trabaj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26A-2217-44B8-9B37-35A8B3D1F8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86vmb</cp:lastModifiedBy>
  <cp:lastPrinted>2004-02-03T17:19:35Z</cp:lastPrinted>
  <dcterms:modified xsi:type="dcterms:W3CDTF">2009-05-07T14:35:24Z</dcterms:modified>
  <cp:revision>351</cp:revision>
  <dc:subject/>
  <dc:title>COMPETÈNCIES  BÀSIQUES</dc:title>
</cp:coreProperties>
</file>