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  <p:custShowLst>
    <p:custShow name="Presentación personalizada 1" id="0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0CF0-7AFC-4AD9-B01F-5075AFA5EB4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05A3-888E-4905-A7AE-9124D7C890B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6BA5-B8BB-47EF-9893-DE836F0C047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310B-EC30-4A60-94C3-8F1D3427513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7ECE-6452-4041-97F8-96A6C07ABC5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A229-E6BD-4B37-B0A7-5EF90C5D3A0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0CBA-5675-48C9-A0F4-1A23BCF1188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DC4A-61CC-4BC7-86D2-86B273F6334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3A1A-0FAC-489D-B6FA-5DFA630E898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32E8-72F8-4139-B5F2-793A9A34B29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117F-68E0-4109-A7EA-6637D293432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82FF-5AE1-41F9-A580-22D824B5664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F48D-1F0E-4463-84A6-9748C41AAD3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4B1F-4558-479B-9F95-D0BF13D39EB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B7E1-9C09-474F-9405-AAA584ADFA7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5CD0-B390-43FD-8330-4BAF18A2EC3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28DB-25A8-4144-8A7F-49DE4EDE2F2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AE0E-094F-49B3-84C6-4C9C4070E7A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FFDC-D9A1-4237-95B7-4E9A9C56126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2BB2-FE62-49D2-865E-ABEB005E661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920C-BEA9-4E9D-9A86-CD429576D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E146-8A95-4639-8951-19624E00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5F32-1F89-4AB6-A4FA-8029DA461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D4FD-D664-479C-B9FB-B829D5A28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5DF9-1131-425A-A92E-7C1FE1CE9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0E31-B84D-44B4-B728-54A35D8C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8BB2-80F4-48E8-B6D6-94A6F854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8AC8-EC3C-4F59-BB2F-75B8D448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1787-FBEA-47BB-9996-B5DAB1CE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F01E-4F02-4525-A3D9-8060135F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823D-54E0-4BDB-A0E8-DDDB0B88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2CF4-B1D9-48DA-B40D-36446617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8946-1810-44C7-81B9-B900EB12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F8EB-17FC-4716-9222-AF1A7130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F53B-2DFD-4F4E-9667-98944BE5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F331-8E4B-430B-91DC-DFDD7EC6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3E84-EC35-4442-9DC9-4C3011047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E0B08-5E86-481F-BFF4-17783EEE6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DF2A7-4D13-402F-BA05-E6A16AFA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B1A02-95EE-42BE-992D-2BD8BD6A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AA0D2-6DD5-4270-9804-62685137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EABA5-DF16-46C4-AF1D-0D656C04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424F-DF76-44D8-BFCB-26BBC3C3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3F8B4-402A-4D17-B242-5EBEB368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A4397-8F3B-46FC-8E49-AC6FFECA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11F8C-8678-4355-A90A-294985F0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B4BA3-F05C-48A7-8C3D-592C8098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AF0EE-2327-4727-8EF5-E31AF53F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AD3E5-B03E-48A0-A688-A4A319FD5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C7EDA-F2B1-4C18-8390-F757BFAF5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F7E5C-BAA4-43C0-90CD-E2392C510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9812E-3A25-4A17-BC40-778EE0A1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F558B-A7AF-476E-B58C-EA059D8F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8C48-8CF5-42E5-94A4-0CA0E349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FF763-FD2A-4215-891E-FA63DCE2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565F6-19C3-423E-B474-71B2AD94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1ECC0-992A-4233-87C1-ED05D350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A089C-8A6A-4483-B336-9E6DBCF4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A9017-1979-42DE-853D-B7CCEC30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4DDE9-A95A-4CC4-B5D6-23D993B0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2B165-E98A-41C6-89FD-0022FC3B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A0B23-2875-4DD7-AD9D-23EF552B6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C490A-2CCE-4731-9D8A-D6496605B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4F5F-7980-433D-9A0C-B89901F7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3C90-F5D9-4640-98CB-B8A83064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AA79-8354-44FA-A6B1-1B2B6538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9776-A010-4929-B719-FFD32DA5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AAC8-63FD-44D8-BA1B-6C33CB4A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F526-13E1-4C7C-8B16-F678BC4BF6D5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C901-4E80-41C8-97C9-C2407A699B3A}" type="slidenum"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CC35-1BFF-438B-9DB3-CBB93BBC5DB6}" type="slidenum"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A3B5-67DE-4032-95D1-03C0AE817CFD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405640" cy="18957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onstantia"/>
              </a:rPr>
              <a:t>CREATIVIDAD E INNOVACION: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onstantia"/>
              </a:rPr>
              <a:t>RETOS DEL FUTUR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onstantia"/>
              </a:rPr>
              <a:t>San Sebastián 4 - 8 Mayo 2009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13" descr="fon-cabe"/>
          <p:cNvPicPr/>
          <p:nvPr/>
        </p:nvPicPr>
        <p:blipFill>
          <a:blip r:embed="rId2"/>
          <a:stretch/>
        </p:blipFill>
        <p:spPr>
          <a:xfrm>
            <a:off x="7308720" y="0"/>
            <a:ext cx="1835280" cy="6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4617b"/>
                </a:solidFill>
                <a:latin typeface="Verdana"/>
                <a:ea typeface="Verdana"/>
              </a:rPr>
              <a:t>PAÍS VASC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00040" y="150012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Comunidades de aprendizaje (25 centro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Transformación de todo el centro: Para incrementar el aprendizaje y buscando el éxito para todo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Transformación-Interacción-Participación-Formació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Fases: Sueño, elección de prioridades, comisiones mixtas, plan de trabajo,..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Innovaciones en el aula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Tertulias dialógicas literarias con alumnado y famili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Grupos interactivos con voluntariad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Contratos de aprendizaj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Medidas inclusivas en el aula y en el centr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Verdana"/>
                <a:ea typeface="Verdana"/>
              </a:rPr>
              <a:t>www.jardunaldiak.ne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Verdana"/>
                <a:ea typeface="Verdana"/>
              </a:rPr>
              <a:t>www.ikas.ko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13" descr="fon-cabe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6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4617b"/>
                </a:solidFill>
                <a:latin typeface="Verdana"/>
                <a:ea typeface="Verdana"/>
              </a:rPr>
              <a:t>ARAGÓN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85840" y="17146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ESO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Proa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TablePC  (Cada alumno tiene un ordenador asignado por el centro y trabaja en algún momento con el ordenador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Bilinguismo catalán (en cada nivel dan una asignatura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CICLOS FORMATIVOS: Programa bilingüe en inglé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Asignatura inglés en 1° y 2° (5h en cada curs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Una asignatura troncal en 1° (6h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Una asignatura troncal en 2° (9h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Programa ERASMUS: Prácticas en Belgic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Sistema de gestión de cal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CENTR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Promotor de la salu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Programa de Bibliotecas escolar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Verdana"/>
                <a:ea typeface="Verdana"/>
              </a:rPr>
              <a:t>www.iesbajocinca.or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Picture 13" descr="fon-cabe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6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4617b"/>
                </a:solidFill>
                <a:latin typeface="Verdana"/>
                <a:ea typeface="Verdana"/>
              </a:rPr>
              <a:t>ISLAS BALEA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0012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Verdana"/>
              </a:rPr>
              <a:t>COMUNIDAD AUTÓNOM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Verdana"/>
              </a:rPr>
              <a:t>UNE-EN ISO 9001:2000, SISTEMAS DE GESTIÓN DE CALIDAD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Verdana"/>
              </a:rPr>
              <a:t>Proyecto ALTER: Alumnado con exclusión educativa para introducirlo en el mundo labor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Verdana"/>
              </a:rPr>
              <a:t>CENTRO EDUCATIVO (IES JOSEP MIQUEL GUÀRDIA-ALAIOR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Verdana"/>
              </a:rPr>
              <a:t>Proyectos basados en la calidad dentro del aula no en la gestión de la calidad fuera del aula: EJEMPLO: Proyecto intervención educativa (PIE): Reducir las ratios de las clases aumentando las horas lectivas del profesorado. Resultados: Menos fracaso y menos conflictividad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Verdana"/>
              </a:rPr>
              <a:t>Abandono de la utilización de libros en bachillerato y utilizar la plataforma moodle. Compra de un ordenador portátil a cambio de la compra de los libros de texto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Verdana"/>
                <a:ea typeface="Verdana"/>
              </a:rPr>
              <a:t>www.iqpib.caib.es/user/info/index.htm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Verdana"/>
                <a:ea typeface="Verdana"/>
              </a:rPr>
              <a:t>www.xtec.cat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Verdana"/>
                <a:ea typeface="Verdana"/>
              </a:rPr>
              <a:t>www.weib.caib.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4" name="Picture 13" descr="fon-cabe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278604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0000"/>
                </a:solidFill>
                <a:latin typeface="Verdana"/>
                <a:ea typeface="Verdana"/>
              </a:rPr>
              <a:t>EN QUE NOS FORMAMOS…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6" name="Picture 13" descr="fon-cabe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0" y="642960"/>
            <a:ext cx="91440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Verdana"/>
                <a:ea typeface="Verdana"/>
              </a:rPr>
              <a:t>GENERALIZAND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Verdana"/>
              </a:rPr>
              <a:t>A través de las diferentes CONSEJERÍAS AUTÓNOMICAS, INSTITUCIONES PRIVADAS Y PÚBLICAS en general. Tanto a través de la formación presencial como on-line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Verdana"/>
                <a:ea typeface="Verdana"/>
              </a:rPr>
              <a:t>CONCRETAND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Verdana"/>
              </a:rPr>
              <a:t>Formación en centros: Gestionados directamente por el propio centro. </a:t>
            </a:r>
            <a:r>
              <a:rPr b="1" lang="de-DE" sz="1600" spc="-1" strike="noStrike">
                <a:solidFill>
                  <a:srgbClr val="02303e"/>
                </a:solidFill>
                <a:latin typeface="Verdana"/>
                <a:ea typeface="Verdana"/>
              </a:rPr>
              <a:t>(País Vasco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Verdana"/>
              </a:rPr>
              <a:t>Grupos de trabajo y seminarios: </a:t>
            </a:r>
            <a:r>
              <a:rPr b="1" lang="de-DE" sz="1600" spc="-1" strike="noStrike">
                <a:solidFill>
                  <a:srgbClr val="02303e"/>
                </a:solidFill>
                <a:latin typeface="Verdana"/>
                <a:ea typeface="Verdana"/>
              </a:rPr>
              <a:t>Austria y Españ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Verdana"/>
              </a:rPr>
              <a:t>Congresos y seminarios: Con una SUPERVISIÓN PERSONALIZADAS (</a:t>
            </a:r>
            <a:r>
              <a:rPr b="1" lang="de-DE" sz="1600" spc="-1" strike="noStrike">
                <a:solidFill>
                  <a:srgbClr val="02303e"/>
                </a:solidFill>
                <a:latin typeface="Verdana"/>
                <a:ea typeface="Verdana"/>
              </a:rPr>
              <a:t>Alemania Baden-Wurttenberg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  <a:ea typeface="Verdana"/>
              </a:rPr>
              <a:t>Cursos extraordinarios de tipo laboratorio sobre métodos de enseñanza  que promueven la creatividad y la innovación. En una primera fase de los seminarios serán invitados especialistas de Chipre y del extranjero. En una segunda fase los profesores que tomen parte en los seminarios aplicarán en la práctica los métodos aprendidos. </a:t>
            </a:r>
            <a:r>
              <a:rPr b="1" lang="es-AR" sz="1600" spc="-1" strike="noStrike">
                <a:solidFill>
                  <a:srgbClr val="02303e"/>
                </a:solidFill>
                <a:latin typeface="Verdana"/>
                <a:ea typeface="Verdana"/>
              </a:rPr>
              <a:t>(Chipre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  <a:ea typeface="Verdana"/>
              </a:rPr>
              <a:t>Puesta al día de la Universidad de Chipre y de otras Universidades sobre los objetivos concretos de sus programas. (</a:t>
            </a:r>
            <a:r>
              <a:rPr b="1" lang="es-AR" sz="1600" spc="-1" strike="noStrike">
                <a:solidFill>
                  <a:srgbClr val="02303e"/>
                </a:solidFill>
                <a:latin typeface="Verdana"/>
                <a:ea typeface="Verdana"/>
              </a:rPr>
              <a:t>Chipre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  <a:ea typeface="Verdana"/>
              </a:rPr>
              <a:t>Participación de inspectores y de maestros en los seminarios del Instituto Pedagógico de Chipre para la creación de núcleos que actúen como multiplicadores en la difusión del conocimiento en todo el personal docente </a:t>
            </a:r>
            <a:r>
              <a:rPr b="1" lang="es-AR" sz="1600" spc="-1" strike="noStrike">
                <a:solidFill>
                  <a:srgbClr val="02303e"/>
                </a:solidFill>
                <a:latin typeface="Verdana"/>
                <a:ea typeface="Verdana"/>
              </a:rPr>
              <a:t>(Chipre)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8" name="Picture 13" descr="fon-cabe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6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57120" y="2786040"/>
            <a:ext cx="87868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0000"/>
                </a:solidFill>
                <a:latin typeface="Verdana"/>
                <a:ea typeface="Verdana"/>
              </a:rPr>
              <a:t>MATERIALES Y RECURSOS UTILIZADO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0" name="Picture 13" descr="fon-cabe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457200" y="856800"/>
            <a:ext cx="8043840" cy="54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ECURSOS MATERI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l margen de los convencionales destacamo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DA (Control de asistencia para el alumnado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boratorio fotográf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WEB 2.0 (Blogs, Moodle, …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izarra electrón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edes interrelacionadas entre cent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Picture 13" descr="fon-cabe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928800"/>
            <a:ext cx="797256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ECURSOS HUMAN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Bibliotecas escolares tutorizad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Flexibilizar el horario profesion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ncorporación de expertos profesion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entabilizar los conocimientos profesionales y personales a/de toda la comunidad educa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nteracción con el entorno laboral y socioeducativ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Voluntariado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57120" y="2786040"/>
            <a:ext cx="87868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0000"/>
                </a:solidFill>
                <a:latin typeface="Verdana"/>
                <a:ea typeface="Verdana"/>
              </a:rPr>
              <a:t>VALORACIÓN…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5" name="Picture 13" descr="fon-cabe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0" y="50004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0000"/>
                </a:solidFill>
                <a:latin typeface="Verdana"/>
                <a:ea typeface="Verdana"/>
              </a:rPr>
              <a:t>ORGANIZACIÓ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Valoración.-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Verdana"/>
              </a:rPr>
              <a:t> Muy efectiva. Muy cercana. Marco incomparable. Alojamiento perfecto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Sugerenci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Verdana"/>
              </a:rPr>
              <a:t>.- Conocer previamente los asistentes y el motivos de su participación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c00000"/>
                </a:solidFill>
                <a:uFillTx/>
                <a:latin typeface="Verdana"/>
                <a:ea typeface="Verdana"/>
              </a:rPr>
              <a:t>PROGRAMA DEL SEMINARI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Valoració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Verdana"/>
              </a:rPr>
              <a:t>.- Muy positiva. Una visión muy completa de lo que se hace en el Estado Español. Con personas muy competentes en sus disciplin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Sugerenci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Verdana"/>
              </a:rPr>
              <a:t>.- Entrega del material didáctico previa a la presentació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Verdana"/>
              </a:rPr>
              <a:t>Reducir el número de ponencias e incrementar el intercambio de experiencias entre los asisten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Picture 13" descr="fon-cabe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571680"/>
            <a:ext cx="778680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1a1585"/>
                </a:solidFill>
                <a:latin typeface="Verdana"/>
                <a:ea typeface="Verdana"/>
              </a:rPr>
              <a:t>        </a:t>
            </a:r>
            <a:r>
              <a:rPr b="1" lang="de-DE" sz="5000" spc="-1" strike="noStrike">
                <a:solidFill>
                  <a:srgbClr val="ff0000"/>
                </a:solidFill>
                <a:latin typeface="Verdana"/>
                <a:ea typeface="Verdana"/>
              </a:rPr>
              <a:t>GRUPO II</a:t>
            </a:r>
            <a:r>
              <a:rPr b="0" lang="de-DE" sz="5000" spc="-1" strike="noStrike">
                <a:solidFill>
                  <a:srgbClr val="04617b"/>
                </a:solidFill>
                <a:latin typeface="Verdana"/>
                <a:ea typeface="Verdana"/>
              </a:rPr>
              <a:t> </a:t>
            </a:r>
            <a:r>
              <a:rPr b="0" lang="de-DE" sz="5000" spc="-1" strike="noStrike">
                <a:solidFill>
                  <a:srgbClr val="04617b"/>
                </a:solidFill>
                <a:latin typeface="Verdana"/>
                <a:ea typeface="Verdana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826560" y="1844640"/>
            <a:ext cx="78598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13" descr="fon-cabe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658800"/>
          </a:xfrm>
          <a:prstGeom prst="rect">
            <a:avLst/>
          </a:prstGeom>
          <a:ln w="0">
            <a:noFill/>
          </a:ln>
        </p:spPr>
      </p:pic>
      <p:sp>
        <p:nvSpPr>
          <p:cNvPr id="208" name="4 Rectángulo"/>
          <p:cNvSpPr/>
          <p:nvPr/>
        </p:nvSpPr>
        <p:spPr>
          <a:xfrm>
            <a:off x="3714840" y="1571760"/>
            <a:ext cx="4786200" cy="928440"/>
          </a:xfrm>
          <a:prstGeom prst="rect">
            <a:avLst/>
          </a:prstGeom>
          <a:solidFill>
            <a:srgbClr val="b0dfa1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2303e"/>
                </a:solidFill>
                <a:latin typeface="Verdana"/>
                <a:ea typeface="Verdana"/>
              </a:rPr>
              <a:t>ALEMAN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2303e"/>
                </a:solidFill>
                <a:latin typeface="Verdana"/>
                <a:ea typeface="Verdana"/>
              </a:rPr>
              <a:t>GÜNTER SAUT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5 Rectángulo"/>
          <p:cNvSpPr/>
          <p:nvPr/>
        </p:nvSpPr>
        <p:spPr>
          <a:xfrm>
            <a:off x="1143000" y="4143240"/>
            <a:ext cx="6500880" cy="2500560"/>
          </a:xfrm>
          <a:prstGeom prst="rect">
            <a:avLst/>
          </a:prstGeom>
          <a:solidFill>
            <a:srgbClr val="b0dfa1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2303e"/>
                </a:solidFill>
                <a:latin typeface="Verdana"/>
                <a:ea typeface="Verdana"/>
              </a:rPr>
              <a:t>ESPAÑ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2303e"/>
                </a:solidFill>
                <a:latin typeface="Verdana"/>
                <a:ea typeface="Verdana"/>
              </a:rPr>
              <a:t>Mª SOLEDAD CABRERA LIVI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2303e"/>
                </a:solidFill>
                <a:latin typeface="Verdana"/>
                <a:ea typeface="Verdana"/>
              </a:rPr>
              <a:t>DAVID FONT MAMPE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2303e"/>
                </a:solidFill>
                <a:latin typeface="Verdana"/>
                <a:ea typeface="Verdana"/>
              </a:rPr>
              <a:t>ENRIQUE D. RIOS G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2303e"/>
                </a:solidFill>
                <a:latin typeface="Verdana"/>
                <a:ea typeface="Verdana"/>
              </a:rPr>
              <a:t>PRUDENCIO ROBAINA BRI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2303e"/>
                </a:solidFill>
                <a:latin typeface="Verdana"/>
                <a:ea typeface="Verdana"/>
              </a:rPr>
              <a:t>MARTA ZURIMEND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6 Rectángulo"/>
          <p:cNvSpPr/>
          <p:nvPr/>
        </p:nvSpPr>
        <p:spPr>
          <a:xfrm>
            <a:off x="0" y="2643120"/>
            <a:ext cx="5143680" cy="1071720"/>
          </a:xfrm>
          <a:prstGeom prst="rect">
            <a:avLst/>
          </a:prstGeom>
          <a:solidFill>
            <a:srgbClr val="b0dfa1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2303e"/>
                </a:solidFill>
                <a:latin typeface="Verdana"/>
              </a:rPr>
              <a:t>CHIP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2303e"/>
                </a:solidFill>
                <a:latin typeface="Verdana"/>
                <a:ea typeface="Verdana"/>
              </a:rPr>
              <a:t>MARINA STERGIDO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7 Rectángulo"/>
          <p:cNvSpPr/>
          <p:nvPr/>
        </p:nvSpPr>
        <p:spPr>
          <a:xfrm>
            <a:off x="4643280" y="2857680"/>
            <a:ext cx="4143600" cy="1071360"/>
          </a:xfrm>
          <a:prstGeom prst="rect">
            <a:avLst/>
          </a:prstGeom>
          <a:solidFill>
            <a:srgbClr val="b0dfa1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2303e"/>
                </a:solidFill>
                <a:latin typeface="Verdana"/>
              </a:rPr>
              <a:t>AUST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2303e"/>
                </a:solidFill>
                <a:latin typeface="Verdana"/>
                <a:ea typeface="Verdana"/>
              </a:rPr>
              <a:t>GABRIELE BRAND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1 Imagen" descr="IMG_1134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42960" y="27860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0000"/>
                </a:solidFill>
                <a:latin typeface="Verdana"/>
                <a:ea typeface="Verdana"/>
              </a:rPr>
              <a:t>QUE HACEMOS…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Picture 13" descr="fon-cabe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500" spc="-1" strike="noStrike">
                <a:solidFill>
                  <a:srgbClr val="ff0000"/>
                </a:solidFill>
                <a:latin typeface="Verdana"/>
                <a:ea typeface="Verdana"/>
              </a:rPr>
              <a:t>ALEMANIA</a:t>
            </a:r>
            <a:r>
              <a:rPr b="0" lang="de-DE" sz="3200" spc="-1" strike="noStrike">
                <a:solidFill>
                  <a:srgbClr val="ff0000"/>
                </a:solidFill>
                <a:latin typeface="Verdana"/>
                <a:ea typeface="Verdana"/>
              </a:rPr>
              <a:t> </a:t>
            </a:r>
            <a:br>
              <a:rPr sz="3200"/>
            </a:br>
            <a:r>
              <a:rPr b="0" lang="de-DE" sz="4500" spc="-1" strike="noStrike">
                <a:solidFill>
                  <a:srgbClr val="7b9899"/>
                </a:solidFill>
                <a:latin typeface="Verdana"/>
                <a:ea typeface="Verdana"/>
              </a:rPr>
              <a:t>BADEN-WÜRTTEMBERG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2000160"/>
            <a:ext cx="8893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Verdana"/>
              </a:rPr>
              <a:t>Curriculum 2004: Enseñanza y aprendizaje futuro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spcAft>
                <a:spcPts val="400"/>
              </a:spcAft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spcAft>
                <a:spcPts val="400"/>
              </a:spcAft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Verdana"/>
              </a:rPr>
              <a:t>Autonomía para desarrollar objetivos diferentes por centros pero con unos estandares míninos y con pruebas centralizada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Verdana"/>
              </a:rPr>
              <a:t>Pensamos que competencias han de desarrollar y después buscamos los contenidos que nos conducen a las competencias deseada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Verdana"/>
              </a:rPr>
              <a:t>La enseñanza: proceso permanente y evaluado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Verdana"/>
              </a:rPr>
              <a:t>Autoevaluación centro: profesores, familias y alumno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Verdana"/>
              </a:rPr>
              <a:t>Evaluación externa: básica para formular objetivos que serán autoevaluados en el próximo ciclo de evaluación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Verdana"/>
              </a:rPr>
              <a:t>Formación profesorado: en metodología innovadora, técnica de evaluación, trabajo Porfolio y feedback para mejorar la comunicación interna y externa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Verdana"/>
                <a:ea typeface="Verdana"/>
              </a:rPr>
              <a:t>www.km-bw.d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Verdana"/>
                <a:ea typeface="Verdana"/>
              </a:rPr>
              <a:t>www.evalution-bw.d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13" descr="fon-cabe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658800"/>
          </a:xfrm>
          <a:prstGeom prst="rect">
            <a:avLst/>
          </a:prstGeom>
          <a:ln w="0">
            <a:noFill/>
          </a:ln>
        </p:spPr>
      </p:pic>
      <p:sp>
        <p:nvSpPr>
          <p:cNvPr id="218" name="4 Triángulo isósceles"/>
          <p:cNvSpPr/>
          <p:nvPr/>
        </p:nvSpPr>
        <p:spPr>
          <a:xfrm>
            <a:off x="4071960" y="2643120"/>
            <a:ext cx="46080" cy="7164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5 Diagrama" descr=""/>
          <p:cNvPicPr/>
          <p:nvPr/>
        </p:nvPicPr>
        <p:blipFill>
          <a:blip r:embed="rId2"/>
          <a:stretch/>
        </p:blipFill>
        <p:spPr>
          <a:xfrm>
            <a:off x="1542960" y="706320"/>
            <a:ext cx="6107040" cy="4097520"/>
          </a:xfrm>
          <a:prstGeom prst="rect">
            <a:avLst/>
          </a:prstGeom>
          <a:ln w="0">
            <a:noFill/>
          </a:ln>
        </p:spPr>
      </p:pic>
      <p:sp>
        <p:nvSpPr>
          <p:cNvPr id="220" name="6 Cara sonriente"/>
          <p:cNvSpPr/>
          <p:nvPr/>
        </p:nvSpPr>
        <p:spPr>
          <a:xfrm>
            <a:off x="8072280" y="2857680"/>
            <a:ext cx="500400" cy="500040"/>
          </a:xfrm>
          <a:prstGeom prst="smileyFace">
            <a:avLst>
              <a:gd name="adj" fmla="val 928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Verdana"/>
                <a:ea typeface="Verdana"/>
              </a:rPr>
              <a:t>AUSTRIA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357120" y="1000080"/>
            <a:ext cx="8425080" cy="60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buClr>
                <a:srgbClr val="0bd0d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royecto Comenius Flowerpower (FLO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retende analizar el cambio que se produce en la actitud de los alumno cuando el proceso de enseñanza-aprendizaje se realiza fuera del aula. Aprender fuera del aula utilizando todos los sentid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e basa en tener un mayor contacto con la naturalza, utilizando los cuatro elementos: agua, tierra, aire y fue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emanalmente se formula un cuestionario para saber si se produce un cambio en su actitud cuendo el alumno está fuera del cent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fecta  a los niveles: Jardín de Infancia, Primaria y Secunda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aises participantes: Chequia, Hungria, Rumanía, Turquía 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ustria.         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dioma: Inglé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buClr>
                <a:srgbClr val="0bd0d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rofesora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u papel está visto como acompañante del alumn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nseñanza basada en el dialogo y apoyo individu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l desarrollo de la creatividad por medio de pedagogía teatral  y JEUX DRAMATIQUES  tienen un papel muy importante en los procesos de aprendizaj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13" descr="fon-cabe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6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Verdana"/>
                <a:ea typeface="Verdana"/>
              </a:rPr>
              <a:t>CHIPRE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57120" y="1428840"/>
            <a:ext cx="87868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ACCIONES AL MÁS ALTO NI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Verdana"/>
              </a:rPr>
              <a:t>Apoyo a la investigación desde la infancia hasta la Universida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Verdana"/>
              </a:rPr>
              <a:t>Desarrollo de herramientas de diagnóstico que permitan identificar los individuos creador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Verdana"/>
              </a:rPr>
              <a:t>Fortalecimiento de la investigación que favorezca el desarrollo de métodos y prácticas educativas que apoyen, promuevan y desarrollen la creatividad en las diferentes edad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CENTROS EDUCATIV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Verdana"/>
              </a:rPr>
              <a:t>Aplicación de la creatividad en el aul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Verdana"/>
              </a:rPr>
              <a:t>Día de la creatividad y exposiciones a nivel escolar y naciona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Verdana"/>
              </a:rPr>
              <a:t>Promoción de la labor innovadora de los estudiantes en genera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Verdana"/>
              </a:rPr>
              <a:t>Promoción de los programas de aprendizaje permanent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Verdana"/>
              </a:rPr>
              <a:t>Conjunción entre escuela y empresa y apertura a investigadores y creadores de reconocido prestigio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Verdana"/>
              </a:rPr>
              <a:t>Utilizar la multiculturalidad de las aulas y en las aul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Verdana"/>
              </a:rPr>
              <a:t>Las materias programan acciones encaminadas a mejorar el aprendizaje creativo</a:t>
            </a: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1" lang="de-DE" sz="1800" spc="-1" strike="noStrike">
                <a:solidFill>
                  <a:srgbClr val="ff0000"/>
                </a:solidFill>
                <a:latin typeface="Verdana"/>
                <a:ea typeface="Verdana"/>
              </a:rPr>
              <a:t>Mas informació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Verdana"/>
                <a:ea typeface="Verdana"/>
              </a:rPr>
              <a:t>www.moec.gov.cy/2009_dimiourgikotita_kainotomia/index.htm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Picture 13" descr="fon-cabe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658800"/>
          </a:xfrm>
          <a:prstGeom prst="rect">
            <a:avLst/>
          </a:prstGeom>
          <a:ln w="0">
            <a:noFill/>
          </a:ln>
        </p:spPr>
      </p:pic>
      <p:pic>
        <p:nvPicPr>
          <p:cNvPr id="228" name="7 Diagrama" descr=""/>
          <p:cNvPicPr/>
          <p:nvPr/>
        </p:nvPicPr>
        <p:blipFill>
          <a:blip r:embed="rId2"/>
          <a:stretch/>
        </p:blipFill>
        <p:spPr>
          <a:xfrm>
            <a:off x="1279440" y="1481040"/>
            <a:ext cx="6108840" cy="409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de-DE" sz="4400" spc="-1" strike="noStrike">
                <a:solidFill>
                  <a:srgbClr val="ff0000"/>
                </a:solidFill>
                <a:latin typeface="Verdana"/>
                <a:ea typeface="Verdana"/>
              </a:rPr>
              <a:t>ESPAÑA</a:t>
            </a:r>
            <a:br>
              <a:rPr sz="4800"/>
            </a:br>
            <a:r>
              <a:rPr b="1" lang="de-DE" sz="4400" spc="-1" strike="noStrike">
                <a:solidFill>
                  <a:srgbClr val="04617b"/>
                </a:solidFill>
                <a:latin typeface="Verdana"/>
                <a:ea typeface="Verdana"/>
              </a:rPr>
              <a:t>CANARIA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0" name="Picture 13" descr="fon-cabe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6588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4"/>
          <p:cNvSpPr/>
          <p:nvPr/>
        </p:nvSpPr>
        <p:spPr>
          <a:xfrm>
            <a:off x="428760" y="1571760"/>
            <a:ext cx="842472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f6fc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Verdana"/>
              </a:rPr>
              <a:t>Proyecto Europeo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. Interculturalidad: El corazón de las escuelas europeas.  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Verdana"/>
              </a:rPr>
              <a:t>Duración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: 2 añ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Verdana"/>
              </a:rPr>
              <a:t>Paises participantes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: Escocia, Chipre, Letonia y Españ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Verdana"/>
              </a:rPr>
              <a:t>Objetivo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: Reforzar la dimensión europea en la enseñanza y compartir experiencias y métodos encaminados a fomentar la inclusión y la diversidad cultural entre el alumna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Verdana"/>
              </a:rPr>
              <a:t>Procedimiento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: * Mediante el intercambio de actividades sobre literatura y métodos para promover valores comunes con los países participant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Intercambio de profesores y alumnos para compatir actividades comu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Verdana"/>
              </a:rPr>
              <a:t>Proyecto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:   Intercambio de alumnos entre España y Aleman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www.iesmesaylopez.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4617b"/>
                </a:solidFill>
                <a:latin typeface="Verdana"/>
                <a:ea typeface="Verdana"/>
              </a:rPr>
              <a:t>MURCIA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468360" y="1571760"/>
            <a:ext cx="8424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4617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royecto de I+D-I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asado en un sistema digital de almacenamiento de programaciones por internet. Se estudia el grado de avance en las desviaciones, sus modificaciones y  logros, unificación de contenidos y su seguimiento y contro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Gestión del conocimento profesional docente: Compartir en este programa todos los materiales que tenem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rogramaciones con un hipervínculo que nos traslada a los materiales que se pueden utilizar en la cla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Gestión de instrumentos de medir los objetivos plante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articipa: IES LA FLOTA-UNIVERSIDAD (Facultades de Informàtica y Educació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lazo de presentación: Final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Verdana"/>
              </a:rPr>
              <a:t>www.ieslaflota.es(calidad@ieslaflota.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13" descr="fon-cabe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65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4:23:45Z</dcterms:created>
  <dc:creator>Sauter</dc:creator>
  <dc:description/>
  <dc:language>en-US</dc:language>
  <cp:lastModifiedBy>Valued Acer Customer</cp:lastModifiedBy>
  <dcterms:modified xsi:type="dcterms:W3CDTF">2009-05-08T06:32:59Z</dcterms:modified>
  <cp:revision>92</cp:revision>
  <dc:subject/>
  <dc:title>CREATIVIDAD E INNOVACIÓN: RETOS DE FUTURO</dc:title>
</cp:coreProperties>
</file>