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3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D8B7BE-56C3-48E5-9C3C-1584EC979C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235320"/>
            <a:ext cx="9144000" cy="362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43280" y="3357720"/>
            <a:ext cx="6300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marL="88920">
              <a:lnSpc>
                <a:spcPct val="100000"/>
              </a:lnSpc>
              <a:tabLst>
                <a:tab algn="l" pos="0"/>
                <a:tab algn="l" pos="88920"/>
                <a:tab algn="l" pos="1003320"/>
                <a:tab algn="l" pos="1917720"/>
                <a:tab algn="l" pos="2832120"/>
                <a:tab algn="l" pos="3746520"/>
                <a:tab algn="l" pos="4660920"/>
                <a:tab algn="l" pos="5575320"/>
                <a:tab algn="l" pos="6489720"/>
                <a:tab algn="l" pos="7404120"/>
                <a:tab algn="l" pos="8318520"/>
                <a:tab algn="l" pos="9232920"/>
                <a:tab algn="l" pos="101473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Iniciativas, formación y materiales para la Innovación Educativa y la Creatividad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88920"/>
                <a:tab algn="l" pos="1003320"/>
                <a:tab algn="l" pos="1917720"/>
                <a:tab algn="l" pos="2832120"/>
                <a:tab algn="l" pos="3746520"/>
                <a:tab algn="l" pos="4660920"/>
                <a:tab algn="l" pos="5575320"/>
                <a:tab algn="l" pos="6489720"/>
                <a:tab algn="l" pos="7404120"/>
                <a:tab algn="l" pos="8318520"/>
                <a:tab algn="l" pos="9232920"/>
                <a:tab algn="l" pos="101473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88920"/>
                <a:tab algn="l" pos="1003320"/>
                <a:tab algn="l" pos="1917720"/>
                <a:tab algn="l" pos="2832120"/>
                <a:tab algn="l" pos="3746520"/>
                <a:tab algn="l" pos="4660920"/>
                <a:tab algn="l" pos="5575320"/>
                <a:tab algn="l" pos="6489720"/>
                <a:tab algn="l" pos="7404120"/>
                <a:tab algn="l" pos="8318520"/>
                <a:tab algn="l" pos="9232920"/>
                <a:tab algn="l" pos="101473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APORTACIONES DEL GRUPO Nº 1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484360" y="1052640"/>
            <a:ext cx="6300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marL="88920">
              <a:lnSpc>
                <a:spcPct val="100000"/>
              </a:lnSpc>
              <a:tabLst>
                <a:tab algn="l" pos="0"/>
                <a:tab algn="l" pos="88920"/>
                <a:tab algn="l" pos="1003320"/>
                <a:tab algn="l" pos="1917720"/>
                <a:tab algn="l" pos="2832120"/>
                <a:tab algn="l" pos="3746520"/>
                <a:tab algn="l" pos="4660920"/>
                <a:tab algn="l" pos="5575320"/>
                <a:tab algn="l" pos="6489720"/>
                <a:tab algn="l" pos="7404120"/>
                <a:tab algn="l" pos="8318520"/>
                <a:tab algn="l" pos="9232920"/>
                <a:tab algn="l" pos="101473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Curso Innovación y creatividad: RETOS DEL FUTUR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88920"/>
                <a:tab algn="l" pos="1003320"/>
                <a:tab algn="l" pos="1917720"/>
                <a:tab algn="l" pos="2832120"/>
                <a:tab algn="l" pos="3746520"/>
                <a:tab algn="l" pos="4660920"/>
                <a:tab algn="l" pos="5575320"/>
                <a:tab algn="l" pos="6489720"/>
                <a:tab algn="l" pos="7404120"/>
                <a:tab algn="l" pos="8318520"/>
                <a:tab algn="l" pos="9232920"/>
                <a:tab algn="l" pos="1014732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rebuchet MS"/>
              </a:rPr>
              <a:t>San Sebastian, mayo de 2009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235320"/>
            <a:ext cx="9144000" cy="3622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987280" y="3715920"/>
            <a:ext cx="583092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4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988920" indent="-531720">
              <a:lnSpc>
                <a:spcPct val="104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371600" indent="-457200">
              <a:lnSpc>
                <a:spcPct val="104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751040" indent="-379440">
              <a:lnSpc>
                <a:spcPct val="104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208240" indent="-379440">
              <a:lnSpc>
                <a:spcPct val="104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208240" indent="-37944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208240" indent="-37944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"/>
          <p:cNvSpPr/>
          <p:nvPr/>
        </p:nvSpPr>
        <p:spPr>
          <a:xfrm>
            <a:off x="2777040" y="321300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ontenid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rebuchet M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6264360"/>
            <a:ext cx="9144000" cy="620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5640" y="-152640"/>
            <a:ext cx="7775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81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1" marL="741240" indent="-28404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Clr>
                <a:srgbClr val="000099"/>
              </a:buClr>
              <a:buFont typeface="Wingdings 2" charset="2"/>
              <a:buChar char="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2" marL="1143000" indent="-22860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Clr>
                <a:srgbClr val="0000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3" marL="1600200" indent="-22860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Clr>
                <a:srgbClr val="000099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4" marL="2057400" indent="-22860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Clr>
                <a:srgbClr val="000099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5" marL="2057400" indent="-22860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6" marL="2057400" indent="-22860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1"/>
          </p:nvPr>
        </p:nvSpPr>
        <p:spPr>
          <a:xfrm>
            <a:off x="468000" y="6381360"/>
            <a:ext cx="59022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urso Innovacion y Creatividad. San Sebastian, mayo 2009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esc-artemelilla.es/" TargetMode="External"/><Relationship Id="rId6" Type="http://schemas.openxmlformats.org/officeDocument/2006/relationships/hyperlink" Target="http://www.esc-artemelilla.es/" TargetMode="External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hyperlink" Target="http://www.hezkuntza.ejgv.euskadi.net/" TargetMode="External"/><Relationship Id="rId7" Type="http://schemas.openxmlformats.org/officeDocument/2006/relationships/hyperlink" Target="http://www.hezkuntza.ejgv.euskadi.net/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7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blog.educastur.es/" TargetMode="External"/><Relationship Id="rId3" Type="http://schemas.openxmlformats.org/officeDocument/2006/relationships/hyperlink" Target="http://blog.educastur.es/" TargetMode="External"/><Relationship Id="rId4" Type="http://schemas.openxmlformats.org/officeDocument/2006/relationships/hyperlink" Target="http://blog.educastur.es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educastur.es/" TargetMode="External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blog.educastur.es/luciaag/" TargetMode="External"/><Relationship Id="rId3" Type="http://schemas.openxmlformats.org/officeDocument/2006/relationships/hyperlink" Target="http://blog.educastur.es/luciaag/" TargetMode="External"/><Relationship Id="rId4" Type="http://schemas.openxmlformats.org/officeDocument/2006/relationships/hyperlink" Target="http://blog.educastur.es/lechuzaminerva/" TargetMode="External"/><Relationship Id="rId5" Type="http://schemas.openxmlformats.org/officeDocument/2006/relationships/hyperlink" Target="http://blog.educastur.es/lechuzaminerva/" TargetMode="External"/><Relationship Id="rId6" Type="http://schemas.openxmlformats.org/officeDocument/2006/relationships/hyperlink" Target="http://blog.educastur.es/lechuzaminerva/" TargetMode="External"/><Relationship Id="rId7" Type="http://schemas.openxmlformats.org/officeDocument/2006/relationships/hyperlink" Target="http://blog.educastur.es/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27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campus.educastur.es/" TargetMode="External"/><Relationship Id="rId3" Type="http://schemas.openxmlformats.org/officeDocument/2006/relationships/hyperlink" Target="http://campus.educastur.es/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hyperlink" Target="http://campus.educastur.es/" TargetMode="External"/><Relationship Id="rId4" Type="http://schemas.openxmlformats.org/officeDocument/2006/relationships/hyperlink" Target="http://campus.educastur.es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7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campus.educastur.es/course/view.php?id=649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campus.educastur.es/course/view.php?id=38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campus.educastur.es/course/view.php?id=216" TargetMode="External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7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www.xtec.cat/crp-girones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educastur.es/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hyperlink" Target="http://www.dgidc.min-edu.pt/" TargetMode="Externa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http://www.schule-bw.de/" TargetMode="External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ww.edumanager.ro/" TargetMode="External"/><Relationship Id="rId5" Type="http://schemas.openxmlformats.org/officeDocument/2006/relationships/hyperlink" Target="http://www.edu.ro/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http://www.eoigirona.com/" TargetMode="External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ESPAÑA. MELILLA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Proyecto de centro de la Escuela de Arte Miguel Marmolejo, con 2 Líneas de trabajo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1.- Fomentar la creatividad del alumnado, a partir de diferentes iniciativas en todos los departamentos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rebuchet MS"/>
              </a:rPr>
              <a:t>Dibujo artístico, construir a partir de imágenes, una obra distinta. 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rebuchet MS"/>
              </a:rPr>
              <a:t>Trabajo en Internet. 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rebuchet MS"/>
              </a:rPr>
              <a:t>Talleres en creatividad en Lengua, Plástica... Customizando con Africa... (todo el centro trabaja en torno al tema de África.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2.- Proyecto de Innovación: 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rebuchet MS"/>
              </a:rPr>
              <a:t>Programa de gestión de calidad del centro a través de la Web. 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rebuchet MS"/>
              </a:rPr>
              <a:t>Se suprimen los documentos en papel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Acceso Web: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www.esc-ar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temelilla.e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ESPAÑA. PAIS VASCO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19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Programa de líneas prioritarias de Innovación Educativa 2007/2010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19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Se estructura en tres ejes: 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Fomentar la inclusividad,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ejorar la calidad de la escuela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la modernidad: una escuela para el S. XXI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19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Cada eje sigue unas </a:t>
            </a: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líneas</a:t>
            </a: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 prioritarias, y cada línea, uno o varios proyectos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19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Ejemplos de programas que se ponen en marcha: Educación intercultural. Proceso de liderazgo, éxito escolar, convivencia, nuevos tecnologías, desarrollo sostenible, tratamiento integrado de lenguas…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19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Acceso Web: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www.hez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rebuchet MS"/>
                <a:hlinkClick r:id="rId7"/>
              </a:rPr>
              <a:t>kuntza.ejgv.euskadi.net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194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Proyectos de Innovación: convocatoria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ESPAÑA. CANARIAS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SzPct val="1604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2 Proyectos de centro. IES de La Matanza. Tenerife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SzPct val="1604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1.- Fomento de la Lectura: Proyecto integral de bibliotecas a través de la lectura 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Se dedica 1 hora semanal a leer en clase y se comentan las lecturas.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Esta hora se alterna para que no le toque siempre ni al mismo grupo ni en la misma asignatura. Son lecturas programadas. 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Siempre es el mismo día de la semana. 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Este proyecto está bastante extendido en la isla, debido al éxito del proyecto, que comenzó en este centro. 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Hay un coordinador del proyecto en cada centro. Proyecto de astronomía: observación de las estrellas. Salida regular de identificar constelaciones, etc. Enlace web. 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SzPct val="1604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Biblioteca escolar sólo con contenidos canarios, con más de 3.000 ejemplares de contenido únicamente canario. Fomenta contenidos interesantes para la comunidad y reforzar la identidad.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2. Proyecto de astronomía: observación de las estrellas. Salida regular para identificar constelaciones, etc. 4º de la ESO y 1º Bachillerato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Acceso Web: www.gobiernodecanarias.org/educacion/9/Usr/ieslamatanza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367000" y="1955880"/>
            <a:ext cx="4572000" cy="3214440"/>
          </a:xfrm>
          <a:prstGeom prst="ellipse">
            <a:avLst/>
          </a:prstGeom>
          <a:noFill/>
          <a:ln w="114480">
            <a:solidFill>
              <a:srgbClr val="ff9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117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227640" y="2924280"/>
            <a:ext cx="2050560" cy="1069920"/>
            <a:chOff x="6227640" y="2924280"/>
            <a:chExt cx="2050560" cy="1069920"/>
          </a:xfrm>
        </p:grpSpPr>
        <p:sp>
          <p:nvSpPr>
            <p:cNvPr id="158" name=""/>
            <p:cNvSpPr/>
            <p:nvPr/>
          </p:nvSpPr>
          <p:spPr>
            <a:xfrm>
              <a:off x="7334640" y="3325320"/>
              <a:ext cx="943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333080"/>
                  <a:tab algn="l" pos="10782360"/>
                </a:tabLst>
              </a:pPr>
              <a:r>
                <a:rPr b="1" lang="en-US" sz="1700" spc="-1" strike="noStrike">
                  <a:solidFill>
                    <a:srgbClr val="0080ff"/>
                  </a:solidFill>
                  <a:latin typeface="Arial"/>
                  <a:ea typeface="Arial"/>
                </a:rPr>
                <a:t>Familias</a:t>
              </a:r>
              <a:endParaRPr b="0" lang="en-US" sz="17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6227640" y="2924280"/>
              <a:ext cx="972720" cy="10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3902040" y="1116000"/>
            <a:ext cx="1306440" cy="1382400"/>
            <a:chOff x="3902040" y="1116000"/>
            <a:chExt cx="1306440" cy="138240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4098600" y="1534320"/>
              <a:ext cx="946440" cy="9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902040" y="1116000"/>
              <a:ext cx="1306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333080"/>
                  <a:tab algn="l" pos="10782360"/>
                </a:tabLst>
              </a:pPr>
              <a:r>
                <a:rPr b="1" lang="en-US" sz="1700" spc="-1" strike="noStrike">
                  <a:solidFill>
                    <a:srgbClr val="ff8000"/>
                  </a:solidFill>
                  <a:latin typeface="Arial"/>
                  <a:ea typeface="Arial"/>
                </a:rPr>
                <a:t>Estudiantes</a:t>
              </a:r>
              <a:endParaRPr b="0" lang="en-US" sz="17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411360" y="4537080"/>
            <a:ext cx="2470680" cy="1372680"/>
            <a:chOff x="3411360" y="4537080"/>
            <a:chExt cx="2470680" cy="1372680"/>
          </a:xfrm>
        </p:grpSpPr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4034880" y="4537080"/>
              <a:ext cx="1061280" cy="10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411360" y="5650200"/>
              <a:ext cx="2470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333080"/>
                  <a:tab algn="l" pos="1078236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  <a:ea typeface="Arial"/>
                </a:rPr>
                <a:t>Centros e instituciones</a:t>
              </a:r>
              <a:endParaRPr b="0" lang="en-US" sz="17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63680" y="2847960"/>
            <a:ext cx="2453760" cy="1150920"/>
            <a:chOff x="463680" y="2847960"/>
            <a:chExt cx="2453760" cy="1150920"/>
          </a:xfrm>
        </p:grpSpPr>
        <p:pic>
          <p:nvPicPr>
            <p:cNvPr id="167" name="" descr=""/>
            <p:cNvPicPr/>
            <p:nvPr/>
          </p:nvPicPr>
          <p:blipFill>
            <a:blip r:embed="rId4"/>
            <a:stretch/>
          </p:blipFill>
          <p:spPr>
            <a:xfrm>
              <a:off x="1910160" y="2847960"/>
              <a:ext cx="10072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63680" y="3293280"/>
              <a:ext cx="135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333080"/>
                  <a:tab algn="l" pos="10782360"/>
                </a:tabLst>
              </a:pPr>
              <a:r>
                <a:rPr b="1" lang="en-US" sz="1700" spc="-1" strike="noStrike">
                  <a:solidFill>
                    <a:srgbClr val="149914"/>
                  </a:solidFill>
                  <a:latin typeface="Arial"/>
                  <a:ea typeface="Arial"/>
                </a:rPr>
                <a:t>Profesorado</a:t>
              </a:r>
              <a:endParaRPr b="0" lang="en-US" sz="17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3635280" y="3213000"/>
            <a:ext cx="2152800" cy="392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20" y="105264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SPAÑA. ASTURIA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" nodeType="afterEffect" fill="hold" presetClass="entr" presetID="0" presetSubtype="1040565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Educastur Blog 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330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Educastur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 Blog 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es otra iniciativa del Área del Portal Educastur y Servicios Educativos en Línea y es accesible mediante navegación web en la dirección: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 algn="ctr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blog.educastur.e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Ofrece a los usuarios (alumnado y profesorado) con identidad digital en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Educastur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 un espacio para la publicación de contenidos educativos en la web utilizando el formato de blog o bitácora. 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4835520" y="907920"/>
            <a:ext cx="43084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Usuarios de Educastur Blog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2100"/>
              </a:spcAft>
              <a:buSzPct val="12852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Profesorado y alumnado con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identidad digital “Educastur”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pertenecientes a los centros de enseñanza de la Consejería de Educación y Ciencia del Principado de Asturias.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140360" y="3141720"/>
            <a:ext cx="5003640" cy="2959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5280" y="3141720"/>
            <a:ext cx="3816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1749"/>
              </a:spcAft>
              <a:buSzPct val="102792"/>
              <a:buBlip>
                <a:blip r:embed="rId3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Puesta en marcha del servicio: </a:t>
            </a:r>
            <a:r>
              <a:rPr b="0" lang="en-US" sz="2000" spc="-1" strike="noStrike">
                <a:solidFill>
                  <a:srgbClr val="009900"/>
                </a:solidFill>
                <a:latin typeface="Trebuchet MS"/>
              </a:rPr>
              <a:t>enero de 2007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1749"/>
              </a:spcAft>
              <a:buSzPct val="102792"/>
              <a:buBlip>
                <a:blip r:embed="rId4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rebuchet MS"/>
              </a:rPr>
              <a:t>140.000 usuarios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 potencia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1749"/>
              </a:spcAft>
              <a:buSzPct val="102792"/>
              <a:buBlip>
                <a:blip r:embed="rId5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rebuchet MS"/>
              </a:rPr>
              <a:t>9.641 usuarios registrados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1749"/>
              </a:spcAft>
              <a:buSzPct val="102792"/>
              <a:buBlip>
                <a:blip r:embed="rId6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En la actualidad hay </a:t>
            </a:r>
            <a:r>
              <a:rPr b="0" lang="en-US" sz="2000" spc="-1" strike="noStrike">
                <a:solidFill>
                  <a:srgbClr val="009900"/>
                </a:solidFill>
                <a:latin typeface="Trebuchet MS"/>
              </a:rPr>
              <a:t>3.215 blogs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 registrado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ontexto educativo 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23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81360" tIns="46800" bIns="46800" anchor="t">
            <a:normAutofit/>
          </a:bodyPr>
          <a:p>
            <a:pPr marL="546120" indent="-4572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02884"/>
              <a:buBlip>
                <a:blip r:embed="rId1"/>
              </a:buBlip>
              <a:tabLst>
                <a:tab algn="l" pos="1116000"/>
                <a:tab algn="l" pos="2030400"/>
                <a:tab algn="l" pos="2944800"/>
                <a:tab algn="l" pos="3859200"/>
                <a:tab algn="l" pos="4773600"/>
                <a:tab algn="l" pos="5688000"/>
                <a:tab algn="l" pos="6602400"/>
                <a:tab algn="l" pos="7516800"/>
                <a:tab algn="l" pos="8431200"/>
                <a:tab algn="l" pos="9345600"/>
                <a:tab algn="l" pos="102600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ntre los posibles usos educativos del blog se podrían destacar por su tamática y tipología los siguientes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933480" indent="-4366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Trebuchet MS"/>
              <a:buAutoNum type="arabicPeriod"/>
              <a:tabLst>
                <a:tab algn="l" pos="1116000"/>
                <a:tab algn="l" pos="2030400"/>
                <a:tab algn="l" pos="2944800"/>
                <a:tab algn="l" pos="3859200"/>
                <a:tab algn="l" pos="4773600"/>
                <a:tab algn="l" pos="5688000"/>
                <a:tab algn="l" pos="6602400"/>
                <a:tab algn="l" pos="7516800"/>
                <a:tab algn="l" pos="8431200"/>
                <a:tab algn="l" pos="9345600"/>
                <a:tab algn="l" pos="102600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rebuchet MS"/>
              </a:rPr>
              <a:t>Publicación de contenidos y materiales por parte de un profesor o departamento como apoyo a su labor docente cotidiana.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lvl="1" marL="933480" indent="0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None/>
              <a:tabLst>
                <a:tab algn="l" pos="0"/>
                <a:tab algn="l" pos="1116000"/>
                <a:tab algn="l" pos="2030400"/>
                <a:tab algn="l" pos="2944800"/>
                <a:tab algn="l" pos="3859200"/>
                <a:tab algn="l" pos="4773600"/>
                <a:tab algn="l" pos="5688000"/>
                <a:tab algn="l" pos="6602400"/>
                <a:tab algn="l" pos="7516800"/>
                <a:tab algn="l" pos="8431200"/>
                <a:tab algn="l" pos="9345600"/>
                <a:tab algn="l" pos="102600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</p:txBody>
      </p:sp>
      <p:sp>
        <p:nvSpPr>
          <p:cNvPr id="180" name=""/>
          <p:cNvSpPr/>
          <p:nvPr/>
        </p:nvSpPr>
        <p:spPr>
          <a:xfrm>
            <a:off x="5435640" y="3573360"/>
            <a:ext cx="370836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Ejempl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MS Gothic"/>
                <a:hlinkClick r:id="rId2"/>
              </a:rPr>
              <a:t>Las TIC en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MS Gothic"/>
                <a:hlinkClick r:id="rId3"/>
              </a:rPr>
              <a:t>Plást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MS Gothic"/>
                <a:hlinkClick r:id="rId4"/>
              </a:rPr>
              <a:t>La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MS Gothic"/>
                <a:hlinkClick r:id="rId5"/>
              </a:rPr>
              <a:t>Lechuza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MS Gothic"/>
                <a:hlinkClick r:id="rId6"/>
              </a:rPr>
              <a:t> de Minerva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MS Gothic"/>
                <a:hlinkClick r:id="rId7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0" y="2997360"/>
            <a:ext cx="5364000" cy="31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Educastur Campus 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848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l proyect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Educastur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 campus 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s una iniciativa de innovación tecnológica y educativa ofrecida a la comunidad docente del Principado de Asturias.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2411280" y="2924280"/>
            <a:ext cx="4176720" cy="28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95800" y="1557360"/>
            <a:ext cx="4048200" cy="35877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Educastur Campus 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Los recursos contenidos en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Educastur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 Campus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se publican bajo </a:t>
            </a: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licencia Creative Commons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reado y desarrollado en Moodle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Algunos permiten entrada de visitantes anónimos.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SzPct val="1028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En otros el usuario deberá autentificarse por medio de la identidad digital asociada a la </a:t>
            </a: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Comunidad Educastur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siendo necesario que previamente el autor o profesor responsable les conceda autorización de acceso.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Educastur Campus 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7512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Primaria: Conocimiento del Medio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Gorilas. El despertar de la conciencia ecológica.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SO: Física y Química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La corriente eléctrica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Bachillerato: Matemática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Concepto Derivada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5076720" y="1989000"/>
            <a:ext cx="3959280" cy="2938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81080" y="9079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jempl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987280" y="3715920"/>
            <a:ext cx="58323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Quiénes integramos el grupo de trabajo nº 1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30840" indent="-330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30840" indent="-330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La formación del profesorado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30840" indent="-330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Los materiales y recursos didácticos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30840" indent="-330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Valoración del Seminario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3.- Formación del Profesorado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Cuestiones previas: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rebuchet MS"/>
              </a:rPr>
              <a:t>Hay mucha oferta de formación a todos los niveles, pero no todo es útil.</a:t>
            </a:r>
            <a:endParaRPr b="0" lang="en-US" sz="18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rebuchet MS"/>
              </a:rPr>
              <a:t>Reivindicamos la formación en horario lectivo (El País vasco, tiene buenos ejemplos).</a:t>
            </a:r>
            <a:endParaRPr b="0" lang="en-US" sz="18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rebuchet MS"/>
              </a:rPr>
              <a:t>Diferencias entre países y entre comunidades en España: Sexenios sí o no, formación voluntaria u obligatoria, etc. La formación valor de cambio: currículum, ascensos…</a:t>
            </a:r>
            <a:endParaRPr b="0" lang="en-US" sz="1800" spc="-1" strike="noStrike">
              <a:solidFill>
                <a:srgbClr val="0000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Formación inicial: Variedad de situaciones: desde el CAP español al caso de Alemania, que tienen un curso específico (training) de 2 años de duración. (Medio año durante los estudios, y año </a:t>
            </a: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y medio al acabar los estudios).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Formación permanente: Variedad de oferta, no toda adaptada ni de calidad. 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Casuísticas variadas: Portugal. 25 horas anuales de formación obligatoria, la mitad de pedagogía, y la otra mitad sobre su propia asignatura. Cada dos años el profesorado es evaluado. Sirve para la promoción del profesorado. 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Actuaciones especialmente relevantes: PALE, coordinadores TIC, Plan 18-30, Plan G</a:t>
            </a: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a</a:t>
            </a: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ratu, etc.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4.- Materiales y Recursos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Direcciones Web interesantes por temas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www.xtec.cat/crp-girone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www.educastur.e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www.bildung-staerkt-menschen.d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www.schule-bw.d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www.nwt-bw.d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www.i-punkt-projekt.d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www.leu.bw.schule.d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4.- Materiales y Recursos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Direcciones Web interesantes </a:t>
            </a: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del Gobierno Vasco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Líneas Prioritarias y Proyectos de Innovación Educativa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http://www.hezkuntza.ejgv.euskadi.net/r43-2519/es/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rebuchet MS"/>
              </a:rPr>
              <a:t>FORMACIÓN: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Perfeccionamiento del Profesorado: GARATU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http://www.hezkuntza.ejgv.euskadi.net/r43-2519/es/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Servicio de apoyo educativo (Berritzegunes)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http://www.berritzeguneak.net/index.php?id=e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Cursos de formación ofrecidas por los Berritzegune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http://www.elkarrekin.org/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4.- Materiales y Recursos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281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Direcciones Web interesantes </a:t>
            </a: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del Gobierno Vasco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rebuchet MS"/>
              </a:rPr>
              <a:t>RECURSOS: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Tratamiento Integrado de lenguas. Euskara-Castellano-Inglé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http://tratamientointegrado.wordpress.com/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http://www.berrikuntza.net/programas/materiales/index?id_p=8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Material propio de inglés producido por los profesores de los centros. 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Content based learning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) INEBI: Primaria , BHINEBI: Secundaria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http://www.gipuztik.net/ingelesa/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5.- Valoración del curso y sugerencias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Valoración de los diferentes temas en escala de 1 a 5: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36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1.- Organización:  4.75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36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2.- Contenidos del curso:  4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36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3.- Metodología: 3.75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36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4.- Alojamiento: 4.25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36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5.- Manutención: 3.25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36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6.- Actividades varias: 4.50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7.- Valoración Global: 4.25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SUGERENCIAS: Metodología muy expositiva. Faltó tiempo para el debate.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Menús repetitivos. (Demasiada lubina en el menú!).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Muy bien la atención a las personas asistentes, y es un placer: ¡A REPETIR!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rebuchet MS"/>
              </a:rPr>
              <a:t>¡¡Gracias!!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1.- Quiénes integramos el grupo de trabajo nº 1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COMPONENTES DEL GRUPO: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042560" y="1557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Britta Halstenbach, (Alemania)</a:t>
            </a:r>
            <a:r>
              <a:rPr b="0" lang="ar-SA" sz="2400" spc="-1" strike="noStrike">
                <a:solidFill>
                  <a:srgbClr val="000099"/>
                </a:solidFill>
                <a:latin typeface="Trebuchet MS"/>
                <a:ea typeface="Arial"/>
              </a:rPr>
              <a:t>‏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Carmen Dimitriu, (Romania)</a:t>
            </a:r>
            <a:r>
              <a:rPr b="0" lang="ar-SA" sz="2400" spc="-1" strike="noStrike">
                <a:solidFill>
                  <a:srgbClr val="000099"/>
                </a:solidFill>
                <a:latin typeface="Trebuchet MS"/>
                <a:ea typeface="Arial"/>
              </a:rPr>
              <a:t>‏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José Antonio Calvo Clemente (Melilla, España)</a:t>
            </a:r>
            <a:r>
              <a:rPr b="0" lang="ar-SA" sz="2400" spc="-1" strike="noStrike">
                <a:solidFill>
                  <a:srgbClr val="000099"/>
                </a:solidFill>
                <a:latin typeface="Trebuchet MS"/>
                <a:ea typeface="Arial"/>
              </a:rPr>
              <a:t>‏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Elisabete da Conceicao Rodrigues (Portugal)</a:t>
            </a:r>
            <a:r>
              <a:rPr b="0" lang="ar-SA" sz="2400" spc="-1" strike="noStrike">
                <a:solidFill>
                  <a:srgbClr val="000099"/>
                </a:solidFill>
                <a:latin typeface="Trebuchet MS"/>
                <a:ea typeface="Arial"/>
              </a:rPr>
              <a:t>‏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Jorge Enrique Domínguez Padron (Islas Canarias, España)</a:t>
            </a:r>
            <a:r>
              <a:rPr b="0" lang="ar-SA" sz="2400" spc="-1" strike="noStrike">
                <a:solidFill>
                  <a:srgbClr val="000099"/>
                </a:solidFill>
                <a:latin typeface="Trebuchet MS"/>
                <a:ea typeface="Arial"/>
              </a:rPr>
              <a:t>‏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Josune Erkizia. (País Vasco, España)</a:t>
            </a:r>
            <a:r>
              <a:rPr b="0" lang="ar-SA" sz="2400" spc="-1" strike="noStrike">
                <a:solidFill>
                  <a:srgbClr val="000099"/>
                </a:solidFill>
                <a:latin typeface="Trebuchet MS"/>
                <a:ea typeface="Arial"/>
              </a:rPr>
              <a:t>‏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Sandra Diaz de Alda Sans (Cataluña, España)</a:t>
            </a:r>
            <a:r>
              <a:rPr b="0" lang="ar-SA" sz="2400" spc="-1" strike="noStrike">
                <a:solidFill>
                  <a:srgbClr val="000099"/>
                </a:solidFill>
                <a:latin typeface="Trebuchet MS"/>
                <a:ea typeface="Arial"/>
              </a:rPr>
              <a:t>‏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Nicanor García  (Asturias, España)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0024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PROBLEMAS PREVIOS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iversidad de perfiles profesionales de las personas que componemos el grupo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iferencias de perspectiva y de escala a la hora de valorar los proyectos y el entorno en el que se desarrollan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Metodología de acuerdo: cada persona propone un máximo de 2 proyectos en el apartado 1, y el grupo, de común acuerdo, propone conjuntamente las actividades de formación, los recursos educativos, y la valoración del curso.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002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PORTUGAL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Proyecto de APROXIMACIÓN A LA VIDA ACTIVA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Dirigido a alumnado de Necesidades Educativas Especiales.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Se desarrolla en 6 centros en El Algarve 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Alumnos 15-16 años. 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Ayuda a terminar la escolarización de alumnos con dificultades para el aprendizaje. 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Aproximación a la vida activa. Se adecúa el nivel, se adapta el currículo, se les facilita el camino. La comunidad se implica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Acceso Web: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rebuchet MS"/>
                <a:hlinkClick r:id="rId8"/>
              </a:rPr>
              <a:t>www.dgidc.min-edu.p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002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ALEMANIA: 2 proyecto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1.- Proyecto educativo Baden-Württemberg: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La Ley impulsa que se trabaje la diversidad en el aula, distinguir los alumnos con diferentes capacidades y trabajarlas según ellas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Se agrupan los alumnos por niveles dentro de la misma clase. Hay 3 niveles diferentes en cada aula. 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Meta: ayudar a todos y que todos aprendan según su capacidad. La comunidad ayuda, también participan profesores y pedagogos. Fuera de horas de clase, por la tarde, hay apoyo a los alumnos. Por la tarde hay alumnos mayores voluntarios que ayudan (reciben un pequeño salario). Intervienen los padre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Hay mesas redondas de debate y apoyo. Profesores ponen en común sus experiencias, conclusiones que tienen a partir de asistir a ponencias, compartir para mejorar. 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Acceso Web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7"/>
              </a:rPr>
              <a:t>www.schule-bw.de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002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ALEMANIA: 2 proyectos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Proyecto 2: </a:t>
            </a:r>
            <a:r>
              <a:rPr b="1" lang="en-GB" sz="1800" spc="-1" strike="noStrike">
                <a:solidFill>
                  <a:srgbClr val="333399"/>
                </a:solidFill>
                <a:latin typeface="Trebuchet MS"/>
              </a:rPr>
              <a:t>Incorporación al Currículum de un grupo de 4 materias optativas en la Enseñanza Secundaria 14- 16 años</a:t>
            </a: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Duración: de 6 a 8 semanas cada materia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Se trabajan proyectos comunes dentro de las aulas. Asignatura 4 horas semanales durante tres años. Se construyen modelos y prototipos.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Dos profesores trabajan juntos. Ciencias Naturales y Tecnología. Física, química, Geografía, Biología se trabajan de manera conjunta en proyectos. Se van combinando proyectos, por ej. Climatología: proyectos al aire libre, etc. 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Durante un año se trabaja un proyecto en un seminario con varios profesores por separado. Cada alumno trabaja un tema específico, hace un trabajo y una exposición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www.nwt-bw.de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RUMANÍA: Colegio Nacional Mihail Sadoveanu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Proyecto: Jornada de puertas abiertas Y DE APOYO A LA ESCUELA 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Estimular la creatividad del alumnado con finalidad práctica.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Ante la falta de recursos, el proyecto persigue el objetivo de generar recursos económicos a la escuela para mejorar las condiciones de trabajo del alumnado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Los alumnos generaron obras y productos de todo tipo, y se organizó una exposición en el centro: obras de arte, muestras de cocina rumana, exposición de fotos, talleres varios…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Se invitó a los padres y a las fuerzas políticas y sociales, y todo el mundo acudió al centro a la jornada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Resultado: se recaudaron 3.000 €uros…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Con el dinero se creó un Gabinete de Recursos MULTIMEDIA en el centro.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Lo mejor: el alumnado gano confianza en sí mismo, se trabajó en equipo y se creó  a partir de esta experiencia el grupo SADOVEANU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Acceso Web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www.edumanager.ro</a:t>
            </a: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;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www.edu.ro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7093080" y="476280"/>
            <a:ext cx="1873080" cy="10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ESPAÑA. CATALUÑA. 2 proyectos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Proyecto 1: Plataforma Moodle de aprendizaje via telemática de la EOI de Girona. Complemento al trabajo del aula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Elaborada y mantenida por el profesorado de la EOI. Cada nivel tiene un Moodle, y cada profe tiene un moodle dentro de cada nivel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Contiene materiales y recursos para la enseñanza y el aprendizaje en red por parte del alumnado y el profesorado de la EOI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Proyecto 2: Trabajos de lectura, group reading. Apoyo del asesor de idiomas, itinerarios de aprendizaje por niveles. Centro de autoaprendizaje. Libro virtual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Asesoramiento profesorado al llegar al centro. Seguimiento de los profesores, observación, programaciones, retroalimentación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Acceso Web: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rebuchet MS"/>
                <a:hlinkClick r:id="rId7"/>
              </a:rPr>
              <a:t>www.eoigirona.com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uario</dc:creator>
  <dc:description/>
  <dc:language>en-US</dc:language>
  <cp:lastModifiedBy>nicanor</cp:lastModifiedBy>
  <dcterms:modified xsi:type="dcterms:W3CDTF">2009-05-07T18:24:59Z</dcterms:modified>
  <cp:revision>14</cp:revision>
  <dc:subject/>
  <dc:title>Diapositiva 1</dc:title>
</cp:coreProperties>
</file>