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D43-5079-495C-ACFF-48A75951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D40-5595-42BA-A3F0-7E2CA598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2EC-7431-40DA-94BE-3B2A306F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20A-D62B-422B-8149-FCDC4C9B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0B2-A411-450D-B256-3767770C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E9C-225C-446B-9BA5-994D3972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F78-95CE-4D73-AD08-0DB3A9D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DD1-BF35-4DEC-9DFD-399554C1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6CE-23FA-4692-A69D-B7F339F8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4DF-03CE-4574-82C0-762C3A7A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1E1-9FC3-4824-AB30-90980E30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5D8-170B-40CE-959B-A71DD8C2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F8AF-36D5-4AF1-B83E-19DE82C14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turelab.org.com/" TargetMode="External"/><Relationship Id="rId2" Type="http://schemas.openxmlformats.org/officeDocument/2006/relationships/hyperlink" Target="http://www.futurelab.org.com/" TargetMode="External"/><Relationship Id="rId3" Type="http://schemas.openxmlformats.org/officeDocument/2006/relationships/hyperlink" Target="http://www.futurelab.org.com/" TargetMode="External"/><Relationship Id="rId4" Type="http://schemas.openxmlformats.org/officeDocument/2006/relationships/hyperlink" Target="http://www.futurelab.org.com/" TargetMode="External"/><Relationship Id="rId5" Type="http://schemas.openxmlformats.org/officeDocument/2006/relationships/hyperlink" Target="http://www.futurelab.org.com/" TargetMode="External"/><Relationship Id="rId6" Type="http://schemas.openxmlformats.org/officeDocument/2006/relationships/hyperlink" Target="http://www.futurelab.org.com/" TargetMode="External"/><Relationship Id="rId7" Type="http://schemas.openxmlformats.org/officeDocument/2006/relationships/hyperlink" Target="http://www.futurelab.org.com/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593640"/>
            <a:ext cx="6553080" cy="557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NNOVACIÓN Y CREATIVIDAD EN LA EDUCACIÓN: Entre el presente no satisfactorio y el futuro ambicioso que hay que constru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1295280"/>
            <a:ext cx="3657600" cy="388620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28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IDAD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2759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ONTEXTU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5334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N CLI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LASE EX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Y CON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36232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RECONOC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VALORAR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00200" y="1066680"/>
            <a:ext cx="2590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2133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éntica: conocimiento y habilidades superiores, resultados y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2004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tar y comprender progres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96252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” la enseñanza y el aprendizaje, no sólo “del” 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5105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luación “de” y “con” los estud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457200"/>
            <a:ext cx="731520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SER, EJERCER Y APRENDER LA PROFESIÓN DO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6002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inguna idea sobre el aprendizaje y la enseñanza escolar será posible sin una idea y desempeño consecuente de la profesión d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971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stellar"/>
                <a:ea typeface="Lucida Sans Unicode"/>
              </a:rPr>
              <a:t>- Asumir que la educación es un derecho, no un mé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86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stellar"/>
                <a:ea typeface="Lucida Sans Unicode"/>
              </a:rPr>
              <a:t>- Sostener altas aspiraciones, con realismo crítico sobre cada alumno y su potencial  de 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stellar"/>
                <a:ea typeface="Lucida Sans Unicode"/>
              </a:rPr>
              <a:t>- acceder  al  conocimiento, comprensión e interpretación, utilización creativa en tareas y contexto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- La profesión se va aprendiendo:  reflexión y crítica, innovación, investigación. Propiciar y atender a la voz de los alumnos es fundamental para ir haciendo mejor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613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- Aprender con los colegas: conversación, proyectos, elaboración de materiales, observación, análisis y valoración de práctica y resultad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7524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- Conciencia de que las relaciones con los estudiantes son decisivas para ellos y para sí mismos: cuidado, responsabilidad, ayuda, interés, respeto mutuo, escucha, atención especial a los más desaventaj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28600" y="0"/>
          <a:ext cx="86868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86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458200" cy="947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ENTROS: De organizaciones burocráticas a comunidades democráticas de aprendizaj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Un lugar donde aprender, no sólo enseñar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OCIMIENT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133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talecer vínculos sociales e intelectuales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743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rendizaje activo y situado: tareas auténticas, diseño fundado, basado en evidencias y éticamente orienta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- Sostener actividades de investigación, renovación pedagógica y evalu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(INVESTIGACION REFLEXIVA Y CRÍ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8458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iempos, normas y compromisos para acometer tareas conjunta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ahoma"/>
              </a:rPr>
              <a:t>(ESTRUCTURAS Y GOBIERNO PERSONALIZADO Y ACOGEDOR DE LOS CENTR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6035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unidades con polifonía de voces, influencias y responsabilidades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INNOVACIÓN COMUNIT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304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BIÉN INNOVACIÓN EN POLÍTICAS SOCIALES Y EDUC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ción, un bien común y público, reclama responsabilidad de poderes púb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aldo efectivo a escuelas públicas, liderazgo en activación de prioridades justas y democrá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r condiciones y urgencias para una innovación  y mejora democrática de y en todos los cen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6483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innovación no depende de estructuras y legislación, sino de cultura, procesos, construcción de conocimiento: eso no se puede decr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52480" y="23623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ONTEXTU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3962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N CLI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LASE EX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Y CON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RECONOC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VALORAR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609480"/>
            <a:ext cx="15238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Conceptos cl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04920"/>
            <a:ext cx="19051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Habilidades sup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752480"/>
            <a:ext cx="1295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Conver-s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04920"/>
            <a:ext cx="18288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1066680"/>
            <a:ext cx="17524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Situaciones auté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1219320"/>
            <a:ext cx="1600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4080"/>
            <a:ext cx="19051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Altas aspi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352680"/>
            <a:ext cx="23623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81480"/>
            <a:ext cx="19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Im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867280"/>
            <a:ext cx="3581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Relaciones de apoyo, 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5334120"/>
            <a:ext cx="25909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Aula, comunidad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581280"/>
            <a:ext cx="19051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6400800"/>
            <a:ext cx="2590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udadanía a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676520"/>
            <a:ext cx="3124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s re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1080" y="1828800"/>
            <a:ext cx="5105520" cy="2895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PENS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CUEL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DUCA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EX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MBIOS PARADÓG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PROBLEM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ogr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33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iales y 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53499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entíficos y Tecn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5410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762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349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íticos e id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1066680"/>
            <a:ext cx="4038840" cy="137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Wide Latin"/>
              </a:rPr>
              <a:t>CONO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3505320"/>
            <a:ext cx="2819520" cy="15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de Latin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3581280"/>
            <a:ext cx="3733560" cy="137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de Latin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de Latin"/>
              </a:rPr>
              <a:t>CREA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514600"/>
            <a:ext cx="3429000" cy="24382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ALO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ÉTI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MOCR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BASTA ACCESO: UNA BUENA EDUCACIÓN COMO DERECHO ESENCIAL DE TODAS LA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0666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FORMACIONES PROFUNDAS EN LO QUE SE VALORA Y ENSEÑA, APRENDIZAJES ESCOLARES, METODOLOGÍAS, RECURSOS Y RELACIONES, EVALU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7432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ÍTICAS Y PRÁCTICAS EFECTIVAS PARA PERSONA-LIZAR LA EDUCACIÓN CON UNA PRIORIDAD: SACAR EL MÁXIMO POSIBLE DE CADA ALUMNO Y LUCHA CONTRA EL FRA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ANZAS POLÍTICAS, SOCIALES Y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578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R Y AMPLIAR EL CONOCIMIENTO DISPON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380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COS PREFERENT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447920"/>
            <a:ext cx="53337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* CURRÍCULO, ENSEÑANZA Y APRENDIZAJE, EVALU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276720"/>
            <a:ext cx="51051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* PROFESIÓN DO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495680"/>
            <a:ext cx="41148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* CENTROS ESCO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784160" y="3092400"/>
            <a:ext cx="4572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Schoolbook"/>
              </a:rPr>
              <a:t>POLÍTICAS SOCIALES Y EDUCATIVAS PÚBL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76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CULTURA Y CONOCIMIENT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685800"/>
            <a:ext cx="662940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a institución “de” y “para” el conocimiento: culturización disciplin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905120"/>
            <a:ext cx="67816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aber organizado, comprensión del mundo, compartir cult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971800"/>
            <a:ext cx="69343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ción, conocimiento y comprensión profunda: menos puede ser más y mej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72388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idos rigurosos, pero con sentido: superar fragmentación, rigidez y buscar integ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5181480"/>
            <a:ext cx="7315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ografías de vida” y relevancia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5867280"/>
            <a:ext cx="73915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idos cognitivos, personales, civismo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304920"/>
            <a:ext cx="7086600" cy="5031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La mayor parte del conocimiento escolar es lo que queremos que los alumnos aprendan, y está bien. Pero puede suceder que no se corresponda con lo que ellos quieren aprender, con sus intereses, ni con lo que valoran como importante” </a:t>
            </a:r>
            <a:r>
              <a:rPr b="1" lang="es-ES" sz="3600" spc="-1" strike="noStrike">
                <a:solidFill>
                  <a:srgbClr val="ffcc00"/>
                </a:solidFill>
                <a:latin typeface="Times New Roman"/>
              </a:rPr>
              <a:t>(Enquiring Min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715000"/>
            <a:ext cx="54100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futurelab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org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om</a:t>
            </a:r>
            <a:r>
              <a:rPr b="1" i="1" lang="es-ES" sz="3200" spc="-1" strike="noStrike">
                <a:solidFill>
                  <a:srgbClr val="003399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71800" y="1981080"/>
            <a:ext cx="2743200" cy="2057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CURR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rendizajes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76320"/>
            <a:ext cx="220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acidades cognitivas superiores, desde la comprensión profunda a la resolución de problemas y 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93704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ABILIDADES PERSONALES Y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cia, fiabilidad, disposición a mejo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bajar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iencia moral y cív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62320" y="1294920"/>
            <a:ext cx="838080" cy="1143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86400" y="837720"/>
            <a:ext cx="1066680" cy="16002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14800"/>
            <a:ext cx="0" cy="7621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152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¿QUÉ SABEMOS SOBRE EL APRENDIZAJE Y EL DESARROLLO DE HABILIDADES COGNITIVAS, PERSONALES Y SOCI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600200"/>
            <a:ext cx="7924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Activo, relevante y significativo, en contexto, situaciones cotidianas y problemas re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66880"/>
            <a:ext cx="7924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Profundo, reflexivo, indagador, autocontrol (aprender a apren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657600"/>
            <a:ext cx="662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Sostenido en el tiempo y en todo el curr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343400"/>
            <a:ext cx="701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Compartido, contrastado, conversación con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029200"/>
            <a:ext cx="662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Valorado, interés, motivador, útil, buen cl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791320"/>
            <a:ext cx="7391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Diverso, tanto por intereses como por capacidades, apoyo personal, flexibilidad, el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1:54:05Z</dcterms:created>
  <dc:creator>Juan Manuel Escudero Muñoz</dc:creator>
  <dc:description/>
  <dc:language>en-US</dc:language>
  <cp:lastModifiedBy>Juan Manuel Escudero Muñoz</cp:lastModifiedBy>
  <dcterms:modified xsi:type="dcterms:W3CDTF">2009-05-03T08:39:51Z</dcterms:modified>
  <cp:revision>9</cp:revision>
  <dc:subject/>
  <dc:title>Presentación de PowerPoint</dc:title>
</cp:coreProperties>
</file>