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8C00-A21A-4F69-A0E7-545FEFB41B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A9DA-6F69-486B-AC76-5C4D40BA8216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EC0F-01EA-4FA1-B17D-B36D781B5F67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4912-0F11-491B-AEC8-62F8CAB8780C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F1FE-20F8-4413-A438-FF94E6C14933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A4AC-8A54-4EE3-8C71-EFAC3A1E2839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5A5F-5D67-4DE2-9438-1DD727AD6B64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6C8D-985F-4CCF-9304-73744B4F5B25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009B-3096-4368-BF09-30D6EE98F03B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BD05-A5C9-4890-8EFC-F755CE390AED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E17F-3B84-44FB-BFF8-B633598A4BDA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C6D9-1A92-4F4D-B143-DB7911288A23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FD62-11B5-4B6D-9E6E-FD0380C7FD62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C0EC-3A02-484A-89D3-285A981CFCF8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144F-0008-462D-B0CE-AFB28CD4056F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5432-2B00-4B85-9738-EE13212C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A241-BCD8-42D7-A891-62FE1A26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949F-6F6D-437B-91D5-92282A1D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FEE6-9254-42D7-A276-2C18F40A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EB2F-C56C-42E5-9595-78160925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30D0-EAB1-455D-8504-8A81C2F9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6B82-6498-4DC7-BCB7-82478127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8113-AE22-48A2-9BCF-59DFEE55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CF3C-2788-4CEE-9A39-1361E8E3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FAEC-4306-4FDA-8B19-83C97255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F44F-EBA1-4CA5-B510-F62D897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DF50-7FE0-48B6-850D-F4740E30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A380-BBDA-44B6-AA0A-75AA3EE4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3078-49E5-42C3-AF13-B0CA7EA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4E65-77F3-4EF9-A153-CB24AD5E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C33-C3CA-418B-BDF4-6D6EDDCF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FA89-AE10-45E8-B762-55547EEB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51C5-0421-4A21-91B5-47F1DB7A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F57B-A2AA-41CC-B78A-6E3A322C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2353-EC9C-4E17-A44E-9761E8E6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FBB9-2C01-4FE1-A18C-1CAC95B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08E6-19ED-4DEF-827A-755497FF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06F3-40C9-474C-ABBD-E11DF660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BF0E4-432E-4BA6-9EB1-D69403B4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6876-4FA0-4C42-90E1-44053C4C794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9278-B81E-4F44-BCB0-E980589C3608}" type="slidenum">
              <a:rPr b="0" lang="es-E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ading.org/" TargetMode="External"/><Relationship Id="rId3" Type="http://schemas.openxmlformats.org/officeDocument/2006/relationships/hyperlink" Target="http://www.asociacionaele.org/" TargetMode="External"/><Relationship Id="rId4" Type="http://schemas.openxmlformats.org/officeDocument/2006/relationships/hyperlink" Target="http://www.asociacionaele.org/" TargetMode="External"/><Relationship Id="rId5" Type="http://schemas.openxmlformats.org/officeDocument/2006/relationships/hyperlink" Target="http://www.asociacionaele.org/" TargetMode="External"/><Relationship Id="rId6" Type="http://schemas.openxmlformats.org/officeDocument/2006/relationships/hyperlink" Target="mailto:aele@asociacionaele.org" TargetMode="External"/><Relationship Id="rId7" Type="http://schemas.openxmlformats.org/officeDocument/2006/relationships/hyperlink" Target="mailto:aele@asociacionaele.org" TargetMode="External"/><Relationship Id="rId8" Type="http://schemas.openxmlformats.org/officeDocument/2006/relationships/hyperlink" Target="mailto:aele@asociacionaele.org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584360" cy="1036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771640" y="5084640"/>
            <a:ext cx="619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CREATIVIDAD E INNOVACIÓN: RETOS DE FUTURO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EMINARIO INTERNACION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CONSEJO DE EUROP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an Sebastián – 4 al 8 mayo 2009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195640" y="1989000"/>
            <a:ext cx="69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SA REDONDA: LA INNOVACIÓN EN LA COMPETENCIA EN COMUNICACIÓN LINGÜÍSTIC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348000" y="3068640"/>
            <a:ext cx="561672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la D´Angelo Menéndez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sociación Española de Lectura y Escritura – AEL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versidad Complutense de Madrid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17040"/>
            <a:ext cx="8186760" cy="17398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tanto, la AELE decide unirse a las acciones  socio-pedagógicas de su tiempo desarrolland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GRA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asuma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NCIPIOS INNOVADORES, entre ellos…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4144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el incremento de las prácticas del lenguaje en la dinámica del contexto escolar, fundamentalmente, las de escritura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8360" y="3571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Calibri"/>
              </a:rPr>
              <a:t>el desarrollo de comunidades de lectores y de escritores en el contexto escolar, y en interacción con otras instituciones socio-educativa-culturales; 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68360" y="5084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Calibri"/>
              </a:rPr>
              <a:t>el abordaje de los contenidos lingüísticos sobre la base de una enriquecida experiencia en el uso social del  lenguaje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ROGRAMAS QUE DESARROLLA LA AE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 MARCO: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Red de Ciudades y Pueblos Lectores y Escritores – Red CPLE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S EDUCATIVO-CULTURALES QUE OFRECE A LA COMUNIDAD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xposición de poemas fotografiados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“Un poema, una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imagen y tu mirada”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xposición Iberoamericana de poemas fotografiados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“Con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ojos y voz de mujer”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Campaña audiovisual por el acercamiento al mundo de la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lectura y la escritura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“Si no leer, no pasa nada…¡Deja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que te pasen cosas!”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4360" y="1412640"/>
            <a:ext cx="8748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S EDUCATIVO-CULTURALES QUE OFRECE A LA COMUNIDAD (continuación)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Organización de prácticas de escritura y lectura destinadas a la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población infantil y juvenil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Acompañamiento específico a los proyectos de la Red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CPLE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Página web dedicada a los niños (www.dioperico.com)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GRAMAS QUE DESARROLLA LA AE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44360" y="4149720"/>
            <a:ext cx="8604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S DE FORMACIÓN PROFESIONAL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  Formación permanente de los profesionales de la educación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  Formación de mediadores culturales para la lectura y la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scritura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  Participación y asesoramiento en distintos foros sociales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980720"/>
            <a:ext cx="8820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RED DE CIUDADES Y PUEBLOS LECTORES Y ESCRITORES – RED CP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EXPOSICIÓN DE POEMAS FOTOGRAFIADO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- “Un poema, una imagen y tu mirada” (1ª versión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- “Con ojos y voz de mujer” (2ª versión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AMPAÑA POR EL ACERCAMIENTO AL MUNDO DE LA LECTURA Y LA ESCRITURA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. “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Si no lees, no pasa nada…¡Deja que te pasen cosas!”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8668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PROXIMACIÓN A ALGUNO DE SUS PROGRAMAS…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4788000" y="2349360"/>
            <a:ext cx="3960720" cy="3384720"/>
            <a:chOff x="4788000" y="2349360"/>
            <a:chExt cx="3960720" cy="3384720"/>
          </a:xfrm>
        </p:grpSpPr>
        <p:sp>
          <p:nvSpPr>
            <p:cNvPr id="159" name="AutoShape 6"/>
            <p:cNvSpPr/>
            <p:nvPr/>
          </p:nvSpPr>
          <p:spPr>
            <a:xfrm>
              <a:off x="4788000" y="234936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8244000" y="364500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6732720" y="39337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8101080" y="53737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IUDADES Y PUEBLOS LECTORES Y ESCRITORES –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ED CP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4" name="Picture 5" descr="http://asociacionaele.org/aele/images/logos%20de%20la%20red%20cple.jpg"/>
          <p:cNvPicPr/>
          <p:nvPr/>
        </p:nvPicPr>
        <p:blipFill>
          <a:blip r:embed="rId1"/>
          <a:stretch/>
        </p:blipFill>
        <p:spPr>
          <a:xfrm>
            <a:off x="2050920" y="1916280"/>
            <a:ext cx="50421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79280" y="3429000"/>
            <a:ext cx="8964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Actuaciones en Red entre lectores y escritores en las Comunidades Autónomas españolas, en íntima relación con el Proyecto Ciudades Lectoras –CLs- que se desarrolla en América Latina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 Creación de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UTAS LECTORAS Y ESCRITORAS (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intra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 e 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inter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 ciudades y pueblos)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1) … en un centro educativo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2) … entre varios centros educativo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3) … entre centros educativos y la biblioteca de la zona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4) … entre las distintas instituciones social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- www.asociacionaele.org/red-cple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POSICIÓN DE POEMAS FOTOGRAFIAD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UN POEMA, UNA IMAGEN Y TU MIRADA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50920" y="440532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Contribuir, a través de un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paseo intertextual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de la mano de distintos lenguajes, a la formación de niños y jóvenes lectores y escritores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177840" indent="-177840" algn="just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Estimular la práctica de la lectura y la escritura en todas las edades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, el acercamiento al mundo de la poesía y de la fotografía, la creación literaria y la participación en escenarios atractivos para leer y escribir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8" name="Picture 5" descr="http://asociacionaele.org/aele/images/portada%20expo.jpg"/>
          <p:cNvPicPr/>
          <p:nvPr/>
        </p:nvPicPr>
        <p:blipFill>
          <a:blip r:embed="rId1"/>
          <a:stretch/>
        </p:blipFill>
        <p:spPr>
          <a:xfrm>
            <a:off x="3780000" y="2060640"/>
            <a:ext cx="1514160" cy="2089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395280" y="3824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POSICIÓN IBEROAMERICANA DE POEMAS Y FOTOGRAFÍA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CON OJOS Y VOZ DE MUJER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964040" cy="1438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250920" y="3860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 La AELE, junto a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instituciones de otros 10 países iberoamericanos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Argentina, Bolivia, Costa Rica, Guatemala, México, Nicaragua, Panamá, Perú, Portugal y Uruguay-,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ha generado esta Exposición con el objetivo de promover prácticas de lectura y de escritura en las generaciones más jóven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522936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 La Exposición viaja por distintas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utas lectoras y escritoras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on la intención de encontrar las voces de la infancia y la adolescencia e invitarlas a compartir sus palabras en la trama inagotable de los distintos lenguaj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351640" cy="15127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PAÑA POR EL ACERCAMIENTO AL MUNDO DE LA LECTURA Y LA ESCRITURA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i no lees, no pasa nada…¡Deja que te pasen cosas!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5" name="Picture 4" descr="http://www.asociacionaele.org/aele/images/invitacion.jpg"/>
          <p:cNvPicPr/>
          <p:nvPr/>
        </p:nvPicPr>
        <p:blipFill>
          <a:blip r:embed="rId1"/>
          <a:stretch/>
        </p:blipFill>
        <p:spPr>
          <a:xfrm>
            <a:off x="2916360" y="2276640"/>
            <a:ext cx="3600360" cy="1680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95280" y="429264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ápsulas de video con los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testimonios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de personas del mundo del cine, el deporte, la televisión, la radio, la música, la política, el teatro, la cultura, la justicia… de nuestra sociedad, invitadas a compartir algún momento memorable de lectura o de escritura que, de alguna forma, han influenciado su construcción de la realidad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 rot="5400000">
            <a:off x="1223280" y="5625360"/>
            <a:ext cx="504720" cy="1008000"/>
          </a:xfrm>
          <a:prstGeom prst="pie">
            <a:avLst/>
          </a:prstGeom>
          <a:gradFill rotWithShape="0">
            <a:gsLst>
              <a:gs pos="0">
                <a:srgbClr val="336600"/>
              </a:gs>
              <a:gs pos="100000">
                <a:srgbClr val="99cc00"/>
              </a:gs>
            </a:gsLst>
            <a:lin ang="162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340000" y="60148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Desarrollo de talleres de lectura y escritura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Muchas gracias por la atenció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aele@asociacionaele.org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780000" y="3141720"/>
            <a:ext cx="158400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OCIACIÓN ESPAÑOLA DE LECTURA Y ESCRITUR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1368360" cy="895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68360" y="2924280"/>
            <a:ext cx="8136000" cy="23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- Filial Nacional de la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RA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, Asociación Internacional de Lectura (</a:t>
            </a:r>
            <a:r>
              <a:rPr b="0" lang="es-ES" sz="2000" spc="-1" strike="noStrike" u="sng">
                <a:solidFill>
                  <a:srgbClr val="333300"/>
                </a:solidFill>
                <a:uFillTx/>
                <a:latin typeface="Arial"/>
                <a:hlinkClick r:id="rId2"/>
              </a:rPr>
              <a:t>www.reading.org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Miembro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DEC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, Comité Europeo de la Asociación Internacional de Lectura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Socia fundadora de la Federación de Asociaciones Europeas de Lectura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(FELA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8360" y="5445000"/>
            <a:ext cx="5976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00"/>
                </a:solidFill>
                <a:latin typeface="Arial"/>
              </a:rPr>
              <a:t>DATOS DE CONTACTO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Página </a:t>
            </a:r>
            <a:r>
              <a:rPr b="0" i="1" lang="es-ES" sz="1800" spc="-1" strike="noStrike">
                <a:solidFill>
                  <a:srgbClr val="003300"/>
                </a:solidFill>
                <a:latin typeface="Arial"/>
              </a:rPr>
              <a:t>web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3"/>
              </a:rPr>
              <a:t>www.asociacion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4"/>
              </a:rPr>
              <a:t>aele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5"/>
              </a:rPr>
              <a:t>.org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orreo electrónico: 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6"/>
              </a:rPr>
              <a:t>aele@asociacion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7"/>
              </a:rPr>
              <a:t>aele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8"/>
              </a:rPr>
              <a:t>.org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20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La Asociación Española de Lectura y Escritura (AELE)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retroalimenta sus programas de actuación estableciendo interrelación entre sus estudios de campo y los desarrollados por el </a:t>
            </a: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Grupo de Investigación “Fracaso escolar y competencias comunicativas” (UCM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451640" y="522360"/>
            <a:ext cx="1297080" cy="84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2341080"/>
            <a:ext cx="84358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Es difícil ser competente en el uso de un lenguaje sin participar en auténticas prácticas de lectura, de escritura y de conversación en dicho lenguaj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68360" y="620640"/>
            <a:ext cx="8424720" cy="1557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e proceso de intercambio, ha surgido una amplia gama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DEAS-EJ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han retroalimentado 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GRAMA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actuación de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E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la población infantil y juvenil, entre ellas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11280" y="4437000"/>
            <a:ext cx="8281800" cy="1947960"/>
            <a:chOff x="611280" y="4437000"/>
            <a:chExt cx="8281800" cy="1947960"/>
          </a:xfrm>
        </p:grpSpPr>
        <p:sp>
          <p:nvSpPr>
            <p:cNvPr id="126" name="Text Box 6"/>
            <p:cNvSpPr/>
            <p:nvPr/>
          </p:nvSpPr>
          <p:spPr>
            <a:xfrm>
              <a:off x="611280" y="5559480"/>
              <a:ext cx="828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s aulas, ¿se organizan estas prácticas en cantidad y variedad suficiente?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 rot="5400000">
              <a:off x="4211280" y="4581360"/>
              <a:ext cx="1081080" cy="79236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La planificación enunciativa de un texto supone definir  la responsabilidad de quien enuncia en distintos aspectos del lenguaje. De modo que,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enfrentarse a la producción escrita con autonomía incrementa la curiosidad por indagar en el lenguaje escrito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(incluso, es un camino hacia la lectura, a la que tanto se convoca independientemente de la práctica de la escritura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826920" y="4221000"/>
            <a:ext cx="7921800" cy="2194200"/>
            <a:chOff x="826920" y="4221000"/>
            <a:chExt cx="7921800" cy="2194200"/>
          </a:xfrm>
        </p:grpSpPr>
        <p:sp>
          <p:nvSpPr>
            <p:cNvPr id="130" name="Text Box 4"/>
            <p:cNvSpPr/>
            <p:nvPr/>
          </p:nvSpPr>
          <p:spPr>
            <a:xfrm>
              <a:off x="826920" y="5589720"/>
              <a:ext cx="792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s aulas, ¿se organizan suficientes propuestas de escritura en contextos comunicativos?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1" name="AutoShape 5"/>
            <p:cNvSpPr/>
            <p:nvPr/>
          </p:nvSpPr>
          <p:spPr>
            <a:xfrm rot="5400000">
              <a:off x="4211280" y="4365360"/>
              <a:ext cx="1081080" cy="79236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El reconocimiento docente de las propias zonas de “analfabetismo”, propicia la identificación de la complejidad que implica aprender un lenguaje (en tiempos, situaciones, géneros textuales, etc.).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El papel del error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1042920" y="4005360"/>
            <a:ext cx="6985080" cy="2193840"/>
            <a:chOff x="1042920" y="4005360"/>
            <a:chExt cx="6985080" cy="2193840"/>
          </a:xfrm>
        </p:grpSpPr>
        <p:sp>
          <p:nvSpPr>
            <p:cNvPr id="134" name="Text Box 4"/>
            <p:cNvSpPr/>
            <p:nvPr/>
          </p:nvSpPr>
          <p:spPr>
            <a:xfrm>
              <a:off x="1042920" y="5373720"/>
              <a:ext cx="698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¿Qué papel juega el error en los procesos de aprendizaje del lenguaje escrito?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 rot="5400000">
              <a:off x="3995640" y="4149720"/>
              <a:ext cx="1081080" cy="79200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Las distintas normas lingüísticas se comprenden e internalizan si se asientan en experiencias comunicativas (orden de la pragmática). </a:t>
            </a: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El papel de las trasposiciones didácticas: experiencia, conocimiento y conceptualización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468360" y="4292640"/>
            <a:ext cx="8351640" cy="2049480"/>
            <a:chOff x="468360" y="4292640"/>
            <a:chExt cx="8351640" cy="2049480"/>
          </a:xfrm>
        </p:grpSpPr>
        <p:sp>
          <p:nvSpPr>
            <p:cNvPr id="138" name="Text Box 4"/>
            <p:cNvSpPr/>
            <p:nvPr/>
          </p:nvSpPr>
          <p:spPr>
            <a:xfrm>
              <a:off x="468360" y="5516640"/>
              <a:ext cx="835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s aulas, ¿cómo se realiza la trasposición didáctica entre objeto de conocimiento y objeto de enseñanza?</a:t>
              </a:r>
              <a:r>
                <a:rPr b="0" lang="es-E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9" name="AutoShape 5"/>
            <p:cNvSpPr/>
            <p:nvPr/>
          </p:nvSpPr>
          <p:spPr>
            <a:xfrm rot="5400000">
              <a:off x="4140000" y="4437000"/>
              <a:ext cx="1081080" cy="79200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tecnología de la escritura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ocupar un lugar importante en el aprendizaje del lenguaje. No, un lugar prioritario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971640" y="3429000"/>
            <a:ext cx="7272360" cy="2265480"/>
            <a:chOff x="971640" y="3429000"/>
            <a:chExt cx="7272360" cy="2265480"/>
          </a:xfrm>
        </p:grpSpPr>
        <p:sp>
          <p:nvSpPr>
            <p:cNvPr id="142" name="Text Box 4"/>
            <p:cNvSpPr/>
            <p:nvPr/>
          </p:nvSpPr>
          <p:spPr>
            <a:xfrm>
              <a:off x="971640" y="4869000"/>
              <a:ext cx="727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 enseñanza del lenguaje escrito, ¿qué papel tiene asignada esta tecnología? 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 rot="5400000">
              <a:off x="3995640" y="3573360"/>
              <a:ext cx="1081080" cy="79200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29680" cy="5472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ESTIONES TODAS que no PROPICIAN la INCLUSIÓN de un ALUMNADO DIVERSO…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De qué tipo de DIVERSIDAD hablamos?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¡¡NECESIDAD de INNOVAR!!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UNTO DE MIRA: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desarrollo de COMPETENCIAS en COMUNICACIÓN LINGÜÍSTICA desde la perspectiva de la INCLUSIÓN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4:24:23Z</dcterms:created>
  <dc:creator>aele</dc:creator>
  <dc:description/>
  <dc:language>en-US</dc:language>
  <cp:lastModifiedBy>ESTELA DANGELO</cp:lastModifiedBy>
  <dcterms:modified xsi:type="dcterms:W3CDTF">2009-05-05T05:26:49Z</dcterms:modified>
  <cp:revision>40</cp:revision>
  <dc:subject/>
  <dc:title>Diapositiva 1</dc:title>
</cp:coreProperties>
</file>