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C1D-BC41-4185-83EC-7A2D5869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3F8-FE10-43B4-ADE0-77CBDAFE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A8A-B299-442F-89DF-4867C25A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0BF-72E4-46FB-8C54-EA3CDCA5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3317-2105-49A6-91CB-726E5F3C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A990-5DE4-45C8-8566-5A33F016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32E2-A4BE-4B0D-9DF4-8782AE60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BAE8-2778-4B89-BE66-47E798D5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8332-6305-406E-89A0-668FEC91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3C80-DCF6-4D65-A9B8-D54BD537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D4CE-0E7A-4DFC-A1C2-435CC20E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081-C4A5-46E2-8CC1-8624007D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F074-E97E-4742-88C0-9DD2321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7210-FFA6-4EB8-862F-CCE75626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CCED-484F-4275-846B-F27376D8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62A4-CECE-4CE0-8E7F-7881F769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8B82-025D-4503-B0A4-ECC3E46D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B1C12-64F9-4BD6-B3BF-10952F4A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C752A-E4DC-4C32-8549-777AB6E3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7CF7E-40FF-46F3-BC33-F9423BD0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A2D25-0244-4FCE-B770-9D7F178C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CCFCD-3CC5-4FC5-9628-4093AD4F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DE9-956F-4215-8E00-97ABA650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2D239D-344F-4C84-9FC6-B9BB2C79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217D8-1C42-4C1A-B4D2-7C22E34B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C4DFA-8105-4D15-AC8B-4A0CABDE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2D33C-8630-4706-ABC7-43118D9A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B9063-45C9-4363-9BC7-23C83218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F743E-5653-4733-A72C-67E237B9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B16CB-272D-41A7-A2A3-E0A09D15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83FCB-3C7B-41D9-A34F-0141EB35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66279-37E1-483E-8193-6EBC9724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8CCE7-6712-44D3-9F9C-46043F3D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BBCB-8EA3-43FF-B8E2-ACCFB8F3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09FC4-8D40-48CF-BEEC-43D426D4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622FD-C6F5-48F7-80D5-81706CAA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F3DAF-3A63-4D27-AADB-8B91B758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F1381-629A-403D-A341-7FF5D9EF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CD2B8-37DE-496E-93BA-C6A67CA9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2AEE8-D71E-4923-B650-2102C6EC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DA451-C289-41AD-9C1B-D9816B2D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54162-215C-40FF-B168-C60A0237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B6023-4811-444A-8A4D-26B46909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E9467-920B-488A-AC39-ADC4BDA2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94E-E196-4E5E-AC20-646E2C3A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73084-A7DE-4D5F-90AD-FE2918EA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3B52A3-1EA6-4F7D-B07A-D6551536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5E7F1-B7D3-408A-95F0-1BD1970E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3F167-3387-4FCC-9BE1-EA8EA0F9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245F03-7327-41E0-9D4D-086EAA3C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E1126-C029-494B-A971-D58F875D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2D4234-9FA0-4567-936D-B12310B3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E3180-627D-4DE4-B437-B7CB093C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AB241-1FAF-4C85-9488-AEFAC225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C160D-B4D4-4CB1-A649-0A1C92FF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DBB-ED3D-4272-B9CC-D44A2C71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2C398-A885-459B-9CE8-DC91BB68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7ED7D-71C0-4BBA-9386-7DE2D6DE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DE76A7-C21A-483F-A6F2-DF660B0D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E00E0-B9A9-4B00-B3D6-03D2B148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5609AD-21BA-4091-B4D9-8509130D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CFDFF-EEB8-4DAA-8234-848FE692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22005-8AC8-4157-A679-CA62F04A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53B9A-0B6B-4089-8C57-8437A4C2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E693D-9531-4383-A4A1-B4F95500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AC6DA-7EB9-4C7C-8D81-1D497757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A56-9ABF-4188-856E-6B56468D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668C5-47BB-4638-B511-5233AA45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64DA9-862A-4765-9C78-7091CEF4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57E19D-25BF-4A60-AAE2-146D2872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4FD78-511F-4184-ADE0-56A5884D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3F9EC-CD76-401C-A7C7-E8A13893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F4E777-C436-4A9B-BF03-B1C57887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4DFCA-F2DC-4913-92BB-12448525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A6B5E-3B02-4C54-B098-5FDAB96C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A00056-F9BA-470E-A0D7-6BEBAF46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AF89A8-21D7-4CFE-AE8F-42E5D2CB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BA5-0A8B-4474-9073-F241FEB1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CBEAC-0F49-4D61-9E49-090FB939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F3FB5F-FDF8-4333-A86B-761FCAF1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C82CA6-38F1-45CB-937B-EF23A159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BDAD5-6E56-48B7-8319-ADC218C4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940DE9-0E5C-435C-BF50-3A9A853B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B54-0E75-4155-881D-48F39008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5BAB-363F-4F4D-89CF-6A3B4AFC359E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11A1-9C6F-4461-8FF1-0936DA48F6CC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E7EE-C081-4AED-953B-7BC282593D08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1CD4-C140-48FB-8DC0-826DAA1114C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3B32-A5A0-43B8-BF3C-BD98D9A5A4F7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1B6A-DD90-4259-85FF-314AF3ECC1F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A8B8-F798-4DA2-919A-16CD1F41C188}" type="datetime"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508E-E646-4300-A69D-58FD1B6F3B7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A26D-538C-49A8-988B-59117141847C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E51D-0485-4742-AF26-074B3175DB1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9217-A3EF-4A75-BA1C-07410F25A0BC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070D-E4CD-4192-AD6C-42BC90EFCEF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7BC1-9AA3-4FF6-A8C1-AACD67784A17}" type="datetime"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8665-DF4F-4749-83F9-6C15A4855D2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INNOVACIÓN DIDÁCTICA Y CAMBIOS EDUCATIVOS EN ESPAÑA. </a:t>
            </a:r>
            <a:br>
              <a:rPr sz="3000"/>
            </a:br>
            <a:r>
              <a:rPr b="1" lang="es-ES_tradnl" sz="3000" spc="-1" strike="noStrike">
                <a:solidFill>
                  <a:srgbClr val="575f6d"/>
                </a:solidFill>
                <a:latin typeface="Century Schoolbook"/>
              </a:rPr>
              <a:t>EL PROYECTO GEA-CLÍO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714480" y="4714920"/>
            <a:ext cx="38574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ristina Sapiñ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San Sebastián 200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4EA6-DE37-4946-969B-AA4267CC69C4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6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75f6d"/>
                </a:solidFill>
                <a:latin typeface="Century Schoolbook"/>
              </a:rPr>
              <a:t>4.-LOS CONDICIONANTES LEGALES: LOGSE, LOCE, LOE (2000-05)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ifundir el proyecto entre otros profeso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adaptarse a las normativas leg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Fue el germen de los cuatro libros (en sus ediciones en castellano y valenciano) de Ciencias Sociales, geografía e historia que se editan por Nau Llibres a partir de 2002 y fueron sometidos a su revisión y nueva edición en el año 2005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252A-AE1F-471A-825B-5D0342634052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F656-929B-4564-9DA3-FC0C28746A17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portada llibre nau 1 sense ed"/>
          <p:cNvPicPr/>
          <p:nvPr/>
        </p:nvPicPr>
        <p:blipFill>
          <a:blip r:embed="rId1"/>
          <a:stretch/>
        </p:blipFill>
        <p:spPr>
          <a:xfrm>
            <a:off x="428760" y="214200"/>
            <a:ext cx="2428920" cy="3048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portada llibre nau sense ed2"/>
          <p:cNvPicPr/>
          <p:nvPr/>
        </p:nvPicPr>
        <p:blipFill>
          <a:blip r:embed="rId2"/>
          <a:stretch/>
        </p:blipFill>
        <p:spPr>
          <a:xfrm>
            <a:off x="3214800" y="214200"/>
            <a:ext cx="2428920" cy="3048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portada nau 3 sense ed"/>
          <p:cNvPicPr/>
          <p:nvPr/>
        </p:nvPicPr>
        <p:blipFill>
          <a:blip r:embed="rId3"/>
          <a:stretch/>
        </p:blipFill>
        <p:spPr>
          <a:xfrm>
            <a:off x="5857920" y="214200"/>
            <a:ext cx="2357280" cy="28558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Gea8"/>
          <p:cNvPicPr/>
          <p:nvPr/>
        </p:nvPicPr>
        <p:blipFill>
          <a:blip r:embed="rId4"/>
          <a:stretch/>
        </p:blipFill>
        <p:spPr>
          <a:xfrm>
            <a:off x="5143680" y="3500280"/>
            <a:ext cx="2674800" cy="31435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Gea9"/>
          <p:cNvPicPr/>
          <p:nvPr/>
        </p:nvPicPr>
        <p:blipFill>
          <a:blip r:embed="rId5"/>
          <a:stretch/>
        </p:blipFill>
        <p:spPr>
          <a:xfrm>
            <a:off x="1500120" y="3286080"/>
            <a:ext cx="3463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" sz="3200" spc="-1" strike="noStrike">
                <a:solidFill>
                  <a:srgbClr val="575f6d"/>
                </a:solidFill>
                <a:latin typeface="Century Schoolbook"/>
              </a:rPr>
              <a:t>5.- LA SITUACIÓN ACTUAL: EL ESPACIO PÚBLICO Y LA REVISIÓN DE LOS MATERIAL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ormación del profesor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ctividades de difusión cul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ctividades con FAP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euniones mensuales de los integrantes del gru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AAB6-7D80-4541-8F2E-CF9E296365AB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LOS DIFICULTADES DE LA INNOVACIÓN EN LOS MATERIA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1.-Los materiales se hacen pensando en un contexto. ¿Es posible generalizarl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2.-Los materiales implican un cambio de cultura docente ¿Formación en re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3.-Los materiales se difunden con trabas en el mercado ¿Institucion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4.-Los materiales deben ser evaluados constantemente ¿Reeditarl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6FD0-B3CD-4C8C-A66E-E65452207873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1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7570-7A89-4B36-8204-858A096C37DE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2 Rectángulo"/>
          <p:cNvSpPr/>
          <p:nvPr/>
        </p:nvSpPr>
        <p:spPr>
          <a:xfrm>
            <a:off x="1071720" y="1714680"/>
            <a:ext cx="6929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tilidad del saber social para comprender el mundo en que viv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acilitar el aprendizaje de las personas desde estrategias de enseñanza vál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r la actitud de autonomía responsable del profes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3 CuadroTexto"/>
          <p:cNvSpPr/>
          <p:nvPr/>
        </p:nvSpPr>
        <p:spPr>
          <a:xfrm>
            <a:off x="1799640" y="928800"/>
            <a:ext cx="48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es principios bás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414752"/>
                </a:solidFill>
                <a:latin typeface="Century Schoolbook"/>
              </a:rPr>
              <a:t>ORIGEN Y EVOLUCIÓN DEL GRUPO GEA-CLÍ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Una hipótesis inicial: 1985-1990. Los principios básicos del proyec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formación de personas y grupos: 1991-1994. El apoyo de los CE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construcción de un proyecto editorial (1995-2000): La Na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debate sobre los condicionantes legales: LOGSE, LOCE, LOE (2000-05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situación actual: el espacio público y la revisión de los materiales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C1BD-077B-4416-9770-39D40F5A5045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75f6d"/>
                </a:solidFill>
                <a:latin typeface="Century Schoolbook"/>
              </a:rPr>
              <a:t>LAS TESIS QUE APOYAN LA CONCEPCIÓN DE GEA-CLÍO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9284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a)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Los grupos de trabajo pueden experimentar y reflexionar en relación con las unidades didáctica siempre que exista </a:t>
            </a: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un soporte de proyecto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b)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Las difusiones de las innovaciones didácticas son </a:t>
            </a: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interpersonales e informales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. Se necesita adaptar los principios genéricos a los contextos de cada centro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c)Los proyectos curriculares determinan un modelo de formación del profesorado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y el papel de éste como agente social en la educación de las persona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d)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n un proyecto innovador para la autonomía intelectual es preciso contar con las </a:t>
            </a: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ideas cotidianas de los alumnos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. Conocer éstas es un reto de investigació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e)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La cultura de los grupos de trabajo permite evaluar los proyectos y abordar </a:t>
            </a: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problemas relevante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dentro del marco escolar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0340-6C68-40AE-84B4-E09854A8A590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57760" y="1643040"/>
            <a:ext cx="48290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575f6d"/>
                </a:solidFill>
                <a:latin typeface="Century Schoolbook"/>
              </a:rPr>
              <a:t>- CONFECCIÓN DE MATERIALES DIDÁCTICOS</a:t>
            </a:r>
            <a:br>
              <a:rPr sz="2500"/>
            </a:br>
            <a:br>
              <a:rPr sz="2500"/>
            </a:br>
            <a:r>
              <a:rPr b="0" lang="es-ES" sz="2500" spc="-1" strike="noStrike">
                <a:solidFill>
                  <a:srgbClr val="575f6d"/>
                </a:solidFill>
                <a:latin typeface="Century Schoolbook"/>
              </a:rPr>
              <a:t>- INCORPORAN PROBLEMAS SOCIALES RELEVANTES DEL PRESENTE                          </a:t>
            </a:r>
            <a:br>
              <a:rPr sz="2500"/>
            </a:br>
            <a:br>
              <a:rPr sz="2500"/>
            </a:br>
            <a:r>
              <a:rPr b="0" lang="es-ES" sz="2500" spc="-1" strike="noStrike">
                <a:solidFill>
                  <a:srgbClr val="575f6d"/>
                </a:solidFill>
                <a:latin typeface="Century Schoolbook"/>
              </a:rPr>
              <a:t>- ANALIZADOS DESDE LA PERSPECTIVA DISCIPLINAR DE LA GEOGRAFÍA</a:t>
            </a:r>
            <a:br>
              <a:rPr sz="2500"/>
            </a:br>
            <a:br>
              <a:rPr sz="2500"/>
            </a:br>
            <a:r>
              <a:rPr b="0" lang="es-ES" sz="2500" spc="-1" strike="noStrike">
                <a:solidFill>
                  <a:srgbClr val="575f6d"/>
                </a:solidFill>
                <a:latin typeface="Century Schoolbook"/>
              </a:rPr>
              <a:t>- ORGANIZADOS EN TORNO AL CONSTRUCTIVISMO COMO METODOLOGÍA DE TRABAJO EN EL AULA.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Picture 4" descr="gea2"/>
          <p:cNvPicPr/>
          <p:nvPr/>
        </p:nvPicPr>
        <p:blipFill>
          <a:blip r:embed="rId1"/>
          <a:stretch/>
        </p:blipFill>
        <p:spPr>
          <a:xfrm>
            <a:off x="571680" y="1643040"/>
            <a:ext cx="2828880" cy="4357800"/>
          </a:xfrm>
          <a:prstGeom prst="rect">
            <a:avLst/>
          </a:prstGeom>
          <a:ln w="0">
            <a:noFill/>
          </a:ln>
        </p:spPr>
      </p:pic>
      <p:sp>
        <p:nvSpPr>
          <p:cNvPr id="362" name="6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5E2C-BC52-4AD1-A0DA-E61F4A54154D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1 Título"/>
          <p:cNvSpPr/>
          <p:nvPr/>
        </p:nvSpPr>
        <p:spPr>
          <a:xfrm>
            <a:off x="500040" y="285840"/>
            <a:ext cx="81867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entury Schoolbook"/>
              </a:rPr>
              <a:t>1.- Una hipótesis inicial: 1985-1990. Los principios básicos del proyec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2900" spc="-1" strike="noStrike">
                <a:solidFill>
                  <a:srgbClr val="575f6d"/>
                </a:solidFill>
                <a:latin typeface="Century Schoolbook"/>
              </a:rPr>
              <a:t>2.- LA FORMACIÓN DE PERSONAS Y GRUPOS: 1991-1994. EL APOYO DE LOS CEPS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solidación del gru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áxima difusión a través de Jornadas, cursos de formación en diferentes lugares de España, encuentro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reación de grupos en Alicante, Segorbe, Vigo, Santia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laboración con la Universidad de Valencia  y en otras universidades, especialmente en Lisbo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aboración de un proyecto de investigación e innovación en 1995, subvencionado por el CIDE ( 13 asesorías del CEP de Valencia y 113 personas organizadas en catorce equipos de trabajo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5ED9-AB6C-4F0A-9DFA-A7EA12AAC3EF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75f6d"/>
                </a:solidFill>
                <a:latin typeface="Century Schoolbook"/>
              </a:rPr>
              <a:t>3.- LA CONSTRUCCIÓN DE UN PROYECTO EDITORIAL (1995-2000): LA NAU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yecto editorial,  fruto del trabajo del CIDE, que abarca la mayor parte de los niveles de ESO y Bachillerato, y que incorpora, de forma decidida la visión de la historia a la perspectiva geográfica ini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oble objetivo: mantener la cohesión del grupo y resistir el retroceso contrarreformist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tegración en 1998 en Fedicaria, una federación de grupos de innovación educativa que se constituye en 1995. y cuenta con la revista Con-ciencia Social en 1997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5D5E-9A04-41CD-B37D-7C3EADCBB651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Picture 4" descr="gea 3"/>
          <p:cNvPicPr/>
          <p:nvPr/>
        </p:nvPicPr>
        <p:blipFill>
          <a:blip r:embed="rId1"/>
          <a:stretch/>
        </p:blipFill>
        <p:spPr>
          <a:xfrm>
            <a:off x="1357200" y="0"/>
            <a:ext cx="6858000" cy="6240600"/>
          </a:xfrm>
          <a:prstGeom prst="rect">
            <a:avLst/>
          </a:prstGeom>
          <a:ln w="0">
            <a:noFill/>
          </a:ln>
        </p:spPr>
      </p:pic>
      <p:sp>
        <p:nvSpPr>
          <p:cNvPr id="372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86BA-D19F-4381-9E12-5DE475EE4467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E253-2A6A-4C62-9426-A2D3F39568D1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gea 4"/>
          <p:cNvPicPr/>
          <p:nvPr/>
        </p:nvPicPr>
        <p:blipFill>
          <a:blip r:embed="rId1"/>
          <a:stretch/>
        </p:blipFill>
        <p:spPr>
          <a:xfrm>
            <a:off x="1500120" y="428760"/>
            <a:ext cx="66438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3 Marcador de número de diapositiva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E078-33A9-47C3-9B72-79942AF7AF47}" type="slidenum">
              <a:rPr b="1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gea5"/>
          <p:cNvPicPr/>
          <p:nvPr/>
        </p:nvPicPr>
        <p:blipFill>
          <a:blip r:embed="rId1"/>
          <a:stretch/>
        </p:blipFill>
        <p:spPr>
          <a:xfrm>
            <a:off x="3000240" y="285840"/>
            <a:ext cx="5429520" cy="5786280"/>
          </a:xfrm>
          <a:prstGeom prst="rect">
            <a:avLst/>
          </a:prstGeom>
          <a:ln w="0">
            <a:noFill/>
          </a:ln>
        </p:spPr>
      </p:pic>
      <p:sp>
        <p:nvSpPr>
          <p:cNvPr id="377" name="5 CuadroTexto"/>
          <p:cNvSpPr/>
          <p:nvPr/>
        </p:nvSpPr>
        <p:spPr>
          <a:xfrm>
            <a:off x="857160" y="1143000"/>
            <a:ext cx="1928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uias didac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ización cienti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rategias y recursos para el profe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mplos de los alum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9:32:09Z</dcterms:created>
  <dc:creator>Cristina</dc:creator>
  <dc:description/>
  <dc:language>en-US</dc:language>
  <cp:lastModifiedBy>Cristina</cp:lastModifiedBy>
  <dcterms:modified xsi:type="dcterms:W3CDTF">2009-05-05T22:28:38Z</dcterms:modified>
  <cp:revision>59</cp:revision>
  <dc:subject/>
  <dc:title>Diapositiva 1</dc:title>
</cp:coreProperties>
</file>